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5B496-8C7A-40B7-907D-DD4BD15BF2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E5B65-5387-450A-964E-5BB98E9E7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B53F9D-1C85-4B17-AF35-B8869C58CC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06E911-4D2C-416D-AA5F-8050C1A89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FE772E2-05F2-4C6D-9DE6-1D28C8308A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8C811F2-0BEF-4627-8122-A7FD3F1C23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941ADFA-46E0-4D4F-A83E-1B80356F6C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CAC4BC0-DC83-4CBC-8736-C35DDEB0EA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18B2ED0-1194-4652-A5C8-C145094BE4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39B0DD6-06DA-4F7E-BCCA-C6EED186E8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324E14B-8D1D-4A04-93E5-178E0B139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70107-B533-4ECE-9057-266FBFB0F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FBF15B6-4328-4C37-BB93-773EB2B93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7CAA857-287E-4C4E-BFFB-22F0EC36C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663405D-0E26-4796-8C71-F3127648A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44BA432-8816-409B-9ABA-6827FC86C8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CC9D8FB-3891-424D-BAAA-53B59B988B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9D7AF-A7A7-408A-B118-B27B32916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F31F0-70AE-4FE3-AE2C-876AAFEFD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69A63-969F-433F-BE5B-BA367DC23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7EB41-A3AD-468D-AF17-D5EB03BFE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95B94-A8DF-4D09-AB85-D7BF63042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2201C-ED2F-4FBA-9EF8-5E0F82253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9AACD-3708-4999-A530-0F1C35709C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2f4675"/>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fab"/>
              </a:gs>
              <a:gs pos="100000">
                <a:srgbClr val="6699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9b5b8"/>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eabae"/>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lick to edit the title text format</a:t>
            </a:r>
            <a:endParaRPr b="0" lang="en-US" sz="4400" spc="-1" strike="noStrike">
              <a:solidFill>
                <a:srgbClr val="b3ed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D0943-0509-4EE0-941C-415D8D5391C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2f4675"/>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fab"/>
              </a:gs>
              <a:gs pos="100000">
                <a:srgbClr val="6699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9b5b8"/>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eabae"/>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3edff"/>
                </a:solidFill>
                <a:latin typeface="Arial"/>
              </a:rPr>
              <a:t>Click to edit the title text format</a:t>
            </a:r>
            <a:endParaRPr b="0" lang="en-US" sz="5400" spc="-1" strike="noStrike">
              <a:solidFill>
                <a:srgbClr val="b3ed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ACF88-BA50-430F-96EC-4299F9D0925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b3ed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b3ed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Warm-up:</a:t>
            </a:r>
            <a:endParaRPr b="0" lang="en-US" sz="4400" spc="-1" strike="noStrike">
              <a:solidFill>
                <a:srgbClr val="b3edff"/>
              </a:solidFill>
              <a:latin typeface="Arial"/>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SA Review Day 2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3edff"/>
                </a:solidFill>
                <a:latin typeface="Arial"/>
              </a:rPr>
              <a:t>Unit 8: Statistics and Probability</a:t>
            </a:r>
            <a:endParaRPr b="0" lang="en-US" sz="5400" spc="-1" strike="noStrike">
              <a:solidFill>
                <a:srgbClr val="b3edff"/>
              </a:solidFill>
              <a:latin typeface="Arial"/>
            </a:endParaRPr>
          </a:p>
        </p:txBody>
      </p:sp>
      <p:sp>
        <p:nvSpPr>
          <p:cNvPr id="125"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jective: Students will read and interpret Circle Graph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124"/>
                                        </p:tgtEl>
                                        <p:attrNameLst>
                                          <p:attrName>style.visibility</p:attrName>
                                        </p:attrNameLst>
                                      </p:cBhvr>
                                      <p:to>
                                        <p:strVal val="visible"/>
                                      </p:to>
                                    </p:set>
                                    <p:anim calcmode="lin" valueType="num" from="(-#ppt_w/2)" to="(#ppt_x)">
                                      <p:cBhvr additive="repl">
                                        <p:cTn id="7" dur="600" fill="hold">
                                          <p:stCondLst>
                                            <p:cond delay="0"/>
                                          </p:stCondLst>
                                        </p:cTn>
                                        <p:tgtEl>
                                          <p:spTgt spid="124"/>
                                        </p:tgtEl>
                                        <p:attrNameLst>
                                          <p:attrName>ppt_x</p:attrName>
                                        </p:attrNameLst>
                                      </p:cBhvr>
                                    </p:anim>
                                    <p:anim calcmode="lin" valueType="num" from="0" to="-1">
                                      <p:cBhvr additive="repl">
                                        <p:cTn id="8" dur="200" autoRev="1" fill="hold">
                                          <p:stCondLst>
                                            <p:cond delay="600"/>
                                          </p:stCondLst>
                                        </p:cTn>
                                        <p:tgtEl>
                                          <p:spTgt spid="124"/>
                                        </p:tgtEl>
                                        <p:attrNameLst>
                                          <p:attrName>xshear</p:attrName>
                                        </p:attrNameLst>
                                      </p:cBhvr>
                                    </p:anim>
                                    <p:animScale>
                                      <p:cBhvr>
                                        <p:cTn id="9" dur="200" autoRev="1" fill="hold">
                                          <p:stCondLst>
                                            <p:cond delay="600"/>
                                          </p:stCondLst>
                                        </p:cTn>
                                        <p:tgtEl>
                                          <p:spTgt spid="124"/>
                                        </p:tgtEl>
                                      </p:cBhvr>
                                      <p:from x="100000" y="100000"/>
                                      <p:to x="80000" y="100000"/>
                                    </p:animScale>
                                    <p:anim calcmode="lin" valueType="num" by="(#ppt_h/3+#ppt_w*0.1)">
                                      <p:cBhvr additive="sum">
                                        <p:cTn id="10" dur="200" autoRev="1" fill="hold">
                                          <p:stCondLst>
                                            <p:cond delay="600"/>
                                          </p:stCondLst>
                                        </p:cTn>
                                        <p:tgtEl>
                                          <p:spTgt spid="124"/>
                                        </p:tgtEl>
                                        <p:attrNameLst>
                                          <p:attrName>ppt_x</p:attrName>
                                        </p:attrNameLst>
                                      </p:cBhvr>
                                    </p:anim>
                                  </p:childTnLst>
                                </p:cTn>
                              </p:par>
                              <p:par>
                                <p:cTn id="11" nodeType="withEffect" fill="hold" presetClass="entr" presetID="34">
                                  <p:stCondLst>
                                    <p:cond delay="0"/>
                                  </p:stCondLst>
                                  <p:childTnLst>
                                    <p:set>
                                      <p:cBhvr>
                                        <p:cTn id="12" dur="1" fill="hold">
                                          <p:stCondLst>
                                            <p:cond delay="0"/>
                                          </p:stCondLst>
                                        </p:cTn>
                                        <p:tgtEl>
                                          <p:spTgt spid="125">
                                            <p:txEl>
                                              <p:pRg st="0" end="0"/>
                                            </p:txEl>
                                          </p:spTgt>
                                        </p:tgtEl>
                                        <p:attrNameLst>
                                          <p:attrName>style.visibility</p:attrName>
                                        </p:attrNameLst>
                                      </p:cBhvr>
                                      <p:to>
                                        <p:strVal val="visible"/>
                                      </p:to>
                                    </p:set>
                                    <p:anim calcmode="lin" valueType="num" from="(-#ppt_w/2)" to="(#ppt_x)">
                                      <p:cBhvr additive="repl">
                                        <p:cTn id="13" dur="600" fill="hold">
                                          <p:stCondLst>
                                            <p:cond delay="0"/>
                                          </p:stCondLst>
                                        </p:cTn>
                                        <p:tgtEl>
                                          <p:spTgt spid="125">
                                            <p:txEl>
                                              <p:pRg st="0" end="0"/>
                                            </p:txEl>
                                          </p:spTgt>
                                        </p:tgtEl>
                                        <p:attrNameLst>
                                          <p:attrName>ppt_x</p:attrName>
                                        </p:attrNameLst>
                                      </p:cBhvr>
                                    </p:anim>
                                    <p:anim calcmode="lin" valueType="num" from="0" to="-1">
                                      <p:cBhvr additive="repl">
                                        <p:cTn id="14" dur="200" autoRev="1" fill="hold">
                                          <p:stCondLst>
                                            <p:cond delay="600"/>
                                          </p:stCondLst>
                                        </p:cTn>
                                        <p:tgtEl>
                                          <p:spTgt spid="125">
                                            <p:txEl>
                                              <p:pRg st="0" end="0"/>
                                            </p:txEl>
                                          </p:spTgt>
                                        </p:tgtEl>
                                        <p:attrNameLst>
                                          <p:attrName>xshear</p:attrName>
                                        </p:attrNameLst>
                                      </p:cBhvr>
                                    </p:anim>
                                    <p:animScale>
                                      <p:cBhvr>
                                        <p:cTn id="15" dur="200" autoRev="1" fill="hold">
                                          <p:stCondLst>
                                            <p:cond delay="600"/>
                                          </p:stCondLst>
                                        </p:cTn>
                                        <p:tgtEl>
                                          <p:spTgt spid="125">
                                            <p:txEl>
                                              <p:pRg st="0" end="0"/>
                                            </p:txEl>
                                          </p:spTgt>
                                        </p:tgtEl>
                                      </p:cBhvr>
                                      <p:from x="100000" y="100000"/>
                                      <p:to x="80000" y="100000"/>
                                    </p:animScale>
                                    <p:anim calcmode="lin" valueType="num" by="(#ppt_h/3+#ppt_w*0.1)">
                                      <p:cBhvr additive="sum">
                                        <p:cTn id="16" dur="200" autoRev="1" fill="hold">
                                          <p:stCondLst>
                                            <p:cond delay="600"/>
                                          </p:stCondLst>
                                        </p:cTn>
                                        <p:tgtEl>
                                          <p:spTgt spid="125">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edff"/>
                </a:solidFill>
                <a:latin typeface="Arial"/>
              </a:rPr>
              <a:t>Objective: Students will read and interpret Circle Graphs</a:t>
            </a:r>
            <a:endParaRPr b="0" lang="en-US" sz="2400" spc="-1" strike="noStrike">
              <a:solidFill>
                <a:srgbClr val="b3ed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cabular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rcle Graph -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ution</a:t>
            </a:r>
            <a:r>
              <a:rPr b="0" lang="en-US" sz="2800" spc="-1" strike="noStrike">
                <a:solidFill>
                  <a:srgbClr val="ffffff"/>
                </a:solidFill>
                <a:latin typeface="Arial"/>
              </a:rPr>
              <a:t>: Often times circle graphs are used to practice finding the percent of a number.  Make sure you answer the “right” questi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28" name=""/>
          <p:cNvSpPr/>
          <p:nvPr/>
        </p:nvSpPr>
        <p:spPr>
          <a:xfrm>
            <a:off x="4786200" y="2419200"/>
            <a:ext cx="1197000" cy="179640"/>
          </a:xfrm>
          <a:custGeom>
            <a:avLst/>
            <a:gdLst/>
            <a:ahLst/>
            <a:rect l="l" t="t" r="r" b="b"/>
            <a:pathLst>
              <a:path w="3325" h="497">
                <a:moveTo>
                  <a:pt x="13444" y="7094"/>
                </a:moveTo>
                <a:cubicBezTo>
                  <a:pt x="13464" y="7171"/>
                  <a:pt x="13456" y="7189"/>
                  <a:pt x="13494" y="7218"/>
                </a:cubicBezTo>
              </a:path>
              <a:path w="3325" h="497">
                <a:moveTo>
                  <a:pt x="13494" y="7218"/>
                </a:moveTo>
                <a:lnTo>
                  <a:pt x="13494" y="7218"/>
                </a:lnTo>
              </a:path>
              <a:path w="3325" h="497">
                <a:moveTo>
                  <a:pt x="13345" y="6896"/>
                </a:moveTo>
                <a:cubicBezTo>
                  <a:pt x="13300" y="6851"/>
                  <a:pt x="13276" y="6834"/>
                  <a:pt x="13345" y="6846"/>
                </a:cubicBezTo>
              </a:path>
              <a:path w="3325" h="497">
                <a:moveTo>
                  <a:pt x="16570" y="6896"/>
                </a:moveTo>
                <a:cubicBezTo>
                  <a:pt x="16591" y="6988"/>
                  <a:pt x="16610" y="7076"/>
                  <a:pt x="16619" y="7169"/>
                </a:cubicBezTo>
              </a:path>
              <a:path w="3325" h="497">
                <a:moveTo>
                  <a:pt x="16495" y="6747"/>
                </a:moveTo>
                <a:cubicBezTo>
                  <a:pt x="16503" y="6739"/>
                  <a:pt x="16512" y="6730"/>
                  <a:pt x="16520" y="6722"/>
                </a:cubicBezTo>
              </a:path>
              <a:path w="3325" h="497">
                <a:moveTo>
                  <a:pt x="16520" y="6722"/>
                </a:moveTo>
                <a:lnTo>
                  <a:pt x="16520" y="6722"/>
                </a:ln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56040" y="2446200"/>
            <a:ext cx="1973160" cy="482760"/>
          </a:xfrm>
          <a:custGeom>
            <a:avLst/>
            <a:gdLst/>
            <a:ahLst/>
            <a:rect l="l" t="t" r="r" b="b"/>
            <a:pathLst>
              <a:path w="5483" h="1341">
                <a:moveTo>
                  <a:pt x="10988" y="7962"/>
                </a:moveTo>
                <a:cubicBezTo>
                  <a:pt x="11002" y="7923"/>
                  <a:pt x="11112" y="7866"/>
                  <a:pt x="11162" y="7838"/>
                </a:cubicBezTo>
                <a:cubicBezTo>
                  <a:pt x="11222" y="7804"/>
                  <a:pt x="11299" y="7760"/>
                  <a:pt x="11361" y="7739"/>
                </a:cubicBezTo>
              </a:path>
              <a:path w="5483" h="1341">
                <a:moveTo>
                  <a:pt x="11559" y="7243"/>
                </a:moveTo>
                <a:cubicBezTo>
                  <a:pt x="11566" y="7265"/>
                  <a:pt x="11588" y="7297"/>
                  <a:pt x="11534" y="7268"/>
                </a:cubicBezTo>
                <a:cubicBezTo>
                  <a:pt x="11471" y="7225"/>
                  <a:pt x="11459" y="7209"/>
                  <a:pt x="11410" y="7218"/>
                </a:cubicBezTo>
                <a:cubicBezTo>
                  <a:pt x="11366" y="7273"/>
                  <a:pt x="11347" y="7317"/>
                  <a:pt x="11361" y="7392"/>
                </a:cubicBezTo>
                <a:cubicBezTo>
                  <a:pt x="11394" y="7568"/>
                  <a:pt x="11461" y="7607"/>
                  <a:pt x="11633" y="7565"/>
                </a:cubicBezTo>
                <a:cubicBezTo>
                  <a:pt x="11760" y="7534"/>
                  <a:pt x="11695" y="7430"/>
                  <a:pt x="11658" y="7367"/>
                </a:cubicBezTo>
                <a:cubicBezTo>
                  <a:pt x="11633" y="7317"/>
                  <a:pt x="11625" y="7301"/>
                  <a:pt x="11584" y="7293"/>
                </a:cubicBezTo>
                <a:cubicBezTo>
                  <a:pt x="11604" y="7396"/>
                  <a:pt x="11791" y="7595"/>
                  <a:pt x="11782" y="7789"/>
                </a:cubicBezTo>
                <a:cubicBezTo>
                  <a:pt x="11775" y="7941"/>
                  <a:pt x="11643" y="8246"/>
                  <a:pt x="11559" y="8037"/>
                </a:cubicBezTo>
              </a:path>
              <a:path w="5483" h="1341">
                <a:moveTo>
                  <a:pt x="11733" y="7293"/>
                </a:moveTo>
                <a:cubicBezTo>
                  <a:pt x="11793" y="7366"/>
                  <a:pt x="11846" y="7442"/>
                  <a:pt x="11906" y="7516"/>
                </a:cubicBezTo>
                <a:cubicBezTo>
                  <a:pt x="11872" y="7414"/>
                  <a:pt x="11823" y="7314"/>
                  <a:pt x="11931" y="7218"/>
                </a:cubicBezTo>
                <a:cubicBezTo>
                  <a:pt x="12042" y="7163"/>
                  <a:pt x="12087" y="7147"/>
                  <a:pt x="12179" y="7169"/>
                </a:cubicBezTo>
              </a:path>
              <a:path w="5483" h="1341">
                <a:moveTo>
                  <a:pt x="12402" y="7243"/>
                </a:moveTo>
                <a:cubicBezTo>
                  <a:pt x="12348" y="7106"/>
                  <a:pt x="12235" y="7190"/>
                  <a:pt x="12179" y="7293"/>
                </a:cubicBezTo>
                <a:cubicBezTo>
                  <a:pt x="12171" y="7326"/>
                  <a:pt x="12162" y="7359"/>
                  <a:pt x="12154" y="7392"/>
                </a:cubicBezTo>
                <a:cubicBezTo>
                  <a:pt x="12317" y="7482"/>
                  <a:pt x="12275" y="7359"/>
                  <a:pt x="12353" y="7243"/>
                </a:cubicBezTo>
                <a:cubicBezTo>
                  <a:pt x="12362" y="7230"/>
                  <a:pt x="12551" y="7421"/>
                  <a:pt x="12626" y="7367"/>
                </a:cubicBezTo>
                <a:cubicBezTo>
                  <a:pt x="12653" y="7285"/>
                  <a:pt x="12663" y="7252"/>
                  <a:pt x="12675" y="7193"/>
                </a:cubicBezTo>
                <a:cubicBezTo>
                  <a:pt x="12699" y="7265"/>
                  <a:pt x="12764" y="7414"/>
                  <a:pt x="12799" y="7516"/>
                </a:cubicBezTo>
                <a:cubicBezTo>
                  <a:pt x="12819" y="7556"/>
                  <a:pt x="12838" y="7572"/>
                  <a:pt x="12799" y="7565"/>
                </a:cubicBezTo>
                <a:cubicBezTo>
                  <a:pt x="12740" y="7434"/>
                  <a:pt x="12593" y="7126"/>
                  <a:pt x="12799" y="7020"/>
                </a:cubicBezTo>
                <a:cubicBezTo>
                  <a:pt x="12824" y="7028"/>
                  <a:pt x="12849" y="7037"/>
                  <a:pt x="12874" y="7045"/>
                </a:cubicBezTo>
                <a:cubicBezTo>
                  <a:pt x="12873" y="7238"/>
                  <a:pt x="12858" y="7356"/>
                  <a:pt x="12650" y="7293"/>
                </a:cubicBezTo>
              </a:path>
              <a:path w="5483" h="1341">
                <a:moveTo>
                  <a:pt x="12898" y="6796"/>
                </a:moveTo>
                <a:cubicBezTo>
                  <a:pt x="12956" y="6959"/>
                  <a:pt x="13020" y="7113"/>
                  <a:pt x="13097" y="7268"/>
                </a:cubicBezTo>
                <a:cubicBezTo>
                  <a:pt x="13097" y="7206"/>
                  <a:pt x="13059" y="6999"/>
                  <a:pt x="13171" y="7020"/>
                </a:cubicBezTo>
                <a:cubicBezTo>
                  <a:pt x="13317" y="7047"/>
                  <a:pt x="13391" y="7165"/>
                  <a:pt x="13419" y="7293"/>
                </a:cubicBezTo>
              </a:path>
              <a:path w="5483" h="1341">
                <a:moveTo>
                  <a:pt x="13791" y="6945"/>
                </a:moveTo>
                <a:cubicBezTo>
                  <a:pt x="13763" y="6861"/>
                  <a:pt x="13650" y="7007"/>
                  <a:pt x="13667" y="7069"/>
                </a:cubicBezTo>
                <a:cubicBezTo>
                  <a:pt x="13740" y="7342"/>
                  <a:pt x="13997" y="7098"/>
                  <a:pt x="14089" y="7020"/>
                </a:cubicBezTo>
              </a:path>
              <a:path w="5483" h="1341">
                <a:moveTo>
                  <a:pt x="14635" y="6871"/>
                </a:moveTo>
                <a:cubicBezTo>
                  <a:pt x="14542" y="7031"/>
                  <a:pt x="14524" y="7069"/>
                  <a:pt x="14560" y="7243"/>
                </a:cubicBezTo>
                <a:cubicBezTo>
                  <a:pt x="14693" y="7243"/>
                  <a:pt x="14956" y="7156"/>
                  <a:pt x="14808" y="6945"/>
                </a:cubicBezTo>
                <a:cubicBezTo>
                  <a:pt x="14720" y="6901"/>
                  <a:pt x="14699" y="6885"/>
                  <a:pt x="14635" y="6896"/>
                </a:cubicBezTo>
              </a:path>
              <a:path w="5483" h="1341">
                <a:moveTo>
                  <a:pt x="15007" y="7144"/>
                </a:moveTo>
                <a:cubicBezTo>
                  <a:pt x="15042" y="7132"/>
                  <a:pt x="15041" y="6921"/>
                  <a:pt x="15156" y="6846"/>
                </a:cubicBezTo>
                <a:cubicBezTo>
                  <a:pt x="15189" y="6838"/>
                  <a:pt x="15222" y="6829"/>
                  <a:pt x="15255" y="6821"/>
                </a:cubicBezTo>
              </a:path>
              <a:path w="5483" h="1341">
                <a:moveTo>
                  <a:pt x="15528" y="6945"/>
                </a:moveTo>
                <a:cubicBezTo>
                  <a:pt x="15505" y="6878"/>
                  <a:pt x="15482" y="6861"/>
                  <a:pt x="15429" y="6821"/>
                </a:cubicBezTo>
                <a:cubicBezTo>
                  <a:pt x="15398" y="6883"/>
                  <a:pt x="15279" y="7288"/>
                  <a:pt x="15503" y="7144"/>
                </a:cubicBezTo>
                <a:cubicBezTo>
                  <a:pt x="15564" y="7053"/>
                  <a:pt x="15580" y="7009"/>
                  <a:pt x="15553" y="6921"/>
                </a:cubicBezTo>
                <a:cubicBezTo>
                  <a:pt x="15609" y="6996"/>
                  <a:pt x="15637" y="7225"/>
                  <a:pt x="15627" y="7317"/>
                </a:cubicBezTo>
                <a:cubicBezTo>
                  <a:pt x="15611" y="7468"/>
                  <a:pt x="15244" y="7702"/>
                  <a:pt x="15180" y="7491"/>
                </a:cubicBezTo>
                <a:cubicBezTo>
                  <a:pt x="15197" y="7441"/>
                  <a:pt x="15213" y="7392"/>
                  <a:pt x="15230" y="7342"/>
                </a:cubicBezTo>
              </a:path>
              <a:path w="5483" h="1341">
                <a:moveTo>
                  <a:pt x="15850" y="6970"/>
                </a:moveTo>
                <a:cubicBezTo>
                  <a:pt x="15799" y="6912"/>
                  <a:pt x="15751" y="6883"/>
                  <a:pt x="15677" y="6846"/>
                </a:cubicBezTo>
                <a:cubicBezTo>
                  <a:pt x="15660" y="6937"/>
                  <a:pt x="15593" y="7308"/>
                  <a:pt x="15825" y="7193"/>
                </a:cubicBezTo>
                <a:cubicBezTo>
                  <a:pt x="15907" y="7152"/>
                  <a:pt x="15900" y="6987"/>
                  <a:pt x="15900" y="7020"/>
                </a:cubicBezTo>
                <a:cubicBezTo>
                  <a:pt x="16002" y="7122"/>
                  <a:pt x="16009" y="7173"/>
                  <a:pt x="16123" y="7069"/>
                </a:cubicBezTo>
                <a:cubicBezTo>
                  <a:pt x="16181" y="7017"/>
                  <a:pt x="16190" y="7148"/>
                  <a:pt x="16197" y="7193"/>
                </a:cubicBezTo>
                <a:cubicBezTo>
                  <a:pt x="16180" y="7092"/>
                  <a:pt x="16174" y="7041"/>
                  <a:pt x="16222" y="6945"/>
                </a:cubicBezTo>
                <a:cubicBezTo>
                  <a:pt x="16366" y="6946"/>
                  <a:pt x="16483" y="7014"/>
                  <a:pt x="16470" y="7193"/>
                </a:cubicBezTo>
                <a:cubicBezTo>
                  <a:pt x="16462" y="7210"/>
                  <a:pt x="16454" y="7226"/>
                  <a:pt x="16446" y="7243"/>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6089760" y="2446200"/>
            <a:ext cx="482400" cy="142920"/>
          </a:xfrm>
          <a:custGeom>
            <a:avLst/>
            <a:gdLst/>
            <a:ahLst/>
            <a:rect l="l" t="t" r="r" b="b"/>
            <a:pathLst>
              <a:path w="1340" h="398">
                <a:moveTo>
                  <a:pt x="16917" y="6821"/>
                </a:moveTo>
                <a:cubicBezTo>
                  <a:pt x="16977" y="6811"/>
                  <a:pt x="17028" y="6801"/>
                  <a:pt x="17090" y="6796"/>
                </a:cubicBezTo>
                <a:cubicBezTo>
                  <a:pt x="17090" y="6921"/>
                  <a:pt x="17077" y="7043"/>
                  <a:pt x="16991" y="7144"/>
                </a:cubicBezTo>
                <a:cubicBezTo>
                  <a:pt x="16975" y="7152"/>
                  <a:pt x="16958" y="7161"/>
                  <a:pt x="16942" y="7169"/>
                </a:cubicBezTo>
                <a:cubicBezTo>
                  <a:pt x="17049" y="7214"/>
                  <a:pt x="17150" y="7177"/>
                  <a:pt x="17264" y="7144"/>
                </a:cubicBezTo>
              </a:path>
              <a:path w="1340" h="398">
                <a:moveTo>
                  <a:pt x="17413" y="6970"/>
                </a:moveTo>
                <a:cubicBezTo>
                  <a:pt x="17489" y="6944"/>
                  <a:pt x="17557" y="6967"/>
                  <a:pt x="17611" y="6945"/>
                </a:cubicBezTo>
                <a:cubicBezTo>
                  <a:pt x="17506" y="6858"/>
                  <a:pt x="17418" y="6834"/>
                  <a:pt x="17413" y="7020"/>
                </a:cubicBezTo>
                <a:cubicBezTo>
                  <a:pt x="17407" y="7233"/>
                  <a:pt x="17617" y="7225"/>
                  <a:pt x="17735" y="7119"/>
                </a:cubicBezTo>
                <a:cubicBezTo>
                  <a:pt x="17871" y="6996"/>
                  <a:pt x="17793" y="6992"/>
                  <a:pt x="17835" y="7069"/>
                </a:cubicBezTo>
                <a:cubicBezTo>
                  <a:pt x="17843" y="7077"/>
                  <a:pt x="17851" y="7086"/>
                  <a:pt x="17859" y="7094"/>
                </a:cubicBezTo>
                <a:cubicBezTo>
                  <a:pt x="17876" y="6962"/>
                  <a:pt x="17926" y="6821"/>
                  <a:pt x="18083" y="6796"/>
                </a:cubicBezTo>
                <a:cubicBezTo>
                  <a:pt x="18165" y="6824"/>
                  <a:pt x="18197" y="6834"/>
                  <a:pt x="18256" y="6846"/>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5446800" y="2820960"/>
            <a:ext cx="1357200" cy="216000"/>
          </a:xfrm>
          <a:custGeom>
            <a:avLst/>
            <a:gdLst/>
            <a:ahLst/>
            <a:rect l="l" t="t" r="r" b="b"/>
            <a:pathLst>
              <a:path w="3771" h="597">
                <a:moveTo>
                  <a:pt x="15131" y="7863"/>
                </a:moveTo>
                <a:cubicBezTo>
                  <a:pt x="15131" y="7809"/>
                  <a:pt x="15157" y="7814"/>
                  <a:pt x="15230" y="7888"/>
                </a:cubicBezTo>
              </a:path>
              <a:path w="3771" h="597">
                <a:moveTo>
                  <a:pt x="15230" y="7888"/>
                </a:moveTo>
                <a:lnTo>
                  <a:pt x="15230" y="7888"/>
                </a:lnTo>
              </a:path>
              <a:path w="3771" h="597">
                <a:moveTo>
                  <a:pt x="18901" y="8186"/>
                </a:moveTo>
                <a:cubicBezTo>
                  <a:pt x="18880" y="8282"/>
                  <a:pt x="18875" y="8339"/>
                  <a:pt x="18901" y="8434"/>
                </a:cubicBezTo>
              </a:path>
              <a:path w="3771" h="597">
                <a:moveTo>
                  <a:pt x="18901" y="7888"/>
                </a:moveTo>
                <a:lnTo>
                  <a:pt x="18901" y="7888"/>
                </a:lnTo>
                <a:lnTo>
                  <a:pt x="18901" y="7888"/>
                </a:lnTo>
              </a:path>
              <a:path w="3771" h="597">
                <a:moveTo>
                  <a:pt x="18901" y="7888"/>
                </a:moveTo>
                <a:lnTo>
                  <a:pt x="18901" y="7888"/>
                </a:ln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847960" y="2705040"/>
            <a:ext cx="1100160" cy="519120"/>
          </a:xfrm>
          <a:custGeom>
            <a:avLst/>
            <a:gdLst/>
            <a:ahLst/>
            <a:rect l="l" t="t" r="r" b="b"/>
            <a:pathLst>
              <a:path w="3052" h="1439">
                <a:moveTo>
                  <a:pt x="8756" y="7813"/>
                </a:moveTo>
                <a:cubicBezTo>
                  <a:pt x="8775" y="7776"/>
                  <a:pt x="8799" y="7717"/>
                  <a:pt x="8756" y="7640"/>
                </a:cubicBezTo>
                <a:cubicBezTo>
                  <a:pt x="8601" y="7364"/>
                  <a:pt x="8337" y="7633"/>
                  <a:pt x="8210" y="7789"/>
                </a:cubicBezTo>
                <a:cubicBezTo>
                  <a:pt x="7965" y="8089"/>
                  <a:pt x="7919" y="8202"/>
                  <a:pt x="7987" y="8533"/>
                </a:cubicBezTo>
                <a:cubicBezTo>
                  <a:pt x="8179" y="8604"/>
                  <a:pt x="8556" y="8667"/>
                  <a:pt x="8682" y="8384"/>
                </a:cubicBezTo>
                <a:cubicBezTo>
                  <a:pt x="8674" y="8351"/>
                  <a:pt x="8665" y="8318"/>
                  <a:pt x="8657" y="8285"/>
                </a:cubicBezTo>
                <a:cubicBezTo>
                  <a:pt x="8446" y="8221"/>
                  <a:pt x="8333" y="8229"/>
                  <a:pt x="8136" y="8334"/>
                </a:cubicBezTo>
              </a:path>
              <a:path w="3052" h="1439">
                <a:moveTo>
                  <a:pt x="8806" y="8260"/>
                </a:moveTo>
                <a:cubicBezTo>
                  <a:pt x="8823" y="8357"/>
                  <a:pt x="8856" y="8423"/>
                  <a:pt x="8905" y="8508"/>
                </a:cubicBezTo>
                <a:cubicBezTo>
                  <a:pt x="8890" y="8361"/>
                  <a:pt x="8859" y="8181"/>
                  <a:pt x="9054" y="8136"/>
                </a:cubicBezTo>
                <a:cubicBezTo>
                  <a:pt x="9095" y="8136"/>
                  <a:pt x="9137" y="8136"/>
                  <a:pt x="9178" y="8136"/>
                </a:cubicBezTo>
              </a:path>
              <a:path w="3052" h="1439">
                <a:moveTo>
                  <a:pt x="9550" y="8334"/>
                </a:moveTo>
                <a:cubicBezTo>
                  <a:pt x="9541" y="8274"/>
                  <a:pt x="9546" y="8132"/>
                  <a:pt x="9426" y="8161"/>
                </a:cubicBezTo>
                <a:cubicBezTo>
                  <a:pt x="9227" y="8209"/>
                  <a:pt x="9189" y="8348"/>
                  <a:pt x="9128" y="8508"/>
                </a:cubicBezTo>
                <a:cubicBezTo>
                  <a:pt x="9328" y="8553"/>
                  <a:pt x="9398" y="8525"/>
                  <a:pt x="9500" y="8334"/>
                </a:cubicBezTo>
                <a:cubicBezTo>
                  <a:pt x="9536" y="8434"/>
                  <a:pt x="9576" y="8525"/>
                  <a:pt x="9699" y="8558"/>
                </a:cubicBezTo>
                <a:cubicBezTo>
                  <a:pt x="9800" y="8585"/>
                  <a:pt x="9976" y="8387"/>
                  <a:pt x="9872" y="8384"/>
                </a:cubicBezTo>
                <a:cubicBezTo>
                  <a:pt x="9817" y="8383"/>
                  <a:pt x="9915" y="8885"/>
                  <a:pt x="9922" y="8930"/>
                </a:cubicBezTo>
                <a:cubicBezTo>
                  <a:pt x="9882" y="8810"/>
                  <a:pt x="9850" y="8734"/>
                  <a:pt x="9847" y="8607"/>
                </a:cubicBezTo>
                <a:cubicBezTo>
                  <a:pt x="9840" y="8318"/>
                  <a:pt x="9899" y="8261"/>
                  <a:pt x="10096" y="8111"/>
                </a:cubicBezTo>
                <a:cubicBezTo>
                  <a:pt x="10284" y="8270"/>
                  <a:pt x="10360" y="8512"/>
                  <a:pt x="9996" y="8558"/>
                </a:cubicBezTo>
                <a:cubicBezTo>
                  <a:pt x="9860" y="8535"/>
                  <a:pt x="9817" y="8539"/>
                  <a:pt x="9798" y="8434"/>
                </a:cubicBezTo>
              </a:path>
              <a:path w="3052" h="1439">
                <a:moveTo>
                  <a:pt x="10592" y="7789"/>
                </a:moveTo>
                <a:cubicBezTo>
                  <a:pt x="10578" y="8003"/>
                  <a:pt x="10602" y="8196"/>
                  <a:pt x="10616" y="8409"/>
                </a:cubicBezTo>
                <a:cubicBezTo>
                  <a:pt x="10616" y="8320"/>
                  <a:pt x="10608" y="8150"/>
                  <a:pt x="10691" y="8086"/>
                </a:cubicBezTo>
                <a:cubicBezTo>
                  <a:pt x="10909" y="7917"/>
                  <a:pt x="10935" y="8350"/>
                  <a:pt x="10939" y="8434"/>
                </a:cubicBezTo>
                <a:cubicBezTo>
                  <a:pt x="10939" y="8495"/>
                  <a:pt x="10930" y="8511"/>
                  <a:pt x="10964" y="8533"/>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4357800" y="2759040"/>
            <a:ext cx="1330200" cy="312840"/>
          </a:xfrm>
          <a:custGeom>
            <a:avLst/>
            <a:gdLst/>
            <a:ahLst/>
            <a:rect l="l" t="t" r="r" b="b"/>
            <a:pathLst>
              <a:path w="3697" h="869">
                <a:moveTo>
                  <a:pt x="12278" y="7714"/>
                </a:moveTo>
                <a:cubicBezTo>
                  <a:pt x="12343" y="7964"/>
                  <a:pt x="12393" y="8200"/>
                  <a:pt x="12402" y="8458"/>
                </a:cubicBezTo>
                <a:cubicBezTo>
                  <a:pt x="12402" y="8483"/>
                  <a:pt x="12402" y="8491"/>
                  <a:pt x="12402" y="8458"/>
                </a:cubicBezTo>
              </a:path>
              <a:path w="3697" h="869">
                <a:moveTo>
                  <a:pt x="12105" y="8161"/>
                </a:moveTo>
                <a:cubicBezTo>
                  <a:pt x="12352" y="8171"/>
                  <a:pt x="12828" y="8305"/>
                  <a:pt x="12849" y="7938"/>
                </a:cubicBezTo>
                <a:cubicBezTo>
                  <a:pt x="12841" y="7888"/>
                  <a:pt x="12832" y="7839"/>
                  <a:pt x="12824" y="7789"/>
                </a:cubicBezTo>
                <a:cubicBezTo>
                  <a:pt x="12735" y="7758"/>
                  <a:pt x="12819" y="8199"/>
                  <a:pt x="12824" y="8285"/>
                </a:cubicBezTo>
                <a:cubicBezTo>
                  <a:pt x="12824" y="8318"/>
                  <a:pt x="12824" y="8351"/>
                  <a:pt x="12824" y="8384"/>
                </a:cubicBezTo>
                <a:cubicBezTo>
                  <a:pt x="12838" y="8279"/>
                  <a:pt x="12839" y="8102"/>
                  <a:pt x="12973" y="8062"/>
                </a:cubicBezTo>
                <a:cubicBezTo>
                  <a:pt x="13233" y="7984"/>
                  <a:pt x="13262" y="8333"/>
                  <a:pt x="13271" y="8483"/>
                </a:cubicBezTo>
                <a:cubicBezTo>
                  <a:pt x="13271" y="8541"/>
                  <a:pt x="13279" y="8558"/>
                  <a:pt x="13345" y="8533"/>
                </a:cubicBezTo>
              </a:path>
              <a:path w="3697" h="869">
                <a:moveTo>
                  <a:pt x="13692" y="8186"/>
                </a:moveTo>
                <a:cubicBezTo>
                  <a:pt x="13537" y="8130"/>
                  <a:pt x="13341" y="8153"/>
                  <a:pt x="13370" y="8384"/>
                </a:cubicBezTo>
                <a:cubicBezTo>
                  <a:pt x="13405" y="8662"/>
                  <a:pt x="13586" y="8370"/>
                  <a:pt x="13618" y="8285"/>
                </a:cubicBezTo>
                <a:cubicBezTo>
                  <a:pt x="13665" y="8356"/>
                  <a:pt x="13715" y="8515"/>
                  <a:pt x="13841" y="8483"/>
                </a:cubicBezTo>
                <a:cubicBezTo>
                  <a:pt x="13964" y="8391"/>
                  <a:pt x="14007" y="8339"/>
                  <a:pt x="14015" y="8210"/>
                </a:cubicBezTo>
              </a:path>
              <a:path w="3697" h="869">
                <a:moveTo>
                  <a:pt x="14015" y="7665"/>
                </a:moveTo>
                <a:cubicBezTo>
                  <a:pt x="14028" y="7926"/>
                  <a:pt x="14051" y="8180"/>
                  <a:pt x="14114" y="8434"/>
                </a:cubicBezTo>
                <a:cubicBezTo>
                  <a:pt x="14122" y="8459"/>
                  <a:pt x="14131" y="8483"/>
                  <a:pt x="14139" y="8508"/>
                </a:cubicBezTo>
              </a:path>
              <a:path w="3697" h="869">
                <a:moveTo>
                  <a:pt x="13791" y="8086"/>
                </a:moveTo>
                <a:cubicBezTo>
                  <a:pt x="14076" y="8123"/>
                  <a:pt x="14373" y="8102"/>
                  <a:pt x="14660" y="8136"/>
                </a:cubicBezTo>
                <a:cubicBezTo>
                  <a:pt x="14685" y="8144"/>
                  <a:pt x="14709" y="8153"/>
                  <a:pt x="14734" y="8161"/>
                </a:cubicBezTo>
              </a:path>
              <a:path w="3697" h="869">
                <a:moveTo>
                  <a:pt x="15230" y="8062"/>
                </a:moveTo>
                <a:cubicBezTo>
                  <a:pt x="15214" y="8154"/>
                  <a:pt x="15180" y="8424"/>
                  <a:pt x="15180" y="8434"/>
                </a:cubicBezTo>
              </a:path>
              <a:path w="3697" h="869">
                <a:moveTo>
                  <a:pt x="15677" y="8086"/>
                </a:moveTo>
                <a:cubicBezTo>
                  <a:pt x="15586" y="8095"/>
                  <a:pt x="15550" y="8110"/>
                  <a:pt x="15478" y="8161"/>
                </a:cubicBezTo>
                <a:cubicBezTo>
                  <a:pt x="15590" y="8235"/>
                  <a:pt x="15697" y="8302"/>
                  <a:pt x="15801" y="8384"/>
                </a:cubicBezTo>
                <a:cubicBezTo>
                  <a:pt x="15655" y="8530"/>
                  <a:pt x="15527" y="8580"/>
                  <a:pt x="15528" y="838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6010200" y="2928960"/>
            <a:ext cx="258840" cy="142920"/>
          </a:xfrm>
          <a:custGeom>
            <a:avLst/>
            <a:gdLst/>
            <a:ahLst/>
            <a:rect l="l" t="t" r="r" b="b"/>
            <a:pathLst>
              <a:path w="720" h="398">
                <a:moveTo>
                  <a:pt x="17165" y="8310"/>
                </a:moveTo>
                <a:cubicBezTo>
                  <a:pt x="17079" y="8181"/>
                  <a:pt x="16978" y="8083"/>
                  <a:pt x="16818" y="8186"/>
                </a:cubicBezTo>
                <a:cubicBezTo>
                  <a:pt x="16706" y="8298"/>
                  <a:pt x="16665" y="8322"/>
                  <a:pt x="16694" y="8434"/>
                </a:cubicBezTo>
                <a:cubicBezTo>
                  <a:pt x="16904" y="8495"/>
                  <a:pt x="16917" y="8447"/>
                  <a:pt x="17066" y="8285"/>
                </a:cubicBezTo>
                <a:cubicBezTo>
                  <a:pt x="17147" y="8503"/>
                  <a:pt x="17211" y="8500"/>
                  <a:pt x="17413" y="850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6545160" y="2714760"/>
            <a:ext cx="1098720" cy="312480"/>
          </a:xfrm>
          <a:custGeom>
            <a:avLst/>
            <a:gdLst/>
            <a:ahLst/>
            <a:rect l="l" t="t" r="r" b="b"/>
            <a:pathLst>
              <a:path w="3052" h="869">
                <a:moveTo>
                  <a:pt x="18405" y="8037"/>
                </a:moveTo>
                <a:cubicBezTo>
                  <a:pt x="18446" y="8057"/>
                  <a:pt x="18319" y="7948"/>
                  <a:pt x="18231" y="8086"/>
                </a:cubicBezTo>
                <a:cubicBezTo>
                  <a:pt x="18068" y="8341"/>
                  <a:pt x="18364" y="8470"/>
                  <a:pt x="18579" y="8409"/>
                </a:cubicBezTo>
                <a:cubicBezTo>
                  <a:pt x="18637" y="8376"/>
                  <a:pt x="18694" y="8343"/>
                  <a:pt x="18752" y="8310"/>
                </a:cubicBezTo>
              </a:path>
              <a:path w="3052" h="869">
                <a:moveTo>
                  <a:pt x="19224" y="8210"/>
                </a:moveTo>
                <a:cubicBezTo>
                  <a:pt x="19242" y="8304"/>
                  <a:pt x="19229" y="8324"/>
                  <a:pt x="19273" y="8359"/>
                </a:cubicBezTo>
                <a:cubicBezTo>
                  <a:pt x="19273" y="8229"/>
                  <a:pt x="19304" y="8150"/>
                  <a:pt x="19372" y="8037"/>
                </a:cubicBezTo>
                <a:cubicBezTo>
                  <a:pt x="19414" y="7966"/>
                  <a:pt x="19541" y="8027"/>
                  <a:pt x="19596" y="8037"/>
                </a:cubicBezTo>
              </a:path>
              <a:path w="3052" h="869">
                <a:moveTo>
                  <a:pt x="20042" y="7987"/>
                </a:moveTo>
                <a:cubicBezTo>
                  <a:pt x="20112" y="8034"/>
                  <a:pt x="20038" y="7933"/>
                  <a:pt x="20017" y="7888"/>
                </a:cubicBezTo>
                <a:cubicBezTo>
                  <a:pt x="19854" y="7943"/>
                  <a:pt x="19749" y="8116"/>
                  <a:pt x="19893" y="8285"/>
                </a:cubicBezTo>
                <a:cubicBezTo>
                  <a:pt x="20005" y="8340"/>
                  <a:pt x="20051" y="8354"/>
                  <a:pt x="20141" y="8310"/>
                </a:cubicBezTo>
              </a:path>
              <a:path w="3052" h="869">
                <a:moveTo>
                  <a:pt x="20489" y="7541"/>
                </a:moveTo>
                <a:cubicBezTo>
                  <a:pt x="20478" y="7779"/>
                  <a:pt x="20472" y="7998"/>
                  <a:pt x="20489" y="8235"/>
                </a:cubicBezTo>
                <a:cubicBezTo>
                  <a:pt x="20496" y="8334"/>
                  <a:pt x="20458" y="8367"/>
                  <a:pt x="20538" y="8260"/>
                </a:cubicBezTo>
              </a:path>
              <a:path w="3052" h="869">
                <a:moveTo>
                  <a:pt x="20886" y="7987"/>
                </a:moveTo>
                <a:cubicBezTo>
                  <a:pt x="20937" y="7990"/>
                  <a:pt x="21148" y="8047"/>
                  <a:pt x="21183" y="8012"/>
                </a:cubicBezTo>
                <a:cubicBezTo>
                  <a:pt x="21183" y="8004"/>
                  <a:pt x="21183" y="7995"/>
                  <a:pt x="21183" y="7987"/>
                </a:cubicBezTo>
                <a:cubicBezTo>
                  <a:pt x="21147" y="7897"/>
                  <a:pt x="21005" y="7841"/>
                  <a:pt x="20910" y="7913"/>
                </a:cubicBezTo>
                <a:cubicBezTo>
                  <a:pt x="20756" y="8030"/>
                  <a:pt x="20898" y="8225"/>
                  <a:pt x="21034" y="8260"/>
                </a:cubicBezTo>
                <a:cubicBezTo>
                  <a:pt x="21087" y="8274"/>
                  <a:pt x="21176" y="8260"/>
                  <a:pt x="21233" y="8260"/>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928800" y="3152880"/>
            <a:ext cx="1160280" cy="231840"/>
          </a:xfrm>
          <a:custGeom>
            <a:avLst/>
            <a:gdLst/>
            <a:ahLst/>
            <a:rect l="l" t="t" r="r" b="b"/>
            <a:pathLst>
              <a:path w="3225" h="646">
                <a:moveTo>
                  <a:pt x="3001" y="8855"/>
                </a:moveTo>
                <a:cubicBezTo>
                  <a:pt x="3067" y="8855"/>
                  <a:pt x="2917" y="8841"/>
                  <a:pt x="2853" y="8855"/>
                </a:cubicBezTo>
                <a:cubicBezTo>
                  <a:pt x="2708" y="8887"/>
                  <a:pt x="2678" y="8930"/>
                  <a:pt x="2580" y="9029"/>
                </a:cubicBezTo>
                <a:cubicBezTo>
                  <a:pt x="2764" y="9107"/>
                  <a:pt x="2947" y="9122"/>
                  <a:pt x="3076" y="9277"/>
                </a:cubicBezTo>
                <a:cubicBezTo>
                  <a:pt x="3084" y="9294"/>
                  <a:pt x="3093" y="9310"/>
                  <a:pt x="3101" y="9327"/>
                </a:cubicBezTo>
                <a:cubicBezTo>
                  <a:pt x="3060" y="9343"/>
                  <a:pt x="2629" y="9480"/>
                  <a:pt x="2629" y="9376"/>
                </a:cubicBezTo>
                <a:cubicBezTo>
                  <a:pt x="2654" y="9360"/>
                  <a:pt x="2679" y="9343"/>
                  <a:pt x="2704" y="9327"/>
                </a:cubicBezTo>
              </a:path>
              <a:path w="3225" h="646">
                <a:moveTo>
                  <a:pt x="3448" y="8954"/>
                </a:moveTo>
                <a:cubicBezTo>
                  <a:pt x="3389" y="8925"/>
                  <a:pt x="3367" y="8841"/>
                  <a:pt x="3324" y="8781"/>
                </a:cubicBezTo>
                <a:cubicBezTo>
                  <a:pt x="3316" y="8773"/>
                  <a:pt x="3307" y="8764"/>
                  <a:pt x="3299" y="8756"/>
                </a:cubicBezTo>
                <a:cubicBezTo>
                  <a:pt x="3325" y="8910"/>
                  <a:pt x="3378" y="9076"/>
                  <a:pt x="3423" y="9227"/>
                </a:cubicBezTo>
                <a:cubicBezTo>
                  <a:pt x="3431" y="9244"/>
                  <a:pt x="3440" y="9260"/>
                  <a:pt x="3448" y="9277"/>
                </a:cubicBezTo>
                <a:cubicBezTo>
                  <a:pt x="3448" y="9360"/>
                  <a:pt x="3438" y="9155"/>
                  <a:pt x="3473" y="9079"/>
                </a:cubicBezTo>
                <a:cubicBezTo>
                  <a:pt x="3571" y="8866"/>
                  <a:pt x="3747" y="8910"/>
                  <a:pt x="3845" y="9079"/>
                </a:cubicBezTo>
                <a:cubicBezTo>
                  <a:pt x="3902" y="9177"/>
                  <a:pt x="3894" y="9246"/>
                  <a:pt x="3894" y="9351"/>
                </a:cubicBezTo>
              </a:path>
              <a:path w="3225" h="646">
                <a:moveTo>
                  <a:pt x="4068" y="8954"/>
                </a:moveTo>
                <a:cubicBezTo>
                  <a:pt x="3937" y="9086"/>
                  <a:pt x="3903" y="9160"/>
                  <a:pt x="4018" y="9302"/>
                </a:cubicBezTo>
                <a:cubicBezTo>
                  <a:pt x="4149" y="9269"/>
                  <a:pt x="4307" y="9190"/>
                  <a:pt x="4242" y="9004"/>
                </a:cubicBezTo>
                <a:cubicBezTo>
                  <a:pt x="4195" y="8957"/>
                  <a:pt x="4183" y="8939"/>
                  <a:pt x="4142" y="8979"/>
                </a:cubicBezTo>
              </a:path>
              <a:path w="3225" h="646">
                <a:moveTo>
                  <a:pt x="4440" y="8954"/>
                </a:moveTo>
                <a:cubicBezTo>
                  <a:pt x="4422" y="9060"/>
                  <a:pt x="4400" y="9186"/>
                  <a:pt x="4490" y="9277"/>
                </a:cubicBezTo>
                <a:cubicBezTo>
                  <a:pt x="4601" y="9388"/>
                  <a:pt x="4697" y="9125"/>
                  <a:pt x="4713" y="9079"/>
                </a:cubicBezTo>
                <a:cubicBezTo>
                  <a:pt x="4713" y="9071"/>
                  <a:pt x="4713" y="9062"/>
                  <a:pt x="4713" y="9054"/>
                </a:cubicBezTo>
                <a:cubicBezTo>
                  <a:pt x="4732" y="9166"/>
                  <a:pt x="4763" y="9307"/>
                  <a:pt x="4887" y="9351"/>
                </a:cubicBezTo>
                <a:cubicBezTo>
                  <a:pt x="5096" y="9426"/>
                  <a:pt x="5181" y="9201"/>
                  <a:pt x="5110" y="9054"/>
                </a:cubicBezTo>
                <a:cubicBezTo>
                  <a:pt x="5079" y="8989"/>
                  <a:pt x="5041" y="9004"/>
                  <a:pt x="4986" y="9004"/>
                </a:cubicBezTo>
              </a:path>
              <a:path w="3225" h="646">
                <a:moveTo>
                  <a:pt x="5705" y="8905"/>
                </a:moveTo>
                <a:cubicBezTo>
                  <a:pt x="5610" y="8934"/>
                  <a:pt x="5520" y="8933"/>
                  <a:pt x="5482" y="9029"/>
                </a:cubicBezTo>
                <a:cubicBezTo>
                  <a:pt x="5587" y="9092"/>
                  <a:pt x="5694" y="9148"/>
                  <a:pt x="5804" y="9203"/>
                </a:cubicBezTo>
                <a:cubicBezTo>
                  <a:pt x="5763" y="9264"/>
                  <a:pt x="5432" y="9402"/>
                  <a:pt x="5457" y="9327"/>
                </a:cubicBezTo>
                <a:cubicBezTo>
                  <a:pt x="5490" y="9302"/>
                  <a:pt x="5523" y="9277"/>
                  <a:pt x="5556" y="9252"/>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2295360" y="3286080"/>
            <a:ext cx="177840" cy="19080"/>
          </a:xfrm>
          <a:custGeom>
            <a:avLst/>
            <a:gdLst/>
            <a:ahLst/>
            <a:rect l="l" t="t" r="r" b="b"/>
            <a:pathLst>
              <a:path w="497" h="51">
                <a:moveTo>
                  <a:pt x="6375" y="9178"/>
                </a:moveTo>
                <a:cubicBezTo>
                  <a:pt x="6541" y="9161"/>
                  <a:pt x="6704" y="9136"/>
                  <a:pt x="6871" y="9128"/>
                </a:cubicBezTo>
              </a:path>
            </a:pathLst>
          </a:custGeom>
          <a:noFill/>
          <a:ln cap="rnd" w="3492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38" name=""/>
          <p:cNvSpPr/>
          <p:nvPr/>
        </p:nvSpPr>
        <p:spPr>
          <a:xfrm>
            <a:off x="2643120" y="3160800"/>
            <a:ext cx="393840" cy="277560"/>
          </a:xfrm>
          <a:custGeom>
            <a:avLst/>
            <a:gdLst/>
            <a:ahLst/>
            <a:rect l="l" t="t" r="r" b="b"/>
            <a:pathLst>
              <a:path w="1093" h="770">
                <a:moveTo>
                  <a:pt x="7764" y="8830"/>
                </a:moveTo>
                <a:cubicBezTo>
                  <a:pt x="7591" y="8765"/>
                  <a:pt x="7431" y="8866"/>
                  <a:pt x="7342" y="9054"/>
                </a:cubicBezTo>
                <a:cubicBezTo>
                  <a:pt x="7342" y="9087"/>
                  <a:pt x="7342" y="9120"/>
                  <a:pt x="7342" y="9153"/>
                </a:cubicBezTo>
                <a:cubicBezTo>
                  <a:pt x="7474" y="9177"/>
                  <a:pt x="7832" y="9215"/>
                  <a:pt x="7789" y="8954"/>
                </a:cubicBezTo>
                <a:cubicBezTo>
                  <a:pt x="7771" y="8847"/>
                  <a:pt x="7718" y="8821"/>
                  <a:pt x="7640" y="8806"/>
                </a:cubicBezTo>
                <a:cubicBezTo>
                  <a:pt x="7754" y="8806"/>
                  <a:pt x="7960" y="8799"/>
                  <a:pt x="8037" y="8905"/>
                </a:cubicBezTo>
                <a:cubicBezTo>
                  <a:pt x="8185" y="9109"/>
                  <a:pt x="7865" y="9375"/>
                  <a:pt x="7813" y="9550"/>
                </a:cubicBezTo>
                <a:cubicBezTo>
                  <a:pt x="7821" y="9550"/>
                  <a:pt x="7830" y="9550"/>
                  <a:pt x="7838" y="9550"/>
                </a:cubicBezTo>
              </a:path>
              <a:path w="1093" h="770">
                <a:moveTo>
                  <a:pt x="8210" y="9252"/>
                </a:moveTo>
                <a:cubicBezTo>
                  <a:pt x="8116" y="9331"/>
                  <a:pt x="8089" y="9359"/>
                  <a:pt x="8062" y="9475"/>
                </a:cubicBezTo>
                <a:cubicBezTo>
                  <a:pt x="8178" y="9522"/>
                  <a:pt x="8450" y="9583"/>
                  <a:pt x="8434" y="9351"/>
                </a:cubicBezTo>
                <a:cubicBezTo>
                  <a:pt x="8428" y="9257"/>
                  <a:pt x="8322" y="9261"/>
                  <a:pt x="8260" y="9252"/>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3241800" y="3160800"/>
            <a:ext cx="1000080" cy="304560"/>
          </a:xfrm>
          <a:custGeom>
            <a:avLst/>
            <a:gdLst/>
            <a:ahLst/>
            <a:rect l="l" t="t" r="r" b="b"/>
            <a:pathLst>
              <a:path w="2779" h="844">
                <a:moveTo>
                  <a:pt x="9277" y="8806"/>
                </a:moveTo>
                <a:cubicBezTo>
                  <a:pt x="9219" y="8632"/>
                  <a:pt x="9079" y="9051"/>
                  <a:pt x="9029" y="9227"/>
                </a:cubicBezTo>
                <a:cubicBezTo>
                  <a:pt x="8956" y="9487"/>
                  <a:pt x="9068" y="9721"/>
                  <a:pt x="9351" y="9575"/>
                </a:cubicBezTo>
                <a:cubicBezTo>
                  <a:pt x="9409" y="9534"/>
                  <a:pt x="9467" y="9492"/>
                  <a:pt x="9525" y="9451"/>
                </a:cubicBezTo>
              </a:path>
              <a:path w="2779" h="844">
                <a:moveTo>
                  <a:pt x="9525" y="9178"/>
                </a:moveTo>
                <a:cubicBezTo>
                  <a:pt x="9552" y="9330"/>
                  <a:pt x="9585" y="9474"/>
                  <a:pt x="9624" y="9624"/>
                </a:cubicBezTo>
                <a:cubicBezTo>
                  <a:pt x="9587" y="9473"/>
                  <a:pt x="9516" y="9279"/>
                  <a:pt x="9624" y="9128"/>
                </a:cubicBezTo>
                <a:cubicBezTo>
                  <a:pt x="9665" y="9103"/>
                  <a:pt x="9707" y="9079"/>
                  <a:pt x="9748" y="9054"/>
                </a:cubicBezTo>
                <a:cubicBezTo>
                  <a:pt x="9902" y="9161"/>
                  <a:pt x="10095" y="9405"/>
                  <a:pt x="9748" y="9475"/>
                </a:cubicBezTo>
                <a:cubicBezTo>
                  <a:pt x="9619" y="9454"/>
                  <a:pt x="9581" y="9463"/>
                  <a:pt x="9550" y="9376"/>
                </a:cubicBezTo>
              </a:path>
              <a:path w="2779" h="844">
                <a:moveTo>
                  <a:pt x="10344" y="9153"/>
                </a:moveTo>
                <a:cubicBezTo>
                  <a:pt x="10192" y="9131"/>
                  <a:pt x="10060" y="9138"/>
                  <a:pt x="9971" y="9302"/>
                </a:cubicBezTo>
                <a:cubicBezTo>
                  <a:pt x="9856" y="9513"/>
                  <a:pt x="10272" y="9436"/>
                  <a:pt x="10344" y="9327"/>
                </a:cubicBezTo>
                <a:cubicBezTo>
                  <a:pt x="10352" y="9286"/>
                  <a:pt x="10360" y="9244"/>
                  <a:pt x="10368" y="9203"/>
                </a:cubicBezTo>
                <a:cubicBezTo>
                  <a:pt x="10386" y="9291"/>
                  <a:pt x="10470" y="9373"/>
                  <a:pt x="10567" y="9376"/>
                </a:cubicBezTo>
                <a:cubicBezTo>
                  <a:pt x="10640" y="9379"/>
                  <a:pt x="10671" y="9322"/>
                  <a:pt x="10716" y="9351"/>
                </a:cubicBezTo>
                <a:cubicBezTo>
                  <a:pt x="10716" y="9399"/>
                  <a:pt x="10697" y="9246"/>
                  <a:pt x="10716" y="9203"/>
                </a:cubicBezTo>
                <a:cubicBezTo>
                  <a:pt x="10777" y="9063"/>
                  <a:pt x="10829" y="9029"/>
                  <a:pt x="10964" y="9029"/>
                </a:cubicBezTo>
              </a:path>
              <a:path w="2779" h="844">
                <a:moveTo>
                  <a:pt x="11088" y="8855"/>
                </a:moveTo>
                <a:cubicBezTo>
                  <a:pt x="11088" y="9029"/>
                  <a:pt x="11082" y="9186"/>
                  <a:pt x="11137" y="9351"/>
                </a:cubicBezTo>
              </a:path>
              <a:path w="2779" h="844">
                <a:moveTo>
                  <a:pt x="10939" y="9079"/>
                </a:moveTo>
                <a:cubicBezTo>
                  <a:pt x="11156" y="9052"/>
                  <a:pt x="11365" y="9029"/>
                  <a:pt x="11584" y="9029"/>
                </a:cubicBezTo>
                <a:cubicBezTo>
                  <a:pt x="11543" y="9035"/>
                  <a:pt x="11396" y="9057"/>
                  <a:pt x="11460" y="9079"/>
                </a:cubicBezTo>
                <a:cubicBezTo>
                  <a:pt x="11570" y="9117"/>
                  <a:pt x="11676" y="9155"/>
                  <a:pt x="11782" y="9203"/>
                </a:cubicBezTo>
                <a:cubicBezTo>
                  <a:pt x="11715" y="9350"/>
                  <a:pt x="11616" y="9357"/>
                  <a:pt x="11460" y="9302"/>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4429080" y="3178080"/>
            <a:ext cx="366840" cy="223920"/>
          </a:xfrm>
          <a:custGeom>
            <a:avLst/>
            <a:gdLst/>
            <a:ahLst/>
            <a:rect l="l" t="t" r="r" b="b"/>
            <a:pathLst>
              <a:path w="1018" h="622">
                <a:moveTo>
                  <a:pt x="12601" y="9128"/>
                </a:moveTo>
                <a:cubicBezTo>
                  <a:pt x="12359" y="9113"/>
                  <a:pt x="12332" y="9208"/>
                  <a:pt x="12353" y="9426"/>
                </a:cubicBezTo>
                <a:cubicBezTo>
                  <a:pt x="12498" y="9438"/>
                  <a:pt x="12902" y="9478"/>
                  <a:pt x="12725" y="9203"/>
                </a:cubicBezTo>
                <a:cubicBezTo>
                  <a:pt x="12639" y="9138"/>
                  <a:pt x="12622" y="9113"/>
                  <a:pt x="12551" y="9128"/>
                </a:cubicBezTo>
              </a:path>
              <a:path w="1018" h="622">
                <a:moveTo>
                  <a:pt x="13171" y="8905"/>
                </a:moveTo>
                <a:cubicBezTo>
                  <a:pt x="12990" y="8820"/>
                  <a:pt x="12820" y="8866"/>
                  <a:pt x="12849" y="9128"/>
                </a:cubicBezTo>
                <a:cubicBezTo>
                  <a:pt x="12857" y="9206"/>
                  <a:pt x="12982" y="9392"/>
                  <a:pt x="12948" y="9426"/>
                </a:cubicBezTo>
              </a:path>
              <a:path w="1018" h="622">
                <a:moveTo>
                  <a:pt x="12799" y="9128"/>
                </a:moveTo>
                <a:cubicBezTo>
                  <a:pt x="13064" y="9128"/>
                  <a:pt x="13146" y="9128"/>
                  <a:pt x="13320" y="912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5000760" y="3116160"/>
            <a:ext cx="571320" cy="322200"/>
          </a:xfrm>
          <a:custGeom>
            <a:avLst/>
            <a:gdLst/>
            <a:ahLst/>
            <a:rect l="l" t="t" r="r" b="b"/>
            <a:pathLst>
              <a:path w="1588" h="894">
                <a:moveTo>
                  <a:pt x="13891" y="8905"/>
                </a:moveTo>
                <a:cubicBezTo>
                  <a:pt x="13896" y="9023"/>
                  <a:pt x="13892" y="9286"/>
                  <a:pt x="13940" y="9302"/>
                </a:cubicBezTo>
              </a:path>
              <a:path w="1588" h="894">
                <a:moveTo>
                  <a:pt x="14312" y="8880"/>
                </a:moveTo>
                <a:cubicBezTo>
                  <a:pt x="14188" y="9004"/>
                  <a:pt x="14143" y="9084"/>
                  <a:pt x="14089" y="9252"/>
                </a:cubicBezTo>
                <a:cubicBezTo>
                  <a:pt x="14253" y="9383"/>
                  <a:pt x="14486" y="9407"/>
                  <a:pt x="14610" y="9153"/>
                </a:cubicBezTo>
                <a:cubicBezTo>
                  <a:pt x="14706" y="8956"/>
                  <a:pt x="14413" y="8955"/>
                  <a:pt x="14312" y="8930"/>
                </a:cubicBezTo>
              </a:path>
              <a:path w="1588" h="894">
                <a:moveTo>
                  <a:pt x="14833" y="8930"/>
                </a:moveTo>
                <a:cubicBezTo>
                  <a:pt x="14671" y="9037"/>
                  <a:pt x="14508" y="9244"/>
                  <a:pt x="14808" y="9351"/>
                </a:cubicBezTo>
                <a:cubicBezTo>
                  <a:pt x="15019" y="9426"/>
                  <a:pt x="15154" y="9174"/>
                  <a:pt x="15056" y="9004"/>
                </a:cubicBezTo>
                <a:cubicBezTo>
                  <a:pt x="14969" y="8939"/>
                  <a:pt x="14951" y="8919"/>
                  <a:pt x="14883" y="8905"/>
                </a:cubicBezTo>
              </a:path>
              <a:path w="1588" h="894">
                <a:moveTo>
                  <a:pt x="15007" y="8657"/>
                </a:moveTo>
                <a:cubicBezTo>
                  <a:pt x="15190" y="8748"/>
                  <a:pt x="15335" y="8943"/>
                  <a:pt x="15429" y="9128"/>
                </a:cubicBezTo>
                <a:cubicBezTo>
                  <a:pt x="15523" y="9313"/>
                  <a:pt x="15446" y="9397"/>
                  <a:pt x="15354" y="9550"/>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3500280" y="3419640"/>
            <a:ext cx="2492640" cy="295200"/>
          </a:xfrm>
          <a:custGeom>
            <a:avLst/>
            <a:gdLst/>
            <a:ahLst/>
            <a:rect l="l" t="t" r="r" b="b"/>
            <a:pathLst>
              <a:path w="6922" h="820">
                <a:moveTo>
                  <a:pt x="9723" y="9996"/>
                </a:moveTo>
                <a:lnTo>
                  <a:pt x="9723" y="9996"/>
                </a:lnTo>
                <a:lnTo>
                  <a:pt x="9723" y="9996"/>
                </a:lnTo>
              </a:path>
              <a:path w="6922" h="820">
                <a:moveTo>
                  <a:pt x="9723" y="9996"/>
                </a:moveTo>
                <a:lnTo>
                  <a:pt x="9723" y="9996"/>
                </a:lnTo>
              </a:path>
              <a:path w="6922" h="820">
                <a:moveTo>
                  <a:pt x="13419" y="9996"/>
                </a:moveTo>
                <a:cubicBezTo>
                  <a:pt x="13639" y="9966"/>
                  <a:pt x="13846" y="9939"/>
                  <a:pt x="14015" y="10120"/>
                </a:cubicBezTo>
                <a:cubicBezTo>
                  <a:pt x="14059" y="10167"/>
                  <a:pt x="14079" y="10258"/>
                  <a:pt x="14089" y="10319"/>
                </a:cubicBezTo>
              </a:path>
              <a:path w="6922" h="820">
                <a:moveTo>
                  <a:pt x="13940" y="9773"/>
                </a:moveTo>
                <a:cubicBezTo>
                  <a:pt x="13940" y="9781"/>
                  <a:pt x="13940" y="9790"/>
                  <a:pt x="13940" y="9798"/>
                </a:cubicBezTo>
              </a:path>
              <a:path w="6922" h="820">
                <a:moveTo>
                  <a:pt x="16644" y="9500"/>
                </a:moveTo>
                <a:cubicBezTo>
                  <a:pt x="16636" y="9508"/>
                  <a:pt x="16627" y="9517"/>
                  <a:pt x="16619" y="9525"/>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2251080" y="3598920"/>
            <a:ext cx="169920" cy="27000"/>
          </a:xfrm>
          <a:custGeom>
            <a:avLst/>
            <a:gdLst/>
            <a:ahLst/>
            <a:rect l="l" t="t" r="r" b="b"/>
            <a:pathLst>
              <a:path w="472" h="76">
                <a:moveTo>
                  <a:pt x="6251" y="10071"/>
                </a:moveTo>
                <a:cubicBezTo>
                  <a:pt x="6379" y="10007"/>
                  <a:pt x="6526" y="10001"/>
                  <a:pt x="6672" y="9996"/>
                </a:cubicBezTo>
                <a:cubicBezTo>
                  <a:pt x="6689" y="9996"/>
                  <a:pt x="6705" y="9996"/>
                  <a:pt x="6722" y="9996"/>
                </a:cubicBezTo>
              </a:path>
            </a:pathLst>
          </a:custGeom>
          <a:noFill/>
          <a:ln cap="rnd" w="3492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44" name=""/>
          <p:cNvSpPr/>
          <p:nvPr/>
        </p:nvSpPr>
        <p:spPr>
          <a:xfrm>
            <a:off x="2652840" y="3527280"/>
            <a:ext cx="1214280" cy="231840"/>
          </a:xfrm>
          <a:custGeom>
            <a:avLst/>
            <a:gdLst/>
            <a:ahLst/>
            <a:rect l="l" t="t" r="r" b="b"/>
            <a:pathLst>
              <a:path w="3374" h="646">
                <a:moveTo>
                  <a:pt x="7367" y="10071"/>
                </a:moveTo>
                <a:cubicBezTo>
                  <a:pt x="7406" y="10188"/>
                  <a:pt x="7444" y="10305"/>
                  <a:pt x="7491" y="10418"/>
                </a:cubicBezTo>
                <a:cubicBezTo>
                  <a:pt x="7433" y="10317"/>
                  <a:pt x="7420" y="10167"/>
                  <a:pt x="7516" y="10071"/>
                </a:cubicBezTo>
                <a:cubicBezTo>
                  <a:pt x="7610" y="9976"/>
                  <a:pt x="7778" y="9988"/>
                  <a:pt x="7888" y="10021"/>
                </a:cubicBezTo>
              </a:path>
              <a:path w="3374" h="646">
                <a:moveTo>
                  <a:pt x="7888" y="10220"/>
                </a:moveTo>
                <a:cubicBezTo>
                  <a:pt x="8038" y="10214"/>
                  <a:pt x="8184" y="10195"/>
                  <a:pt x="8334" y="10195"/>
                </a:cubicBezTo>
                <a:cubicBezTo>
                  <a:pt x="8305" y="10117"/>
                  <a:pt x="8243" y="9999"/>
                  <a:pt x="8136" y="9996"/>
                </a:cubicBezTo>
                <a:cubicBezTo>
                  <a:pt x="7909" y="9989"/>
                  <a:pt x="7888" y="10245"/>
                  <a:pt x="7888" y="10393"/>
                </a:cubicBezTo>
                <a:cubicBezTo>
                  <a:pt x="8107" y="10463"/>
                  <a:pt x="8216" y="10414"/>
                  <a:pt x="8434" y="10344"/>
                </a:cubicBezTo>
                <a:cubicBezTo>
                  <a:pt x="8459" y="10336"/>
                  <a:pt x="8483" y="10327"/>
                  <a:pt x="8508" y="10319"/>
                </a:cubicBezTo>
              </a:path>
              <a:path w="3374" h="646">
                <a:moveTo>
                  <a:pt x="8533" y="9823"/>
                </a:moveTo>
                <a:cubicBezTo>
                  <a:pt x="8566" y="9951"/>
                  <a:pt x="8625" y="10106"/>
                  <a:pt x="8657" y="10244"/>
                </a:cubicBezTo>
                <a:cubicBezTo>
                  <a:pt x="8677" y="10345"/>
                  <a:pt x="8675" y="10365"/>
                  <a:pt x="8706" y="10418"/>
                </a:cubicBezTo>
              </a:path>
              <a:path w="3374" h="646">
                <a:moveTo>
                  <a:pt x="8954" y="10244"/>
                </a:moveTo>
                <a:cubicBezTo>
                  <a:pt x="9026" y="10244"/>
                  <a:pt x="9084" y="10231"/>
                  <a:pt x="9153" y="10220"/>
                </a:cubicBezTo>
                <a:cubicBezTo>
                  <a:pt x="9131" y="10160"/>
                  <a:pt x="9104" y="10044"/>
                  <a:pt x="9004" y="10071"/>
                </a:cubicBezTo>
                <a:cubicBezTo>
                  <a:pt x="8883" y="10104"/>
                  <a:pt x="8796" y="10349"/>
                  <a:pt x="8954" y="10393"/>
                </a:cubicBezTo>
                <a:cubicBezTo>
                  <a:pt x="9046" y="10419"/>
                  <a:pt x="9161" y="10379"/>
                  <a:pt x="9252" y="10368"/>
                </a:cubicBezTo>
              </a:path>
              <a:path w="3374" h="646">
                <a:moveTo>
                  <a:pt x="9153" y="10145"/>
                </a:moveTo>
                <a:cubicBezTo>
                  <a:pt x="9025" y="10103"/>
                  <a:pt x="8940" y="10055"/>
                  <a:pt x="8880" y="10244"/>
                </a:cubicBezTo>
                <a:cubicBezTo>
                  <a:pt x="8880" y="10356"/>
                  <a:pt x="8870" y="10391"/>
                  <a:pt x="8954" y="10418"/>
                </a:cubicBezTo>
                <a:cubicBezTo>
                  <a:pt x="9135" y="10365"/>
                  <a:pt x="9213" y="10364"/>
                  <a:pt x="9203" y="10170"/>
                </a:cubicBezTo>
                <a:cubicBezTo>
                  <a:pt x="9203" y="10137"/>
                  <a:pt x="9203" y="10137"/>
                  <a:pt x="9203" y="10195"/>
                </a:cubicBezTo>
                <a:cubicBezTo>
                  <a:pt x="9227" y="10233"/>
                  <a:pt x="9351" y="10513"/>
                  <a:pt x="9451" y="10368"/>
                </a:cubicBezTo>
                <a:cubicBezTo>
                  <a:pt x="9459" y="10327"/>
                  <a:pt x="9467" y="10285"/>
                  <a:pt x="9475" y="10244"/>
                </a:cubicBezTo>
              </a:path>
              <a:path w="3374" h="646">
                <a:moveTo>
                  <a:pt x="9426" y="9798"/>
                </a:moveTo>
                <a:cubicBezTo>
                  <a:pt x="9493" y="9987"/>
                  <a:pt x="9521" y="10213"/>
                  <a:pt x="9599" y="10393"/>
                </a:cubicBezTo>
                <a:cubicBezTo>
                  <a:pt x="9607" y="10393"/>
                  <a:pt x="9616" y="10393"/>
                  <a:pt x="9624" y="10393"/>
                </a:cubicBezTo>
              </a:path>
              <a:path w="3374" h="646">
                <a:moveTo>
                  <a:pt x="9351" y="10145"/>
                </a:moveTo>
                <a:cubicBezTo>
                  <a:pt x="9484" y="10145"/>
                  <a:pt x="9704" y="10102"/>
                  <a:pt x="9823" y="10170"/>
                </a:cubicBezTo>
                <a:cubicBezTo>
                  <a:pt x="9912" y="10221"/>
                  <a:pt x="9913" y="10333"/>
                  <a:pt x="9922" y="10418"/>
                </a:cubicBezTo>
              </a:path>
              <a:path w="3374" h="646">
                <a:moveTo>
                  <a:pt x="10021" y="10244"/>
                </a:moveTo>
                <a:cubicBezTo>
                  <a:pt x="10105" y="10359"/>
                  <a:pt x="10112" y="10403"/>
                  <a:pt x="10244" y="10443"/>
                </a:cubicBezTo>
                <a:cubicBezTo>
                  <a:pt x="10293" y="10321"/>
                  <a:pt x="10300" y="10198"/>
                  <a:pt x="10319" y="10071"/>
                </a:cubicBezTo>
                <a:cubicBezTo>
                  <a:pt x="10319" y="10063"/>
                  <a:pt x="10319" y="10054"/>
                  <a:pt x="10319" y="10046"/>
                </a:cubicBezTo>
              </a:path>
              <a:path w="3374" h="646">
                <a:moveTo>
                  <a:pt x="10492" y="10170"/>
                </a:moveTo>
                <a:cubicBezTo>
                  <a:pt x="10576" y="10157"/>
                  <a:pt x="10617" y="10148"/>
                  <a:pt x="10691" y="10096"/>
                </a:cubicBezTo>
                <a:cubicBezTo>
                  <a:pt x="10568" y="10022"/>
                  <a:pt x="10499" y="10181"/>
                  <a:pt x="10492" y="10294"/>
                </a:cubicBezTo>
                <a:cubicBezTo>
                  <a:pt x="10483" y="10444"/>
                  <a:pt x="10669" y="10376"/>
                  <a:pt x="10740" y="1036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4224240" y="3490920"/>
            <a:ext cx="714600" cy="250920"/>
          </a:xfrm>
          <a:custGeom>
            <a:avLst/>
            <a:gdLst/>
            <a:ahLst/>
            <a:rect l="l" t="t" r="r" b="b"/>
            <a:pathLst>
              <a:path w="1985" h="695">
                <a:moveTo>
                  <a:pt x="11733" y="10046"/>
                </a:moveTo>
                <a:cubicBezTo>
                  <a:pt x="11760" y="10154"/>
                  <a:pt x="11811" y="10261"/>
                  <a:pt x="11857" y="10368"/>
                </a:cubicBezTo>
                <a:cubicBezTo>
                  <a:pt x="11844" y="10241"/>
                  <a:pt x="11787" y="10079"/>
                  <a:pt x="11931" y="9996"/>
                </a:cubicBezTo>
                <a:cubicBezTo>
                  <a:pt x="12057" y="9971"/>
                  <a:pt x="12101" y="9963"/>
                  <a:pt x="12179" y="10021"/>
                </a:cubicBezTo>
              </a:path>
              <a:path w="1985" h="695">
                <a:moveTo>
                  <a:pt x="12353" y="10145"/>
                </a:moveTo>
                <a:cubicBezTo>
                  <a:pt x="12463" y="10101"/>
                  <a:pt x="12493" y="10093"/>
                  <a:pt x="12551" y="10046"/>
                </a:cubicBezTo>
                <a:cubicBezTo>
                  <a:pt x="12447" y="10029"/>
                  <a:pt x="12282" y="10038"/>
                  <a:pt x="12278" y="10195"/>
                </a:cubicBezTo>
                <a:cubicBezTo>
                  <a:pt x="12271" y="10502"/>
                  <a:pt x="12696" y="10278"/>
                  <a:pt x="12799" y="10220"/>
                </a:cubicBezTo>
              </a:path>
              <a:path w="1985" h="695">
                <a:moveTo>
                  <a:pt x="12700" y="9699"/>
                </a:moveTo>
                <a:cubicBezTo>
                  <a:pt x="12740" y="9900"/>
                  <a:pt x="12762" y="10162"/>
                  <a:pt x="12849" y="10344"/>
                </a:cubicBezTo>
                <a:cubicBezTo>
                  <a:pt x="12857" y="10352"/>
                  <a:pt x="12866" y="10360"/>
                  <a:pt x="12874" y="10368"/>
                </a:cubicBezTo>
              </a:path>
              <a:path w="1985" h="695">
                <a:moveTo>
                  <a:pt x="13221" y="10195"/>
                </a:moveTo>
                <a:cubicBezTo>
                  <a:pt x="13199" y="10120"/>
                  <a:pt x="13169" y="10080"/>
                  <a:pt x="13122" y="10021"/>
                </a:cubicBezTo>
                <a:cubicBezTo>
                  <a:pt x="13052" y="10056"/>
                  <a:pt x="12727" y="10358"/>
                  <a:pt x="12998" y="10393"/>
                </a:cubicBezTo>
                <a:cubicBezTo>
                  <a:pt x="13138" y="10411"/>
                  <a:pt x="13199" y="10277"/>
                  <a:pt x="13271" y="10195"/>
                </a:cubicBezTo>
                <a:cubicBezTo>
                  <a:pt x="13287" y="10277"/>
                  <a:pt x="13357" y="10423"/>
                  <a:pt x="13469" y="10393"/>
                </a:cubicBezTo>
                <a:cubicBezTo>
                  <a:pt x="13494" y="10368"/>
                  <a:pt x="13518" y="10344"/>
                  <a:pt x="13543" y="10319"/>
                </a:cubicBezTo>
              </a:path>
              <a:path w="1985" h="695">
                <a:moveTo>
                  <a:pt x="13568" y="9748"/>
                </a:moveTo>
                <a:cubicBezTo>
                  <a:pt x="13602" y="9939"/>
                  <a:pt x="13684" y="10123"/>
                  <a:pt x="13717" y="10319"/>
                </a:cubicBezTo>
                <a:cubicBezTo>
                  <a:pt x="13717" y="10378"/>
                  <a:pt x="13714" y="10385"/>
                  <a:pt x="13692" y="1029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5126040" y="3419640"/>
            <a:ext cx="1312920" cy="393480"/>
          </a:xfrm>
          <a:custGeom>
            <a:avLst/>
            <a:gdLst/>
            <a:ahLst/>
            <a:rect l="l" t="t" r="r" b="b"/>
            <a:pathLst>
              <a:path w="3647" h="1093">
                <a:moveTo>
                  <a:pt x="14436" y="9971"/>
                </a:moveTo>
                <a:cubicBezTo>
                  <a:pt x="14279" y="10050"/>
                  <a:pt x="14252" y="10099"/>
                  <a:pt x="14263" y="10269"/>
                </a:cubicBezTo>
                <a:cubicBezTo>
                  <a:pt x="14390" y="10282"/>
                  <a:pt x="14707" y="10276"/>
                  <a:pt x="14511" y="10046"/>
                </a:cubicBezTo>
                <a:cubicBezTo>
                  <a:pt x="14421" y="9992"/>
                  <a:pt x="14420" y="9967"/>
                  <a:pt x="14362" y="9971"/>
                </a:cubicBezTo>
                <a:cubicBezTo>
                  <a:pt x="14508" y="9971"/>
                  <a:pt x="14635" y="9968"/>
                  <a:pt x="14709" y="10120"/>
                </a:cubicBezTo>
                <a:cubicBezTo>
                  <a:pt x="14731" y="10227"/>
                  <a:pt x="14739" y="10251"/>
                  <a:pt x="14734" y="10319"/>
                </a:cubicBezTo>
                <a:cubicBezTo>
                  <a:pt x="14734" y="10212"/>
                  <a:pt x="14708" y="9976"/>
                  <a:pt x="14883" y="9971"/>
                </a:cubicBezTo>
                <a:cubicBezTo>
                  <a:pt x="15053" y="9966"/>
                  <a:pt x="15106" y="10225"/>
                  <a:pt x="15131" y="10344"/>
                </a:cubicBezTo>
                <a:cubicBezTo>
                  <a:pt x="15131" y="10352"/>
                  <a:pt x="15131" y="10360"/>
                  <a:pt x="15131" y="10368"/>
                </a:cubicBezTo>
              </a:path>
              <a:path w="3647" h="1093">
                <a:moveTo>
                  <a:pt x="15429" y="9947"/>
                </a:moveTo>
                <a:cubicBezTo>
                  <a:pt x="15353" y="9947"/>
                  <a:pt x="15327" y="9947"/>
                  <a:pt x="15280" y="9971"/>
                </a:cubicBezTo>
                <a:cubicBezTo>
                  <a:pt x="15222" y="10087"/>
                  <a:pt x="15515" y="10108"/>
                  <a:pt x="15577" y="10145"/>
                </a:cubicBezTo>
                <a:cubicBezTo>
                  <a:pt x="15602" y="10170"/>
                  <a:pt x="15627" y="10195"/>
                  <a:pt x="15652" y="10220"/>
                </a:cubicBezTo>
                <a:cubicBezTo>
                  <a:pt x="15448" y="10328"/>
                  <a:pt x="15371" y="10382"/>
                  <a:pt x="15304" y="10170"/>
                </a:cubicBezTo>
              </a:path>
              <a:path w="3647" h="1093">
                <a:moveTo>
                  <a:pt x="15825" y="9500"/>
                </a:moveTo>
                <a:cubicBezTo>
                  <a:pt x="15825" y="9753"/>
                  <a:pt x="15893" y="9930"/>
                  <a:pt x="15949" y="10170"/>
                </a:cubicBezTo>
                <a:cubicBezTo>
                  <a:pt x="15949" y="10187"/>
                  <a:pt x="15949" y="10203"/>
                  <a:pt x="15949" y="10220"/>
                </a:cubicBezTo>
                <a:cubicBezTo>
                  <a:pt x="16003" y="10124"/>
                  <a:pt x="16052" y="9868"/>
                  <a:pt x="16222" y="9897"/>
                </a:cubicBezTo>
                <a:cubicBezTo>
                  <a:pt x="16449" y="9935"/>
                  <a:pt x="16332" y="10236"/>
                  <a:pt x="16446" y="10294"/>
                </a:cubicBezTo>
                <a:cubicBezTo>
                  <a:pt x="16462" y="10286"/>
                  <a:pt x="16479" y="10277"/>
                  <a:pt x="16495" y="10269"/>
                </a:cubicBezTo>
              </a:path>
              <a:path w="3647" h="1093">
                <a:moveTo>
                  <a:pt x="16619" y="10021"/>
                </a:moveTo>
                <a:cubicBezTo>
                  <a:pt x="16613" y="10157"/>
                  <a:pt x="16624" y="10419"/>
                  <a:pt x="16842" y="10244"/>
                </a:cubicBezTo>
                <a:cubicBezTo>
                  <a:pt x="16917" y="10144"/>
                  <a:pt x="16943" y="10111"/>
                  <a:pt x="16942" y="10021"/>
                </a:cubicBezTo>
                <a:cubicBezTo>
                  <a:pt x="16934" y="10013"/>
                  <a:pt x="16925" y="10004"/>
                  <a:pt x="16917" y="9996"/>
                </a:cubicBezTo>
                <a:cubicBezTo>
                  <a:pt x="16938" y="10161"/>
                  <a:pt x="16974" y="10351"/>
                  <a:pt x="16966" y="10517"/>
                </a:cubicBezTo>
                <a:cubicBezTo>
                  <a:pt x="16946" y="10558"/>
                  <a:pt x="16938" y="10564"/>
                  <a:pt x="16942" y="10592"/>
                </a:cubicBezTo>
                <a:cubicBezTo>
                  <a:pt x="16874" y="10371"/>
                  <a:pt x="16787" y="10062"/>
                  <a:pt x="16991" y="9872"/>
                </a:cubicBezTo>
                <a:cubicBezTo>
                  <a:pt x="17148" y="9805"/>
                  <a:pt x="17189" y="9774"/>
                  <a:pt x="17289" y="9847"/>
                </a:cubicBezTo>
                <a:cubicBezTo>
                  <a:pt x="17289" y="9995"/>
                  <a:pt x="17257" y="10283"/>
                  <a:pt x="17016" y="10170"/>
                </a:cubicBezTo>
                <a:cubicBezTo>
                  <a:pt x="16991" y="10145"/>
                  <a:pt x="16967" y="10121"/>
                  <a:pt x="16942" y="10096"/>
                </a:cubicBezTo>
              </a:path>
              <a:path w="3647" h="1093">
                <a:moveTo>
                  <a:pt x="17735" y="9748"/>
                </a:moveTo>
                <a:cubicBezTo>
                  <a:pt x="17620" y="9741"/>
                  <a:pt x="17606" y="9743"/>
                  <a:pt x="17487" y="9773"/>
                </a:cubicBezTo>
                <a:cubicBezTo>
                  <a:pt x="17620" y="9861"/>
                  <a:pt x="17759" y="9921"/>
                  <a:pt x="17884" y="10021"/>
                </a:cubicBezTo>
                <a:cubicBezTo>
                  <a:pt x="17696" y="10147"/>
                  <a:pt x="17611" y="10131"/>
                  <a:pt x="17413" y="10046"/>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4">
                                  <p:stCondLst>
                                    <p:cond delay="0"/>
                                  </p:stCondLst>
                                  <p:childTnLst>
                                    <p:set>
                                      <p:cBhvr>
                                        <p:cTn id="22" dur="1" fill="hold">
                                          <p:stCondLst>
                                            <p:cond delay="0"/>
                                          </p:stCondLst>
                                        </p:cTn>
                                        <p:tgtEl>
                                          <p:spTgt spid="126"/>
                                        </p:tgtEl>
                                        <p:attrNameLst>
                                          <p:attrName>style.visibility</p:attrName>
                                        </p:attrNameLst>
                                      </p:cBhvr>
                                      <p:to>
                                        <p:strVal val="visible"/>
                                      </p:to>
                                    </p:set>
                                    <p:anim calcmode="lin" valueType="num" from="(-#ppt_w/2)" to="(#ppt_x)">
                                      <p:cBhvr additive="repl">
                                        <p:cTn id="23" dur="600" fill="hold">
                                          <p:stCondLst>
                                            <p:cond delay="0"/>
                                          </p:stCondLst>
                                        </p:cTn>
                                        <p:tgtEl>
                                          <p:spTgt spid="126"/>
                                        </p:tgtEl>
                                        <p:attrNameLst>
                                          <p:attrName>ppt_x</p:attrName>
                                        </p:attrNameLst>
                                      </p:cBhvr>
                                    </p:anim>
                                    <p:anim calcmode="lin" valueType="num" from="0" to="-1">
                                      <p:cBhvr additive="repl">
                                        <p:cTn id="24" dur="200" autoRev="1" fill="hold">
                                          <p:stCondLst>
                                            <p:cond delay="600"/>
                                          </p:stCondLst>
                                        </p:cTn>
                                        <p:tgtEl>
                                          <p:spTgt spid="126"/>
                                        </p:tgtEl>
                                        <p:attrNameLst>
                                          <p:attrName>xshear</p:attrName>
                                        </p:attrNameLst>
                                      </p:cBhvr>
                                    </p:anim>
                                    <p:animScale>
                                      <p:cBhvr>
                                        <p:cTn id="25" dur="200" autoRev="1" fill="hold">
                                          <p:stCondLst>
                                            <p:cond delay="600"/>
                                          </p:stCondLst>
                                        </p:cTn>
                                        <p:tgtEl>
                                          <p:spTgt spid="126"/>
                                        </p:tgtEl>
                                      </p:cBhvr>
                                      <p:from x="100000" y="100000"/>
                                      <p:to x="80000" y="100000"/>
                                    </p:animScale>
                                    <p:anim calcmode="lin" valueType="num" by="(#ppt_h/3+#ppt_w*0.1)">
                                      <p:cBhvr additive="sum">
                                        <p:cTn id="26" dur="200" autoRev="1" fill="hold">
                                          <p:stCondLst>
                                            <p:cond delay="600"/>
                                          </p:stCondLst>
                                        </p:cTn>
                                        <p:tgtEl>
                                          <p:spTgt spid="126"/>
                                        </p:tgtEl>
                                        <p:attrNameLst>
                                          <p:attrName>ppt_x</p:attrName>
                                        </p:attrNameLst>
                                      </p:cBhvr>
                                    </p:anim>
                                  </p:childTnLst>
                                </p:cTn>
                              </p:par>
                            </p:childTnLst>
                          </p:cTn>
                        </p:par>
                        <p:par>
                          <p:cTn id="27" fill="hold">
                            <p:stCondLst>
                              <p:cond delay="1000"/>
                            </p:stCondLst>
                            <p:childTnLst>
                              <p:par>
                                <p:cTn id="28" nodeType="afterEffect" fill="hold" presetClass="entr" presetID="34">
                                  <p:stCondLst>
                                    <p:cond delay="0"/>
                                  </p:stCondLst>
                                  <p:childTnLst>
                                    <p:set>
                                      <p:cBhvr>
                                        <p:cTn id="29" dur="1" fill="hold">
                                          <p:stCondLst>
                                            <p:cond delay="0"/>
                                          </p:stCondLst>
                                        </p:cTn>
                                        <p:tgtEl>
                                          <p:spTgt spid="127">
                                            <p:txEl>
                                              <p:pRg st="0" end="0"/>
                                            </p:txEl>
                                          </p:spTgt>
                                        </p:tgtEl>
                                        <p:attrNameLst>
                                          <p:attrName>style.visibility</p:attrName>
                                        </p:attrNameLst>
                                      </p:cBhvr>
                                      <p:to>
                                        <p:strVal val="visible"/>
                                      </p:to>
                                    </p:set>
                                    <p:anim calcmode="lin" valueType="num" from="(-#ppt_w/2)" to="(#ppt_x)">
                                      <p:cBhvr additive="repl">
                                        <p:cTn id="30" dur="600" fill="hold">
                                          <p:stCondLst>
                                            <p:cond delay="0"/>
                                          </p:stCondLst>
                                        </p:cTn>
                                        <p:tgtEl>
                                          <p:spTgt spid="127">
                                            <p:txEl>
                                              <p:pRg st="0" end="0"/>
                                            </p:txEl>
                                          </p:spTgt>
                                        </p:tgtEl>
                                        <p:attrNameLst>
                                          <p:attrName>ppt_x</p:attrName>
                                        </p:attrNameLst>
                                      </p:cBhvr>
                                    </p:anim>
                                    <p:anim calcmode="lin" valueType="num" from="0" to="-1">
                                      <p:cBhvr additive="repl">
                                        <p:cTn id="31" dur="200" autoRev="1" fill="hold">
                                          <p:stCondLst>
                                            <p:cond delay="600"/>
                                          </p:stCondLst>
                                        </p:cTn>
                                        <p:tgtEl>
                                          <p:spTgt spid="127">
                                            <p:txEl>
                                              <p:pRg st="0" end="0"/>
                                            </p:txEl>
                                          </p:spTgt>
                                        </p:tgtEl>
                                        <p:attrNameLst>
                                          <p:attrName>xshear</p:attrName>
                                        </p:attrNameLst>
                                      </p:cBhvr>
                                    </p:anim>
                                    <p:animScale>
                                      <p:cBhvr>
                                        <p:cTn id="32" dur="200" autoRev="1" fill="hold">
                                          <p:stCondLst>
                                            <p:cond delay="600"/>
                                          </p:stCondLst>
                                        </p:cTn>
                                        <p:tgtEl>
                                          <p:spTgt spid="127">
                                            <p:txEl>
                                              <p:pRg st="0" end="0"/>
                                            </p:txEl>
                                          </p:spTgt>
                                        </p:tgtEl>
                                      </p:cBhvr>
                                      <p:from x="100000" y="100000"/>
                                      <p:to x="80000" y="100000"/>
                                    </p:animScale>
                                    <p:anim calcmode="lin" valueType="num" by="(#ppt_h/3+#ppt_w*0.1)">
                                      <p:cBhvr additive="sum">
                                        <p:cTn id="33" dur="200" autoRev="1" fill="hold">
                                          <p:stCondLst>
                                            <p:cond delay="600"/>
                                          </p:stCondLst>
                                        </p:cTn>
                                        <p:tgtEl>
                                          <p:spTgt spid="127">
                                            <p:txEl>
                                              <p:pRg st="0" end="0"/>
                                            </p:txEl>
                                          </p:spTgt>
                                        </p:tgtEl>
                                        <p:attrNameLst>
                                          <p:attrName>ppt_x</p:attrName>
                                        </p:attrNameLst>
                                      </p:cBhvr>
                                    </p:anim>
                                  </p:childTnLst>
                                </p:cTn>
                              </p:par>
                            </p:childTnLst>
                          </p:cTn>
                        </p:par>
                        <p:par>
                          <p:cTn id="34" fill="hold">
                            <p:stCondLst>
                              <p:cond delay="2000"/>
                            </p:stCondLst>
                            <p:childTnLst>
                              <p:par>
                                <p:cTn id="35" nodeType="afterEffect" fill="hold" presetClass="entr" presetID="34">
                                  <p:stCondLst>
                                    <p:cond delay="0"/>
                                  </p:stCondLst>
                                  <p:childTnLst>
                                    <p:set>
                                      <p:cBhvr>
                                        <p:cTn id="36" dur="1" fill="hold">
                                          <p:stCondLst>
                                            <p:cond delay="0"/>
                                          </p:stCondLst>
                                        </p:cTn>
                                        <p:tgtEl>
                                          <p:spTgt spid="127">
                                            <p:txEl>
                                              <p:pRg st="2" end="2"/>
                                            </p:txEl>
                                          </p:spTgt>
                                        </p:tgtEl>
                                        <p:attrNameLst>
                                          <p:attrName>style.visibility</p:attrName>
                                        </p:attrNameLst>
                                      </p:cBhvr>
                                      <p:to>
                                        <p:strVal val="visible"/>
                                      </p:to>
                                    </p:set>
                                    <p:anim calcmode="lin" valueType="num" from="(-#ppt_w/2)" to="(#ppt_x)">
                                      <p:cBhvr additive="repl">
                                        <p:cTn id="37" dur="600" fill="hold">
                                          <p:stCondLst>
                                            <p:cond delay="0"/>
                                          </p:stCondLst>
                                        </p:cTn>
                                        <p:tgtEl>
                                          <p:spTgt spid="127">
                                            <p:txEl>
                                              <p:pRg st="2" end="2"/>
                                            </p:txEl>
                                          </p:spTgt>
                                        </p:tgtEl>
                                        <p:attrNameLst>
                                          <p:attrName>ppt_x</p:attrName>
                                        </p:attrNameLst>
                                      </p:cBhvr>
                                    </p:anim>
                                    <p:anim calcmode="lin" valueType="num" from="0" to="-1">
                                      <p:cBhvr additive="repl">
                                        <p:cTn id="38" dur="200" autoRev="1" fill="hold">
                                          <p:stCondLst>
                                            <p:cond delay="600"/>
                                          </p:stCondLst>
                                        </p:cTn>
                                        <p:tgtEl>
                                          <p:spTgt spid="127">
                                            <p:txEl>
                                              <p:pRg st="2" end="2"/>
                                            </p:txEl>
                                          </p:spTgt>
                                        </p:tgtEl>
                                        <p:attrNameLst>
                                          <p:attrName>xshear</p:attrName>
                                        </p:attrNameLst>
                                      </p:cBhvr>
                                    </p:anim>
                                    <p:animScale>
                                      <p:cBhvr>
                                        <p:cTn id="39" dur="200" autoRev="1" fill="hold">
                                          <p:stCondLst>
                                            <p:cond delay="600"/>
                                          </p:stCondLst>
                                        </p:cTn>
                                        <p:tgtEl>
                                          <p:spTgt spid="127">
                                            <p:txEl>
                                              <p:pRg st="2" end="2"/>
                                            </p:txEl>
                                          </p:spTgt>
                                        </p:tgtEl>
                                      </p:cBhvr>
                                      <p:from x="100000" y="100000"/>
                                      <p:to x="80000" y="100000"/>
                                    </p:animScale>
                                    <p:anim calcmode="lin" valueType="num" by="(#ppt_h/3+#ppt_w*0.1)">
                                      <p:cBhvr additive="sum">
                                        <p:cTn id="40" dur="200" autoRev="1" fill="hold">
                                          <p:stCondLst>
                                            <p:cond delay="600"/>
                                          </p:stCondLst>
                                        </p:cTn>
                                        <p:tgtEl>
                                          <p:spTgt spid="127">
                                            <p:txEl>
                                              <p:pRg st="2" end="2"/>
                                            </p:txEl>
                                          </p:spTgt>
                                        </p:tgtEl>
                                        <p:attrNameLst>
                                          <p:attrName>ppt_x</p:attrName>
                                        </p:attrNameLst>
                                      </p:cBhvr>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4">
                                  <p:stCondLst>
                                    <p:cond delay="0"/>
                                  </p:stCondLst>
                                  <p:childTnLst>
                                    <p:set>
                                      <p:cBhvr>
                                        <p:cTn id="44" dur="1" fill="hold">
                                          <p:stCondLst>
                                            <p:cond delay="0"/>
                                          </p:stCondLst>
                                        </p:cTn>
                                        <p:tgtEl>
                                          <p:spTgt spid="127">
                                            <p:txEl>
                                              <p:pRg st="5" end="5"/>
                                            </p:txEl>
                                          </p:spTgt>
                                        </p:tgtEl>
                                        <p:attrNameLst>
                                          <p:attrName>style.visibility</p:attrName>
                                        </p:attrNameLst>
                                      </p:cBhvr>
                                      <p:to>
                                        <p:strVal val="visible"/>
                                      </p:to>
                                    </p:set>
                                    <p:anim calcmode="lin" valueType="num" from="(-#ppt_w/2)" to="(#ppt_x)">
                                      <p:cBhvr additive="repl">
                                        <p:cTn id="45" dur="600" fill="hold">
                                          <p:stCondLst>
                                            <p:cond delay="0"/>
                                          </p:stCondLst>
                                        </p:cTn>
                                        <p:tgtEl>
                                          <p:spTgt spid="127">
                                            <p:txEl>
                                              <p:pRg st="5" end="5"/>
                                            </p:txEl>
                                          </p:spTgt>
                                        </p:tgtEl>
                                        <p:attrNameLst>
                                          <p:attrName>ppt_x</p:attrName>
                                        </p:attrNameLst>
                                      </p:cBhvr>
                                    </p:anim>
                                    <p:anim calcmode="lin" valueType="num" from="0" to="-1">
                                      <p:cBhvr additive="repl">
                                        <p:cTn id="46" dur="200" autoRev="1" fill="hold">
                                          <p:stCondLst>
                                            <p:cond delay="600"/>
                                          </p:stCondLst>
                                        </p:cTn>
                                        <p:tgtEl>
                                          <p:spTgt spid="127">
                                            <p:txEl>
                                              <p:pRg st="5" end="5"/>
                                            </p:txEl>
                                          </p:spTgt>
                                        </p:tgtEl>
                                        <p:attrNameLst>
                                          <p:attrName>xshear</p:attrName>
                                        </p:attrNameLst>
                                      </p:cBhvr>
                                    </p:anim>
                                    <p:animScale>
                                      <p:cBhvr>
                                        <p:cTn id="47" dur="200" autoRev="1" fill="hold">
                                          <p:stCondLst>
                                            <p:cond delay="600"/>
                                          </p:stCondLst>
                                        </p:cTn>
                                        <p:tgtEl>
                                          <p:spTgt spid="127">
                                            <p:txEl>
                                              <p:pRg st="5" end="5"/>
                                            </p:txEl>
                                          </p:spTgt>
                                        </p:tgtEl>
                                      </p:cBhvr>
                                      <p:from x="100000" y="100000"/>
                                      <p:to x="80000" y="100000"/>
                                    </p:animScale>
                                    <p:anim calcmode="lin" valueType="num" by="(#ppt_h/3+#ppt_w*0.1)">
                                      <p:cBhvr additive="sum">
                                        <p:cTn id="48" dur="200" autoRev="1" fill="hold">
                                          <p:stCondLst>
                                            <p:cond delay="600"/>
                                          </p:stCondLst>
                                        </p:cTn>
                                        <p:tgtEl>
                                          <p:spTgt spid="127">
                                            <p:txEl>
                                              <p:pRg st="5" end="5"/>
                                            </p:txEl>
                                          </p:spTgt>
                                        </p:tgtEl>
                                        <p:attrNameLst>
                                          <p:attrName>ppt_x</p:attrName>
                                        </p:attrNameLst>
                                      </p:cBhvr>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4">
                                  <p:stCondLst>
                                    <p:cond delay="0"/>
                                  </p:stCondLst>
                                  <p:childTnLst>
                                    <p:set>
                                      <p:cBhvr>
                                        <p:cTn id="52" dur="1" fill="hold">
                                          <p:stCondLst>
                                            <p:cond delay="0"/>
                                          </p:stCondLst>
                                        </p:cTn>
                                        <p:tgtEl>
                                          <p:spTgt spid="127">
                                            <p:txEl>
                                              <p:pRg st="6" end="6"/>
                                            </p:txEl>
                                          </p:spTgt>
                                        </p:tgtEl>
                                        <p:attrNameLst>
                                          <p:attrName>style.visibility</p:attrName>
                                        </p:attrNameLst>
                                      </p:cBhvr>
                                      <p:to>
                                        <p:strVal val="visible"/>
                                      </p:to>
                                    </p:set>
                                    <p:anim calcmode="lin" valueType="num" from="(-#ppt_w/2)" to="(#ppt_x)">
                                      <p:cBhvr additive="repl">
                                        <p:cTn id="53" dur="600" fill="hold">
                                          <p:stCondLst>
                                            <p:cond delay="0"/>
                                          </p:stCondLst>
                                        </p:cTn>
                                        <p:tgtEl>
                                          <p:spTgt spid="127">
                                            <p:txEl>
                                              <p:pRg st="6" end="6"/>
                                            </p:txEl>
                                          </p:spTgt>
                                        </p:tgtEl>
                                        <p:attrNameLst>
                                          <p:attrName>ppt_x</p:attrName>
                                        </p:attrNameLst>
                                      </p:cBhvr>
                                    </p:anim>
                                    <p:anim calcmode="lin" valueType="num" from="0" to="-1">
                                      <p:cBhvr additive="repl">
                                        <p:cTn id="54" dur="200" autoRev="1" fill="hold">
                                          <p:stCondLst>
                                            <p:cond delay="600"/>
                                          </p:stCondLst>
                                        </p:cTn>
                                        <p:tgtEl>
                                          <p:spTgt spid="127">
                                            <p:txEl>
                                              <p:pRg st="6" end="6"/>
                                            </p:txEl>
                                          </p:spTgt>
                                        </p:tgtEl>
                                        <p:attrNameLst>
                                          <p:attrName>xshear</p:attrName>
                                        </p:attrNameLst>
                                      </p:cBhvr>
                                    </p:anim>
                                    <p:animScale>
                                      <p:cBhvr>
                                        <p:cTn id="55" dur="200" autoRev="1" fill="hold">
                                          <p:stCondLst>
                                            <p:cond delay="600"/>
                                          </p:stCondLst>
                                        </p:cTn>
                                        <p:tgtEl>
                                          <p:spTgt spid="127">
                                            <p:txEl>
                                              <p:pRg st="6" end="6"/>
                                            </p:txEl>
                                          </p:spTgt>
                                        </p:tgtEl>
                                      </p:cBhvr>
                                      <p:from x="100000" y="100000"/>
                                      <p:to x="80000" y="100000"/>
                                    </p:animScale>
                                    <p:anim calcmode="lin" valueType="num" by="(#ppt_h/3+#ppt_w*0.1)">
                                      <p:cBhvr additive="sum">
                                        <p:cTn id="56" dur="200" autoRev="1" fill="hold">
                                          <p:stCondLst>
                                            <p:cond delay="600"/>
                                          </p:stCondLst>
                                        </p:cTn>
                                        <p:tgtEl>
                                          <p:spTgt spid="127">
                                            <p:txEl>
                                              <p:pRg st="6" end="6"/>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5943600" y="228600"/>
            <a:ext cx="3043080" cy="3043080"/>
          </a:xfrm>
          <a:prstGeom prst="rect">
            <a:avLst/>
          </a:prstGeom>
          <a:ln w="0">
            <a:noFill/>
          </a:ln>
        </p:spPr>
      </p:pic>
      <p:sp>
        <p:nvSpPr>
          <p:cNvPr id="148" name=""/>
          <p:cNvSpPr/>
          <p:nvPr/>
        </p:nvSpPr>
        <p:spPr>
          <a:xfrm>
            <a:off x="0" y="3200400"/>
            <a:ext cx="9144000" cy="2955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hich type of pie is the most popular?</a:t>
            </a:r>
            <a:endParaRPr b="0" lang="en-US" sz="2200" spc="-1" strike="noStrike">
              <a:solidFill>
                <a:srgbClr val="ffffff"/>
              </a:solidFill>
              <a:latin typeface="Arial"/>
            </a:endParaRPr>
          </a:p>
          <a:p>
            <a:pPr>
              <a:lnSpc>
                <a:spcPct val="1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hat percentage of people selected pecan or cherry pie as their favorite?</a:t>
            </a:r>
            <a:endParaRPr b="0" lang="en-US" sz="2200" spc="-1" strike="noStrike">
              <a:solidFill>
                <a:srgbClr val="ffffff"/>
              </a:solidFill>
              <a:latin typeface="Arial"/>
            </a:endParaRPr>
          </a:p>
          <a:p>
            <a:pPr>
              <a:lnSpc>
                <a:spcPct val="1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f 200 people were surveyed, how many picked pumpkin pie as their favorite?</a:t>
            </a:r>
            <a:endParaRPr b="0" lang="en-US" sz="2200" spc="-1" strike="noStrike">
              <a:solidFill>
                <a:srgbClr val="ffffff"/>
              </a:solidFill>
              <a:latin typeface="Arial"/>
            </a:endParaRPr>
          </a:p>
        </p:txBody>
      </p:sp>
      <p:sp>
        <p:nvSpPr>
          <p:cNvPr id="149" name=""/>
          <p:cNvSpPr/>
          <p:nvPr/>
        </p:nvSpPr>
        <p:spPr>
          <a:xfrm>
            <a:off x="218520" y="112680"/>
            <a:ext cx="586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3edff"/>
                </a:solidFill>
                <a:latin typeface="Arial"/>
              </a:rPr>
              <a:t>Objective: Students will read and interpret Circle Graphs</a:t>
            </a:r>
            <a:endParaRPr b="0" lang="en-US" sz="1800" spc="-1" strike="noStrike">
              <a:solidFill>
                <a:srgbClr val="ffffff"/>
              </a:solidFill>
              <a:latin typeface="Arial"/>
            </a:endParaRPr>
          </a:p>
        </p:txBody>
      </p:sp>
      <p:sp>
        <p:nvSpPr>
          <p:cNvPr id="150" name=""/>
          <p:cNvSpPr/>
          <p:nvPr/>
        </p:nvSpPr>
        <p:spPr>
          <a:xfrm>
            <a:off x="5848200" y="3500280"/>
            <a:ext cx="947880" cy="285840"/>
          </a:xfrm>
          <a:custGeom>
            <a:avLst/>
            <a:gdLst/>
            <a:ahLst/>
            <a:rect l="l" t="t" r="r" b="b"/>
            <a:pathLst>
              <a:path w="2630" h="795">
                <a:moveTo>
                  <a:pt x="16694" y="10220"/>
                </a:moveTo>
                <a:cubicBezTo>
                  <a:pt x="16694" y="10076"/>
                  <a:pt x="16675" y="9867"/>
                  <a:pt x="16495" y="9823"/>
                </a:cubicBezTo>
                <a:cubicBezTo>
                  <a:pt x="16202" y="9751"/>
                  <a:pt x="16271" y="10164"/>
                  <a:pt x="16297" y="10294"/>
                </a:cubicBezTo>
                <a:cubicBezTo>
                  <a:pt x="16584" y="10327"/>
                  <a:pt x="16624" y="10281"/>
                  <a:pt x="16718" y="9996"/>
                </a:cubicBezTo>
                <a:cubicBezTo>
                  <a:pt x="16775" y="10125"/>
                  <a:pt x="16845" y="10257"/>
                  <a:pt x="17016" y="10244"/>
                </a:cubicBezTo>
                <a:cubicBezTo>
                  <a:pt x="17203" y="10230"/>
                  <a:pt x="17085" y="9969"/>
                  <a:pt x="17165" y="9996"/>
                </a:cubicBezTo>
                <a:cubicBezTo>
                  <a:pt x="17191" y="10161"/>
                  <a:pt x="17310" y="10486"/>
                  <a:pt x="17214" y="10468"/>
                </a:cubicBezTo>
                <a:cubicBezTo>
                  <a:pt x="17106" y="10144"/>
                  <a:pt x="17053" y="10003"/>
                  <a:pt x="17363" y="9847"/>
                </a:cubicBezTo>
                <a:cubicBezTo>
                  <a:pt x="17491" y="9999"/>
                  <a:pt x="17617" y="10243"/>
                  <a:pt x="17289" y="10294"/>
                </a:cubicBezTo>
                <a:cubicBezTo>
                  <a:pt x="17198" y="10271"/>
                  <a:pt x="17167" y="10270"/>
                  <a:pt x="17165" y="10195"/>
                </a:cubicBezTo>
              </a:path>
              <a:path w="2630" h="795">
                <a:moveTo>
                  <a:pt x="17611" y="10071"/>
                </a:moveTo>
                <a:cubicBezTo>
                  <a:pt x="17626" y="10117"/>
                  <a:pt x="17744" y="10522"/>
                  <a:pt x="17735" y="10517"/>
                </a:cubicBezTo>
                <a:cubicBezTo>
                  <a:pt x="17710" y="10492"/>
                  <a:pt x="17686" y="10468"/>
                  <a:pt x="17661" y="10443"/>
                </a:cubicBezTo>
                <a:cubicBezTo>
                  <a:pt x="17576" y="10129"/>
                  <a:pt x="17504" y="10003"/>
                  <a:pt x="17835" y="9897"/>
                </a:cubicBezTo>
                <a:cubicBezTo>
                  <a:pt x="17879" y="9975"/>
                  <a:pt x="18033" y="10435"/>
                  <a:pt x="17711" y="10294"/>
                </a:cubicBezTo>
                <a:cubicBezTo>
                  <a:pt x="17678" y="10253"/>
                  <a:pt x="17644" y="10211"/>
                  <a:pt x="17611" y="10170"/>
                </a:cubicBezTo>
              </a:path>
              <a:path w="2630" h="795">
                <a:moveTo>
                  <a:pt x="18083" y="9723"/>
                </a:moveTo>
                <a:cubicBezTo>
                  <a:pt x="18129" y="9822"/>
                  <a:pt x="18255" y="10170"/>
                  <a:pt x="18331" y="10170"/>
                </a:cubicBezTo>
              </a:path>
              <a:path w="2630" h="795">
                <a:moveTo>
                  <a:pt x="18455" y="9922"/>
                </a:moveTo>
                <a:cubicBezTo>
                  <a:pt x="18545" y="9904"/>
                  <a:pt x="18766" y="9900"/>
                  <a:pt x="18827" y="9823"/>
                </a:cubicBezTo>
                <a:cubicBezTo>
                  <a:pt x="18827" y="9788"/>
                  <a:pt x="18822" y="9770"/>
                  <a:pt x="18802" y="9748"/>
                </a:cubicBezTo>
                <a:cubicBezTo>
                  <a:pt x="18599" y="9737"/>
                  <a:pt x="18370" y="9820"/>
                  <a:pt x="18455" y="10096"/>
                </a:cubicBezTo>
                <a:cubicBezTo>
                  <a:pt x="18528" y="10335"/>
                  <a:pt x="18732" y="10213"/>
                  <a:pt x="18876" y="10170"/>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089840" y="3384720"/>
            <a:ext cx="2036520" cy="571320"/>
          </a:xfrm>
          <a:custGeom>
            <a:avLst/>
            <a:gdLst/>
            <a:ahLst/>
            <a:rect l="l" t="t" r="r" b="b"/>
            <a:pathLst>
              <a:path w="5656" h="1588">
                <a:moveTo>
                  <a:pt x="19695" y="9649"/>
                </a:moveTo>
                <a:cubicBezTo>
                  <a:pt x="19775" y="9643"/>
                  <a:pt x="20129" y="9548"/>
                  <a:pt x="20166" y="9674"/>
                </a:cubicBezTo>
                <a:cubicBezTo>
                  <a:pt x="20188" y="9750"/>
                  <a:pt x="19967" y="9841"/>
                  <a:pt x="19918" y="9872"/>
                </a:cubicBezTo>
                <a:cubicBezTo>
                  <a:pt x="20114" y="9806"/>
                  <a:pt x="20213" y="9886"/>
                  <a:pt x="20340" y="10021"/>
                </a:cubicBezTo>
                <a:cubicBezTo>
                  <a:pt x="20136" y="10180"/>
                  <a:pt x="20033" y="10222"/>
                  <a:pt x="19844" y="10046"/>
                </a:cubicBezTo>
              </a:path>
              <a:path w="5656" h="1588">
                <a:moveTo>
                  <a:pt x="20513" y="9525"/>
                </a:moveTo>
                <a:cubicBezTo>
                  <a:pt x="20465" y="9686"/>
                  <a:pt x="20386" y="9915"/>
                  <a:pt x="20489" y="10071"/>
                </a:cubicBezTo>
                <a:cubicBezTo>
                  <a:pt x="20652" y="10319"/>
                  <a:pt x="20803" y="9952"/>
                  <a:pt x="20836" y="9847"/>
                </a:cubicBezTo>
                <a:cubicBezTo>
                  <a:pt x="20819" y="9822"/>
                  <a:pt x="20803" y="9798"/>
                  <a:pt x="20786" y="9773"/>
                </a:cubicBezTo>
                <a:cubicBezTo>
                  <a:pt x="20673" y="9872"/>
                  <a:pt x="20529" y="9956"/>
                  <a:pt x="20613" y="10096"/>
                </a:cubicBezTo>
              </a:path>
              <a:path w="5656" h="1588">
                <a:moveTo>
                  <a:pt x="21208" y="9475"/>
                </a:moveTo>
                <a:cubicBezTo>
                  <a:pt x="21117" y="9445"/>
                  <a:pt x="20997" y="9382"/>
                  <a:pt x="20935" y="9525"/>
                </a:cubicBezTo>
                <a:cubicBezTo>
                  <a:pt x="20935" y="9558"/>
                  <a:pt x="20935" y="9591"/>
                  <a:pt x="20935" y="9624"/>
                </a:cubicBezTo>
                <a:cubicBezTo>
                  <a:pt x="21185" y="9643"/>
                  <a:pt x="21054" y="9541"/>
                  <a:pt x="21134" y="9426"/>
                </a:cubicBezTo>
                <a:cubicBezTo>
                  <a:pt x="21159" y="9418"/>
                  <a:pt x="21183" y="9409"/>
                  <a:pt x="21208" y="9401"/>
                </a:cubicBezTo>
                <a:cubicBezTo>
                  <a:pt x="21452" y="9551"/>
                  <a:pt x="21459" y="9720"/>
                  <a:pt x="21332" y="9996"/>
                </a:cubicBezTo>
                <a:cubicBezTo>
                  <a:pt x="21256" y="10111"/>
                  <a:pt x="21259" y="10142"/>
                  <a:pt x="21183" y="10170"/>
                </a:cubicBezTo>
              </a:path>
              <a:path w="5656" h="1588">
                <a:moveTo>
                  <a:pt x="21481" y="9922"/>
                </a:moveTo>
                <a:cubicBezTo>
                  <a:pt x="21437" y="10032"/>
                  <a:pt x="21412" y="10061"/>
                  <a:pt x="21481" y="10120"/>
                </a:cubicBezTo>
                <a:cubicBezTo>
                  <a:pt x="21610" y="10130"/>
                  <a:pt x="21800" y="10021"/>
                  <a:pt x="21630" y="9872"/>
                </a:cubicBezTo>
                <a:cubicBezTo>
                  <a:pt x="21529" y="9847"/>
                  <a:pt x="21496" y="9838"/>
                  <a:pt x="21456" y="9773"/>
                </a:cubicBezTo>
              </a:path>
              <a:path w="5656" h="1588">
                <a:moveTo>
                  <a:pt x="21828" y="9401"/>
                </a:moveTo>
                <a:cubicBezTo>
                  <a:pt x="22002" y="9508"/>
                  <a:pt x="22168" y="9517"/>
                  <a:pt x="22374" y="9525"/>
                </a:cubicBezTo>
                <a:cubicBezTo>
                  <a:pt x="22334" y="9742"/>
                  <a:pt x="22215" y="9924"/>
                  <a:pt x="22200" y="10145"/>
                </a:cubicBezTo>
                <a:cubicBezTo>
                  <a:pt x="22208" y="10145"/>
                  <a:pt x="22217" y="10145"/>
                  <a:pt x="22225" y="10145"/>
                </a:cubicBezTo>
              </a:path>
              <a:path w="5656" h="1588">
                <a:moveTo>
                  <a:pt x="22845" y="9773"/>
                </a:moveTo>
                <a:cubicBezTo>
                  <a:pt x="22716" y="9684"/>
                  <a:pt x="22604" y="9586"/>
                  <a:pt x="22547" y="9897"/>
                </a:cubicBezTo>
                <a:cubicBezTo>
                  <a:pt x="22490" y="10208"/>
                  <a:pt x="22765" y="10132"/>
                  <a:pt x="22820" y="9897"/>
                </a:cubicBezTo>
                <a:cubicBezTo>
                  <a:pt x="22820" y="9864"/>
                  <a:pt x="22820" y="9831"/>
                  <a:pt x="22820" y="9798"/>
                </a:cubicBezTo>
                <a:cubicBezTo>
                  <a:pt x="22812" y="9806"/>
                  <a:pt x="22804" y="9815"/>
                  <a:pt x="22796" y="9823"/>
                </a:cubicBezTo>
                <a:cubicBezTo>
                  <a:pt x="22877" y="9929"/>
                  <a:pt x="22995" y="10123"/>
                  <a:pt x="23118" y="9947"/>
                </a:cubicBezTo>
                <a:cubicBezTo>
                  <a:pt x="23221" y="9800"/>
                  <a:pt x="23135" y="9649"/>
                  <a:pt x="23093" y="9500"/>
                </a:cubicBezTo>
                <a:cubicBezTo>
                  <a:pt x="23107" y="9645"/>
                  <a:pt x="23112" y="9979"/>
                  <a:pt x="23292" y="10046"/>
                </a:cubicBezTo>
                <a:cubicBezTo>
                  <a:pt x="23463" y="10109"/>
                  <a:pt x="23426" y="9545"/>
                  <a:pt x="23416" y="9475"/>
                </a:cubicBezTo>
                <a:cubicBezTo>
                  <a:pt x="23388" y="9448"/>
                  <a:pt x="23379" y="9444"/>
                  <a:pt x="23391" y="9500"/>
                </a:cubicBezTo>
                <a:cubicBezTo>
                  <a:pt x="23485" y="9704"/>
                  <a:pt x="23530" y="9909"/>
                  <a:pt x="23688" y="10046"/>
                </a:cubicBezTo>
              </a:path>
              <a:path w="5656" h="1588">
                <a:moveTo>
                  <a:pt x="24135" y="9624"/>
                </a:moveTo>
                <a:cubicBezTo>
                  <a:pt x="24171" y="9570"/>
                  <a:pt x="24083" y="9646"/>
                  <a:pt x="24085" y="9748"/>
                </a:cubicBezTo>
                <a:cubicBezTo>
                  <a:pt x="24089" y="9917"/>
                  <a:pt x="24130" y="9953"/>
                  <a:pt x="24259" y="9996"/>
                </a:cubicBezTo>
                <a:cubicBezTo>
                  <a:pt x="24259" y="9832"/>
                  <a:pt x="24217" y="9791"/>
                  <a:pt x="24160" y="9649"/>
                </a:cubicBezTo>
                <a:cubicBezTo>
                  <a:pt x="24160" y="9641"/>
                  <a:pt x="24160" y="9632"/>
                  <a:pt x="24160" y="9624"/>
                </a:cubicBezTo>
              </a:path>
              <a:path w="5656" h="1588">
                <a:moveTo>
                  <a:pt x="24284" y="9451"/>
                </a:moveTo>
                <a:cubicBezTo>
                  <a:pt x="24336" y="9632"/>
                  <a:pt x="24404" y="9811"/>
                  <a:pt x="24433" y="9996"/>
                </a:cubicBezTo>
              </a:path>
              <a:path w="5656" h="1588">
                <a:moveTo>
                  <a:pt x="24209" y="9674"/>
                </a:moveTo>
                <a:cubicBezTo>
                  <a:pt x="24235" y="9779"/>
                  <a:pt x="24354" y="10023"/>
                  <a:pt x="24507" y="9847"/>
                </a:cubicBezTo>
                <a:cubicBezTo>
                  <a:pt x="24565" y="9703"/>
                  <a:pt x="24584" y="9640"/>
                  <a:pt x="24581" y="9525"/>
                </a:cubicBezTo>
                <a:cubicBezTo>
                  <a:pt x="24581" y="9492"/>
                  <a:pt x="24581" y="9459"/>
                  <a:pt x="24581" y="9426"/>
                </a:cubicBezTo>
                <a:cubicBezTo>
                  <a:pt x="24545" y="9519"/>
                  <a:pt x="24627" y="9738"/>
                  <a:pt x="24656" y="9872"/>
                </a:cubicBezTo>
                <a:cubicBezTo>
                  <a:pt x="24656" y="9783"/>
                  <a:pt x="24669" y="9655"/>
                  <a:pt x="24705" y="9575"/>
                </a:cubicBezTo>
                <a:cubicBezTo>
                  <a:pt x="24727" y="9527"/>
                  <a:pt x="24892" y="9856"/>
                  <a:pt x="24904" y="9872"/>
                </a:cubicBezTo>
                <a:cubicBezTo>
                  <a:pt x="24945" y="9872"/>
                  <a:pt x="24954" y="9856"/>
                  <a:pt x="24929" y="9798"/>
                </a:cubicBezTo>
              </a:path>
              <a:path w="5656" h="1588">
                <a:moveTo>
                  <a:pt x="24929" y="9699"/>
                </a:moveTo>
                <a:cubicBezTo>
                  <a:pt x="24971" y="9623"/>
                  <a:pt x="25014" y="9562"/>
                  <a:pt x="25028" y="9475"/>
                </a:cubicBezTo>
                <a:cubicBezTo>
                  <a:pt x="24927" y="9563"/>
                  <a:pt x="24915" y="9618"/>
                  <a:pt x="24954" y="9748"/>
                </a:cubicBezTo>
                <a:cubicBezTo>
                  <a:pt x="25031" y="9737"/>
                  <a:pt x="25204" y="9719"/>
                  <a:pt x="25226" y="9699"/>
                </a:cubicBezTo>
                <a:cubicBezTo>
                  <a:pt x="25276" y="9655"/>
                  <a:pt x="25312" y="9582"/>
                  <a:pt x="25350" y="9550"/>
                </a:cubicBezTo>
              </a:path>
              <a:path w="5656" h="1588">
                <a:moveTo>
                  <a:pt x="23540" y="10269"/>
                </a:moveTo>
                <a:cubicBezTo>
                  <a:pt x="23464" y="10368"/>
                  <a:pt x="23396" y="10458"/>
                  <a:pt x="23341" y="10567"/>
                </a:cubicBezTo>
                <a:cubicBezTo>
                  <a:pt x="23539" y="10584"/>
                  <a:pt x="23470" y="10500"/>
                  <a:pt x="23515" y="10344"/>
                </a:cubicBezTo>
                <a:cubicBezTo>
                  <a:pt x="23523" y="10336"/>
                  <a:pt x="23532" y="10327"/>
                  <a:pt x="23540" y="10319"/>
                </a:cubicBezTo>
                <a:cubicBezTo>
                  <a:pt x="23785" y="10423"/>
                  <a:pt x="23819" y="10532"/>
                  <a:pt x="23688" y="10790"/>
                </a:cubicBezTo>
                <a:cubicBezTo>
                  <a:pt x="23609" y="10909"/>
                  <a:pt x="23602" y="10932"/>
                  <a:pt x="23540" y="10988"/>
                </a:cubicBezTo>
              </a:path>
              <a:path w="5656" h="1588">
                <a:moveTo>
                  <a:pt x="24061" y="10616"/>
                </a:moveTo>
                <a:cubicBezTo>
                  <a:pt x="23972" y="10673"/>
                  <a:pt x="23959" y="10678"/>
                  <a:pt x="23937" y="10790"/>
                </a:cubicBezTo>
                <a:cubicBezTo>
                  <a:pt x="24007" y="10795"/>
                  <a:pt x="24284" y="10739"/>
                  <a:pt x="24110" y="10616"/>
                </a:cubicBezTo>
                <a:cubicBezTo>
                  <a:pt x="24036" y="10598"/>
                  <a:pt x="24003" y="10616"/>
                  <a:pt x="24011" y="10567"/>
                </a:cubicBezTo>
              </a:path>
              <a:path w="5656" h="1588">
                <a:moveTo>
                  <a:pt x="24209" y="10443"/>
                </a:moveTo>
                <a:cubicBezTo>
                  <a:pt x="24184" y="10451"/>
                  <a:pt x="24160" y="10460"/>
                  <a:pt x="24135" y="10468"/>
                </a:cubicBezTo>
                <a:cubicBezTo>
                  <a:pt x="24199" y="10513"/>
                  <a:pt x="24261" y="10539"/>
                  <a:pt x="24333" y="10567"/>
                </a:cubicBezTo>
                <a:cubicBezTo>
                  <a:pt x="24283" y="10720"/>
                  <a:pt x="24234" y="10711"/>
                  <a:pt x="24135" y="10641"/>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3857760" y="4599000"/>
            <a:ext cx="152280" cy="81000"/>
          </a:xfrm>
          <a:custGeom>
            <a:avLst/>
            <a:gdLst/>
            <a:ahLst/>
            <a:rect l="l" t="t" r="r" b="b"/>
            <a:pathLst>
              <a:path w="422" h="225">
                <a:moveTo>
                  <a:pt x="10716" y="12824"/>
                </a:moveTo>
                <a:cubicBezTo>
                  <a:pt x="10834" y="12798"/>
                  <a:pt x="10943" y="12781"/>
                  <a:pt x="11063" y="12774"/>
                </a:cubicBezTo>
              </a:path>
              <a:path w="422" h="225">
                <a:moveTo>
                  <a:pt x="10765" y="12998"/>
                </a:moveTo>
                <a:cubicBezTo>
                  <a:pt x="10949" y="12998"/>
                  <a:pt x="11017" y="12996"/>
                  <a:pt x="11137" y="12948"/>
                </a:cubicBezTo>
              </a:path>
            </a:pathLst>
          </a:custGeom>
          <a:noFill/>
          <a:ln cap="rnd" w="34920">
            <a:solidFill>
              <a:srgbClr val="ffffff"/>
            </a:solidFill>
            <a:round/>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53" name=""/>
          <p:cNvSpPr/>
          <p:nvPr/>
        </p:nvSpPr>
        <p:spPr>
          <a:xfrm>
            <a:off x="2608200" y="4581360"/>
            <a:ext cx="384120" cy="187560"/>
          </a:xfrm>
          <a:custGeom>
            <a:avLst/>
            <a:gdLst/>
            <a:ahLst/>
            <a:rect l="l" t="t" r="r" b="b"/>
            <a:pathLst>
              <a:path w="1068" h="522">
                <a:moveTo>
                  <a:pt x="7367" y="12824"/>
                </a:moveTo>
                <a:cubicBezTo>
                  <a:pt x="7445" y="12798"/>
                  <a:pt x="7463" y="12798"/>
                  <a:pt x="7541" y="12824"/>
                </a:cubicBezTo>
                <a:cubicBezTo>
                  <a:pt x="7521" y="13025"/>
                  <a:pt x="7425" y="13019"/>
                  <a:pt x="7293" y="13146"/>
                </a:cubicBezTo>
                <a:cubicBezTo>
                  <a:pt x="7276" y="13171"/>
                  <a:pt x="7260" y="13196"/>
                  <a:pt x="7243" y="13221"/>
                </a:cubicBezTo>
                <a:cubicBezTo>
                  <a:pt x="7367" y="13268"/>
                  <a:pt x="7528" y="13252"/>
                  <a:pt x="7665" y="13221"/>
                </a:cubicBezTo>
                <a:cubicBezTo>
                  <a:pt x="7690" y="13213"/>
                  <a:pt x="7714" y="13204"/>
                  <a:pt x="7739" y="13196"/>
                </a:cubicBezTo>
              </a:path>
              <a:path w="1068" h="522">
                <a:moveTo>
                  <a:pt x="7938" y="12774"/>
                </a:moveTo>
                <a:cubicBezTo>
                  <a:pt x="8046" y="12774"/>
                  <a:pt x="8095" y="12719"/>
                  <a:pt x="8210" y="12750"/>
                </a:cubicBezTo>
                <a:cubicBezTo>
                  <a:pt x="8218" y="12758"/>
                  <a:pt x="8227" y="12766"/>
                  <a:pt x="8235" y="12774"/>
                </a:cubicBezTo>
                <a:cubicBezTo>
                  <a:pt x="8184" y="12877"/>
                  <a:pt x="8165" y="12896"/>
                  <a:pt x="8062" y="12948"/>
                </a:cubicBezTo>
                <a:cubicBezTo>
                  <a:pt x="8127" y="12948"/>
                  <a:pt x="8234" y="12923"/>
                  <a:pt x="8285" y="12973"/>
                </a:cubicBezTo>
                <a:cubicBezTo>
                  <a:pt x="8407" y="13093"/>
                  <a:pt x="8126" y="13203"/>
                  <a:pt x="8062" y="13221"/>
                </a:cubicBezTo>
                <a:cubicBezTo>
                  <a:pt x="8045" y="13221"/>
                  <a:pt x="8029" y="13221"/>
                  <a:pt x="8012" y="13221"/>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3197160" y="4572000"/>
            <a:ext cx="392040" cy="179280"/>
          </a:xfrm>
          <a:custGeom>
            <a:avLst/>
            <a:gdLst/>
            <a:ahLst/>
            <a:rect l="l" t="t" r="r" b="b"/>
            <a:pathLst>
              <a:path w="1092" h="497">
                <a:moveTo>
                  <a:pt x="9004" y="12799"/>
                </a:moveTo>
                <a:cubicBezTo>
                  <a:pt x="9020" y="12783"/>
                  <a:pt x="9078" y="12954"/>
                  <a:pt x="9103" y="13022"/>
                </a:cubicBezTo>
                <a:cubicBezTo>
                  <a:pt x="9103" y="13050"/>
                  <a:pt x="9105" y="13061"/>
                  <a:pt x="9128" y="13072"/>
                </a:cubicBezTo>
              </a:path>
              <a:path w="1092" h="497">
                <a:moveTo>
                  <a:pt x="8880" y="12973"/>
                </a:moveTo>
                <a:cubicBezTo>
                  <a:pt x="9013" y="12956"/>
                  <a:pt x="9145" y="12917"/>
                  <a:pt x="9277" y="12898"/>
                </a:cubicBezTo>
                <a:cubicBezTo>
                  <a:pt x="9322" y="12898"/>
                  <a:pt x="9335" y="12894"/>
                  <a:pt x="9351" y="12923"/>
                </a:cubicBezTo>
              </a:path>
              <a:path w="1092" h="497">
                <a:moveTo>
                  <a:pt x="9823" y="12700"/>
                </a:moveTo>
                <a:cubicBezTo>
                  <a:pt x="9722" y="12700"/>
                  <a:pt x="9688" y="12700"/>
                  <a:pt x="9624" y="12725"/>
                </a:cubicBezTo>
                <a:cubicBezTo>
                  <a:pt x="9576" y="12869"/>
                  <a:pt x="9779" y="12926"/>
                  <a:pt x="9872" y="13022"/>
                </a:cubicBezTo>
                <a:cubicBezTo>
                  <a:pt x="9991" y="13145"/>
                  <a:pt x="9846" y="13180"/>
                  <a:pt x="9748" y="13196"/>
                </a:cubicBezTo>
                <a:cubicBezTo>
                  <a:pt x="9770" y="13029"/>
                  <a:pt x="9823" y="12875"/>
                  <a:pt x="9947" y="12750"/>
                </a:cubicBezTo>
                <a:cubicBezTo>
                  <a:pt x="9955" y="12750"/>
                  <a:pt x="9963" y="12750"/>
                  <a:pt x="9971" y="12750"/>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4098960" y="4473720"/>
            <a:ext cx="714240" cy="277560"/>
          </a:xfrm>
          <a:custGeom>
            <a:avLst/>
            <a:gdLst/>
            <a:ahLst/>
            <a:rect l="l" t="t" r="r" b="b"/>
            <a:pathLst>
              <a:path w="1986" h="770">
                <a:moveTo>
                  <a:pt x="11385" y="12576"/>
                </a:moveTo>
                <a:cubicBezTo>
                  <a:pt x="11440" y="12576"/>
                  <a:pt x="11803" y="12546"/>
                  <a:pt x="11708" y="12700"/>
                </a:cubicBezTo>
                <a:cubicBezTo>
                  <a:pt x="11614" y="12771"/>
                  <a:pt x="11585" y="12791"/>
                  <a:pt x="11534" y="12849"/>
                </a:cubicBezTo>
                <a:cubicBezTo>
                  <a:pt x="11672" y="12893"/>
                  <a:pt x="11747" y="12921"/>
                  <a:pt x="11832" y="13022"/>
                </a:cubicBezTo>
                <a:cubicBezTo>
                  <a:pt x="11705" y="13158"/>
                  <a:pt x="11617" y="13272"/>
                  <a:pt x="11485" y="13122"/>
                </a:cubicBezTo>
              </a:path>
              <a:path w="1986" h="770">
                <a:moveTo>
                  <a:pt x="12154" y="12576"/>
                </a:moveTo>
                <a:cubicBezTo>
                  <a:pt x="12181" y="12767"/>
                  <a:pt x="12208" y="12961"/>
                  <a:pt x="12254" y="13146"/>
                </a:cubicBezTo>
                <a:cubicBezTo>
                  <a:pt x="12254" y="13138"/>
                  <a:pt x="12254" y="13130"/>
                  <a:pt x="12254" y="13122"/>
                </a:cubicBezTo>
              </a:path>
              <a:path w="1986" h="770">
                <a:moveTo>
                  <a:pt x="12650" y="12502"/>
                </a:moveTo>
                <a:cubicBezTo>
                  <a:pt x="12584" y="12613"/>
                  <a:pt x="12559" y="12639"/>
                  <a:pt x="12576" y="12725"/>
                </a:cubicBezTo>
                <a:cubicBezTo>
                  <a:pt x="12787" y="12738"/>
                  <a:pt x="12789" y="12685"/>
                  <a:pt x="12799" y="12477"/>
                </a:cubicBezTo>
                <a:cubicBezTo>
                  <a:pt x="12799" y="12469"/>
                  <a:pt x="12799" y="12460"/>
                  <a:pt x="12799" y="12452"/>
                </a:cubicBezTo>
                <a:cubicBezTo>
                  <a:pt x="13001" y="12438"/>
                  <a:pt x="13177" y="12497"/>
                  <a:pt x="13097" y="12750"/>
                </a:cubicBezTo>
                <a:cubicBezTo>
                  <a:pt x="13058" y="12872"/>
                  <a:pt x="12854" y="13051"/>
                  <a:pt x="12874" y="13146"/>
                </a:cubicBezTo>
              </a:path>
              <a:path w="1986" h="770">
                <a:moveTo>
                  <a:pt x="13097" y="13122"/>
                </a:moveTo>
                <a:cubicBezTo>
                  <a:pt x="13224" y="13202"/>
                  <a:pt x="13275" y="13223"/>
                  <a:pt x="13370" y="13097"/>
                </a:cubicBezTo>
                <a:cubicBezTo>
                  <a:pt x="13278" y="13074"/>
                  <a:pt x="13253" y="13068"/>
                  <a:pt x="13196" y="13047"/>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2455920" y="5742000"/>
            <a:ext cx="741240" cy="295200"/>
          </a:xfrm>
          <a:custGeom>
            <a:avLst/>
            <a:gdLst/>
            <a:ahLst/>
            <a:rect l="l" t="t" r="r" b="b"/>
            <a:pathLst>
              <a:path w="2060" h="820">
                <a:moveTo>
                  <a:pt x="6846" y="16073"/>
                </a:moveTo>
                <a:cubicBezTo>
                  <a:pt x="6863" y="16025"/>
                  <a:pt x="7072" y="15994"/>
                  <a:pt x="7119" y="15999"/>
                </a:cubicBezTo>
                <a:cubicBezTo>
                  <a:pt x="7369" y="16028"/>
                  <a:pt x="7337" y="16162"/>
                  <a:pt x="7193" y="16297"/>
                </a:cubicBezTo>
                <a:cubicBezTo>
                  <a:pt x="7118" y="16353"/>
                  <a:pt x="7105" y="16357"/>
                  <a:pt x="7069" y="16396"/>
                </a:cubicBezTo>
                <a:cubicBezTo>
                  <a:pt x="7205" y="16414"/>
                  <a:pt x="7337" y="16453"/>
                  <a:pt x="7218" y="16619"/>
                </a:cubicBezTo>
                <a:cubicBezTo>
                  <a:pt x="7103" y="16780"/>
                  <a:pt x="6991" y="16758"/>
                  <a:pt x="6821" y="16743"/>
                </a:cubicBezTo>
              </a:path>
              <a:path w="2060" h="820">
                <a:moveTo>
                  <a:pt x="7615" y="16024"/>
                </a:moveTo>
                <a:cubicBezTo>
                  <a:pt x="7529" y="16182"/>
                  <a:pt x="7332" y="16476"/>
                  <a:pt x="7417" y="16669"/>
                </a:cubicBezTo>
                <a:cubicBezTo>
                  <a:pt x="7450" y="16694"/>
                  <a:pt x="7483" y="16718"/>
                  <a:pt x="7516" y="16743"/>
                </a:cubicBezTo>
                <a:cubicBezTo>
                  <a:pt x="7715" y="16667"/>
                  <a:pt x="7967" y="16520"/>
                  <a:pt x="7838" y="16247"/>
                </a:cubicBezTo>
                <a:cubicBezTo>
                  <a:pt x="7767" y="16096"/>
                  <a:pt x="7649" y="16108"/>
                  <a:pt x="7516" y="16098"/>
                </a:cubicBezTo>
              </a:path>
              <a:path w="2060" h="820">
                <a:moveTo>
                  <a:pt x="8012" y="15999"/>
                </a:moveTo>
                <a:cubicBezTo>
                  <a:pt x="7916" y="16109"/>
                  <a:pt x="7885" y="16096"/>
                  <a:pt x="7913" y="16222"/>
                </a:cubicBezTo>
                <a:cubicBezTo>
                  <a:pt x="8107" y="16192"/>
                  <a:pt x="8084" y="16101"/>
                  <a:pt x="8210" y="15974"/>
                </a:cubicBezTo>
                <a:cubicBezTo>
                  <a:pt x="8309" y="15874"/>
                  <a:pt x="8493" y="16017"/>
                  <a:pt x="8508" y="16123"/>
                </a:cubicBezTo>
                <a:cubicBezTo>
                  <a:pt x="8541" y="16358"/>
                  <a:pt x="8357" y="16590"/>
                  <a:pt x="8235" y="16768"/>
                </a:cubicBezTo>
              </a:path>
              <a:path w="2060" h="820">
                <a:moveTo>
                  <a:pt x="8706" y="16495"/>
                </a:moveTo>
                <a:cubicBezTo>
                  <a:pt x="8621" y="16580"/>
                  <a:pt x="8595" y="16593"/>
                  <a:pt x="8582" y="16669"/>
                </a:cubicBezTo>
                <a:cubicBezTo>
                  <a:pt x="8697" y="16721"/>
                  <a:pt x="8880" y="16765"/>
                  <a:pt x="8880" y="16570"/>
                </a:cubicBezTo>
                <a:cubicBezTo>
                  <a:pt x="8880" y="16491"/>
                  <a:pt x="8783" y="16502"/>
                  <a:pt x="8731" y="16495"/>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3510000" y="5715000"/>
            <a:ext cx="438120" cy="312840"/>
          </a:xfrm>
          <a:custGeom>
            <a:avLst/>
            <a:gdLst/>
            <a:ahLst/>
            <a:rect l="l" t="t" r="r" b="b"/>
            <a:pathLst>
              <a:path w="1217" h="869">
                <a:moveTo>
                  <a:pt x="9897" y="16247"/>
                </a:moveTo>
                <a:cubicBezTo>
                  <a:pt x="9782" y="16316"/>
                  <a:pt x="9708" y="16527"/>
                  <a:pt x="9748" y="16669"/>
                </a:cubicBezTo>
                <a:cubicBezTo>
                  <a:pt x="9773" y="16694"/>
                  <a:pt x="9798" y="16718"/>
                  <a:pt x="9823" y="16743"/>
                </a:cubicBezTo>
                <a:cubicBezTo>
                  <a:pt x="10035" y="16718"/>
                  <a:pt x="10344" y="16672"/>
                  <a:pt x="10244" y="16371"/>
                </a:cubicBezTo>
                <a:cubicBezTo>
                  <a:pt x="10160" y="16287"/>
                  <a:pt x="10120" y="16262"/>
                  <a:pt x="10021" y="16297"/>
                </a:cubicBezTo>
                <a:cubicBezTo>
                  <a:pt x="9882" y="16308"/>
                  <a:pt x="9883" y="16318"/>
                  <a:pt x="10046" y="16297"/>
                </a:cubicBezTo>
              </a:path>
              <a:path w="1217" h="869">
                <a:moveTo>
                  <a:pt x="10691" y="15875"/>
                </a:moveTo>
                <a:cubicBezTo>
                  <a:pt x="10502" y="16087"/>
                  <a:pt x="10546" y="16192"/>
                  <a:pt x="10641" y="16470"/>
                </a:cubicBezTo>
                <a:cubicBezTo>
                  <a:pt x="10670" y="16556"/>
                  <a:pt x="10718" y="16640"/>
                  <a:pt x="10691" y="16694"/>
                </a:cubicBezTo>
              </a:path>
              <a:path w="1217" h="869">
                <a:moveTo>
                  <a:pt x="10269" y="16321"/>
                </a:moveTo>
                <a:cubicBezTo>
                  <a:pt x="10498" y="16312"/>
                  <a:pt x="10715" y="16265"/>
                  <a:pt x="10939" y="16247"/>
                </a:cubicBezTo>
                <a:cubicBezTo>
                  <a:pt x="10947" y="16247"/>
                  <a:pt x="10956" y="16247"/>
                  <a:pt x="10964" y="16247"/>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4232160" y="5759280"/>
            <a:ext cx="723960" cy="277920"/>
          </a:xfrm>
          <a:custGeom>
            <a:avLst/>
            <a:gdLst/>
            <a:ahLst/>
            <a:rect l="l" t="t" r="r" b="b"/>
            <a:pathLst>
              <a:path w="2011" h="770">
                <a:moveTo>
                  <a:pt x="11807" y="15999"/>
                </a:moveTo>
                <a:cubicBezTo>
                  <a:pt x="11978" y="16033"/>
                  <a:pt x="12100" y="16071"/>
                  <a:pt x="12254" y="16148"/>
                </a:cubicBezTo>
                <a:cubicBezTo>
                  <a:pt x="12184" y="16437"/>
                  <a:pt x="12010" y="16537"/>
                  <a:pt x="11782" y="16743"/>
                </a:cubicBezTo>
                <a:cubicBezTo>
                  <a:pt x="11805" y="16813"/>
                  <a:pt x="12188" y="16737"/>
                  <a:pt x="12328" y="16718"/>
                </a:cubicBezTo>
                <a:cubicBezTo>
                  <a:pt x="12378" y="16710"/>
                  <a:pt x="12427" y="16702"/>
                  <a:pt x="12477" y="16694"/>
                </a:cubicBezTo>
              </a:path>
              <a:path w="2011" h="770">
                <a:moveTo>
                  <a:pt x="12700" y="16073"/>
                </a:moveTo>
                <a:cubicBezTo>
                  <a:pt x="12507" y="16196"/>
                  <a:pt x="12298" y="16342"/>
                  <a:pt x="12477" y="16594"/>
                </a:cubicBezTo>
                <a:cubicBezTo>
                  <a:pt x="12651" y="16838"/>
                  <a:pt x="12976" y="16647"/>
                  <a:pt x="13047" y="16421"/>
                </a:cubicBezTo>
                <a:cubicBezTo>
                  <a:pt x="13138" y="16133"/>
                  <a:pt x="12813" y="16115"/>
                  <a:pt x="12626" y="16098"/>
                </a:cubicBezTo>
              </a:path>
              <a:path w="2011" h="770">
                <a:moveTo>
                  <a:pt x="13494" y="16024"/>
                </a:moveTo>
                <a:cubicBezTo>
                  <a:pt x="13204" y="16230"/>
                  <a:pt x="13037" y="16341"/>
                  <a:pt x="13146" y="16669"/>
                </a:cubicBezTo>
                <a:cubicBezTo>
                  <a:pt x="13492" y="16696"/>
                  <a:pt x="13505" y="16694"/>
                  <a:pt x="13767" y="16470"/>
                </a:cubicBezTo>
                <a:cubicBezTo>
                  <a:pt x="13686" y="16138"/>
                  <a:pt x="13656" y="16058"/>
                  <a:pt x="13295" y="16073"/>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2098800" y="6215040"/>
            <a:ext cx="108000" cy="115920"/>
          </a:xfrm>
          <a:custGeom>
            <a:avLst/>
            <a:gdLst/>
            <a:ahLst/>
            <a:rect l="l" t="t" r="r" b="b"/>
            <a:pathLst>
              <a:path w="299" h="324">
                <a:moveTo>
                  <a:pt x="5829" y="17314"/>
                </a:moveTo>
                <a:cubicBezTo>
                  <a:pt x="5882" y="17243"/>
                  <a:pt x="5981" y="17264"/>
                  <a:pt x="6077" y="17264"/>
                </a:cubicBezTo>
              </a:path>
              <a:path w="299" h="324">
                <a:moveTo>
                  <a:pt x="5854" y="17587"/>
                </a:moveTo>
                <a:cubicBezTo>
                  <a:pt x="5945" y="17587"/>
                  <a:pt x="6036" y="17587"/>
                  <a:pt x="6127" y="17587"/>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2455920" y="6197760"/>
            <a:ext cx="482400" cy="214200"/>
          </a:xfrm>
          <a:custGeom>
            <a:avLst/>
            <a:gdLst/>
            <a:ahLst/>
            <a:rect l="l" t="t" r="r" b="b"/>
            <a:pathLst>
              <a:path w="1341" h="597">
                <a:moveTo>
                  <a:pt x="6821" y="17661"/>
                </a:moveTo>
                <a:cubicBezTo>
                  <a:pt x="6821" y="17711"/>
                  <a:pt x="6821" y="17727"/>
                  <a:pt x="6821" y="17760"/>
                </a:cubicBezTo>
                <a:cubicBezTo>
                  <a:pt x="6864" y="17728"/>
                  <a:pt x="6904" y="17686"/>
                  <a:pt x="6821" y="17686"/>
                </a:cubicBezTo>
              </a:path>
              <a:path w="1341" h="597">
                <a:moveTo>
                  <a:pt x="7218" y="17264"/>
                </a:moveTo>
                <a:cubicBezTo>
                  <a:pt x="7293" y="17236"/>
                  <a:pt x="7514" y="17162"/>
                  <a:pt x="7491" y="17338"/>
                </a:cubicBezTo>
                <a:cubicBezTo>
                  <a:pt x="7479" y="17433"/>
                  <a:pt x="7415" y="17463"/>
                  <a:pt x="7342" y="17487"/>
                </a:cubicBezTo>
                <a:cubicBezTo>
                  <a:pt x="7503" y="17467"/>
                  <a:pt x="7473" y="17475"/>
                  <a:pt x="7640" y="17512"/>
                </a:cubicBezTo>
                <a:cubicBezTo>
                  <a:pt x="7625" y="17640"/>
                  <a:pt x="7567" y="17873"/>
                  <a:pt x="7367" y="17810"/>
                </a:cubicBezTo>
                <a:cubicBezTo>
                  <a:pt x="7294" y="17736"/>
                  <a:pt x="7269" y="17712"/>
                  <a:pt x="7317" y="17636"/>
                </a:cubicBezTo>
              </a:path>
              <a:path w="1341" h="597">
                <a:moveTo>
                  <a:pt x="7838" y="17214"/>
                </a:moveTo>
                <a:cubicBezTo>
                  <a:pt x="7686" y="17458"/>
                  <a:pt x="7606" y="17572"/>
                  <a:pt x="7764" y="17810"/>
                </a:cubicBezTo>
                <a:cubicBezTo>
                  <a:pt x="7987" y="17739"/>
                  <a:pt x="8028" y="17703"/>
                  <a:pt x="8161" y="17512"/>
                </a:cubicBezTo>
                <a:cubicBezTo>
                  <a:pt x="8038" y="17312"/>
                  <a:pt x="7983" y="17294"/>
                  <a:pt x="7739" y="1733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6161040" y="6269040"/>
            <a:ext cx="1179720" cy="473040"/>
          </a:xfrm>
          <a:custGeom>
            <a:avLst/>
            <a:gdLst/>
            <a:ahLst/>
            <a:rect l="l" t="t" r="r" b="b"/>
            <a:pathLst>
              <a:path w="3275" h="1316">
                <a:moveTo>
                  <a:pt x="20216" y="17587"/>
                </a:moveTo>
                <a:cubicBezTo>
                  <a:pt x="20095" y="17732"/>
                  <a:pt x="20002" y="17845"/>
                  <a:pt x="20017" y="18033"/>
                </a:cubicBezTo>
                <a:cubicBezTo>
                  <a:pt x="20255" y="17942"/>
                  <a:pt x="20350" y="17866"/>
                  <a:pt x="20365" y="17611"/>
                </a:cubicBezTo>
                <a:cubicBezTo>
                  <a:pt x="20207" y="17580"/>
                  <a:pt x="20132" y="17580"/>
                  <a:pt x="20017" y="17636"/>
                </a:cubicBezTo>
              </a:path>
              <a:path w="3275" h="1316">
                <a:moveTo>
                  <a:pt x="19348" y="17859"/>
                </a:moveTo>
                <a:cubicBezTo>
                  <a:pt x="19222" y="18014"/>
                  <a:pt x="19191" y="18096"/>
                  <a:pt x="19248" y="18281"/>
                </a:cubicBezTo>
                <a:cubicBezTo>
                  <a:pt x="19469" y="18177"/>
                  <a:pt x="19533" y="18092"/>
                  <a:pt x="19496" y="17859"/>
                </a:cubicBezTo>
                <a:cubicBezTo>
                  <a:pt x="19186" y="17897"/>
                  <a:pt x="18952" y="17992"/>
                  <a:pt x="18653" y="18107"/>
                </a:cubicBezTo>
              </a:path>
              <a:path w="3275" h="1316">
                <a:moveTo>
                  <a:pt x="18405" y="17909"/>
                </a:moveTo>
                <a:cubicBezTo>
                  <a:pt x="18381" y="18053"/>
                  <a:pt x="18315" y="18232"/>
                  <a:pt x="18331" y="18380"/>
                </a:cubicBezTo>
                <a:cubicBezTo>
                  <a:pt x="18347" y="18421"/>
                  <a:pt x="18364" y="18463"/>
                  <a:pt x="18380" y="18504"/>
                </a:cubicBezTo>
                <a:cubicBezTo>
                  <a:pt x="18573" y="18539"/>
                  <a:pt x="18705" y="18438"/>
                  <a:pt x="18752" y="18231"/>
                </a:cubicBezTo>
                <a:cubicBezTo>
                  <a:pt x="18744" y="18206"/>
                  <a:pt x="18736" y="18182"/>
                  <a:pt x="18728" y="18157"/>
                </a:cubicBezTo>
                <a:cubicBezTo>
                  <a:pt x="18640" y="18198"/>
                  <a:pt x="18356" y="18382"/>
                  <a:pt x="18504" y="18529"/>
                </a:cubicBezTo>
                <a:cubicBezTo>
                  <a:pt x="18537" y="18529"/>
                  <a:pt x="18571" y="18529"/>
                  <a:pt x="18604" y="18529"/>
                </a:cubicBezTo>
              </a:path>
              <a:path w="3275" h="1316">
                <a:moveTo>
                  <a:pt x="19720" y="18083"/>
                </a:moveTo>
                <a:cubicBezTo>
                  <a:pt x="19708" y="18152"/>
                  <a:pt x="19679" y="18178"/>
                  <a:pt x="19720" y="18231"/>
                </a:cubicBezTo>
                <a:cubicBezTo>
                  <a:pt x="19771" y="18180"/>
                  <a:pt x="19781" y="18171"/>
                  <a:pt x="19794" y="18083"/>
                </a:cubicBezTo>
                <a:cubicBezTo>
                  <a:pt x="19703" y="18132"/>
                  <a:pt x="19670" y="18134"/>
                  <a:pt x="19695" y="18231"/>
                </a:cubicBezTo>
              </a:path>
              <a:path w="3275" h="1316">
                <a:moveTo>
                  <a:pt x="17884" y="18678"/>
                </a:moveTo>
                <a:cubicBezTo>
                  <a:pt x="18170" y="18750"/>
                  <a:pt x="18411" y="18696"/>
                  <a:pt x="18703" y="18653"/>
                </a:cubicBezTo>
                <a:cubicBezTo>
                  <a:pt x="19068" y="18599"/>
                  <a:pt x="19403" y="18514"/>
                  <a:pt x="19745" y="18380"/>
                </a:cubicBezTo>
                <a:cubicBezTo>
                  <a:pt x="19897" y="18320"/>
                  <a:pt x="20057" y="18233"/>
                  <a:pt x="20166" y="18107"/>
                </a:cubicBezTo>
                <a:cubicBezTo>
                  <a:pt x="20224" y="18040"/>
                  <a:pt x="20240" y="18005"/>
                  <a:pt x="20265" y="17909"/>
                </a:cubicBezTo>
                <a:cubicBezTo>
                  <a:pt x="20113" y="17796"/>
                  <a:pt x="19987" y="17733"/>
                  <a:pt x="19794" y="17661"/>
                </a:cubicBezTo>
                <a:cubicBezTo>
                  <a:pt x="19468" y="17539"/>
                  <a:pt x="19174" y="17471"/>
                  <a:pt x="18827" y="17438"/>
                </a:cubicBezTo>
                <a:cubicBezTo>
                  <a:pt x="18394" y="17397"/>
                  <a:pt x="17932" y="17420"/>
                  <a:pt x="17562" y="17686"/>
                </a:cubicBezTo>
                <a:cubicBezTo>
                  <a:pt x="17246" y="17913"/>
                  <a:pt x="17177" y="18119"/>
                  <a:pt x="17140" y="18455"/>
                </a:cubicBezTo>
                <a:cubicBezTo>
                  <a:pt x="17525" y="18517"/>
                  <a:pt x="17673" y="18474"/>
                  <a:pt x="18058" y="18355"/>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6438960" y="5759280"/>
            <a:ext cx="285840" cy="223920"/>
          </a:xfrm>
          <a:custGeom>
            <a:avLst/>
            <a:gdLst/>
            <a:ahLst/>
            <a:rect l="l" t="t" r="r" b="b"/>
            <a:pathLst>
              <a:path w="795" h="621">
                <a:moveTo>
                  <a:pt x="18083" y="15999"/>
                </a:moveTo>
                <a:cubicBezTo>
                  <a:pt x="18264" y="16045"/>
                  <a:pt x="18370" y="16072"/>
                  <a:pt x="18504" y="16197"/>
                </a:cubicBezTo>
                <a:cubicBezTo>
                  <a:pt x="18434" y="16436"/>
                  <a:pt x="18334" y="16635"/>
                  <a:pt x="18033" y="16619"/>
                </a:cubicBezTo>
                <a:cubicBezTo>
                  <a:pt x="17926" y="16577"/>
                  <a:pt x="17890" y="16577"/>
                  <a:pt x="17884" y="16495"/>
                </a:cubicBezTo>
                <a:cubicBezTo>
                  <a:pt x="18134" y="16457"/>
                  <a:pt x="18340" y="16535"/>
                  <a:pt x="18579" y="16545"/>
                </a:cubicBezTo>
                <a:cubicBezTo>
                  <a:pt x="18612" y="16537"/>
                  <a:pt x="18645" y="16528"/>
                  <a:pt x="18678" y="16520"/>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6705720" y="5759280"/>
            <a:ext cx="196560" cy="196920"/>
          </a:xfrm>
          <a:custGeom>
            <a:avLst/>
            <a:gdLst/>
            <a:ahLst/>
            <a:rect l="l" t="t" r="r" b="b"/>
            <a:pathLst>
              <a:path w="547" h="547">
                <a:moveTo>
                  <a:pt x="18852" y="15999"/>
                </a:moveTo>
                <a:cubicBezTo>
                  <a:pt x="18695" y="16223"/>
                  <a:pt x="18645" y="16258"/>
                  <a:pt x="18678" y="16520"/>
                </a:cubicBezTo>
                <a:cubicBezTo>
                  <a:pt x="18849" y="16508"/>
                  <a:pt x="19345" y="16397"/>
                  <a:pt x="19174" y="16073"/>
                </a:cubicBezTo>
                <a:cubicBezTo>
                  <a:pt x="19093" y="15919"/>
                  <a:pt x="18548" y="16167"/>
                  <a:pt x="18876" y="16049"/>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6939000" y="5742000"/>
            <a:ext cx="196920" cy="152280"/>
          </a:xfrm>
          <a:custGeom>
            <a:avLst/>
            <a:gdLst/>
            <a:ahLst/>
            <a:rect l="l" t="t" r="r" b="b"/>
            <a:pathLst>
              <a:path w="547" h="423">
                <a:moveTo>
                  <a:pt x="19323" y="16098"/>
                </a:moveTo>
                <a:cubicBezTo>
                  <a:pt x="19291" y="16365"/>
                  <a:pt x="19445" y="16526"/>
                  <a:pt x="19720" y="16272"/>
                </a:cubicBezTo>
                <a:cubicBezTo>
                  <a:pt x="20176" y="15851"/>
                  <a:pt x="19385" y="16056"/>
                  <a:pt x="19273" y="1609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6286680" y="6099120"/>
            <a:ext cx="125280" cy="160560"/>
          </a:xfrm>
          <a:custGeom>
            <a:avLst/>
            <a:gdLst/>
            <a:ahLst/>
            <a:rect l="l" t="t" r="r" b="b"/>
            <a:pathLst>
              <a:path w="349" h="447">
                <a:moveTo>
                  <a:pt x="17462" y="16942"/>
                </a:moveTo>
                <a:cubicBezTo>
                  <a:pt x="17606" y="17085"/>
                  <a:pt x="17724" y="17204"/>
                  <a:pt x="17810" y="1738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6269040" y="6062760"/>
            <a:ext cx="142920" cy="260280"/>
          </a:xfrm>
          <a:custGeom>
            <a:avLst/>
            <a:gdLst/>
            <a:ahLst/>
            <a:rect l="l" t="t" r="r" b="b"/>
            <a:pathLst>
              <a:path w="398" h="721">
                <a:moveTo>
                  <a:pt x="17810" y="16842"/>
                </a:moveTo>
                <a:cubicBezTo>
                  <a:pt x="17694" y="17100"/>
                  <a:pt x="17559" y="17324"/>
                  <a:pt x="17413" y="17562"/>
                </a:cubicBezTo>
                <a:cubicBezTo>
                  <a:pt x="17421" y="17554"/>
                  <a:pt x="17430" y="17545"/>
                  <a:pt x="17438" y="17537"/>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6946920" y="6205680"/>
            <a:ext cx="9360" cy="45720"/>
          </a:xfrm>
          <a:custGeom>
            <a:avLst/>
            <a:gdLst/>
            <a:ahLst/>
            <a:rect l="l" t="t" r="r" b="b"/>
            <a:pathLst>
              <a:path w="26" h="125">
                <a:moveTo>
                  <a:pt x="19298" y="17239"/>
                </a:moveTo>
                <a:cubicBezTo>
                  <a:pt x="19317" y="17300"/>
                  <a:pt x="19323" y="17310"/>
                  <a:pt x="19323" y="17363"/>
                </a:cubicBezTo>
              </a:path>
            </a:pathLst>
          </a:custGeom>
          <a:noFill/>
          <a:ln cap="rnd" w="34920">
            <a:solidFill>
              <a:srgbClr val="ffffff"/>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68" name=""/>
          <p:cNvSpPr/>
          <p:nvPr/>
        </p:nvSpPr>
        <p:spPr>
          <a:xfrm>
            <a:off x="7062840" y="5991120"/>
            <a:ext cx="189000" cy="233640"/>
          </a:xfrm>
          <a:custGeom>
            <a:avLst/>
            <a:gdLst/>
            <a:ahLst/>
            <a:rect l="l" t="t" r="r" b="b"/>
            <a:pathLst>
              <a:path w="521" h="646">
                <a:moveTo>
                  <a:pt x="19621" y="16669"/>
                </a:moveTo>
                <a:cubicBezTo>
                  <a:pt x="19771" y="16648"/>
                  <a:pt x="20063" y="16564"/>
                  <a:pt x="19918" y="16818"/>
                </a:cubicBezTo>
                <a:cubicBezTo>
                  <a:pt x="19885" y="16859"/>
                  <a:pt x="19852" y="16901"/>
                  <a:pt x="19819" y="16942"/>
                </a:cubicBezTo>
                <a:cubicBezTo>
                  <a:pt x="19794" y="16958"/>
                  <a:pt x="19770" y="16975"/>
                  <a:pt x="19745" y="16991"/>
                </a:cubicBezTo>
                <a:cubicBezTo>
                  <a:pt x="19842" y="16926"/>
                  <a:pt x="20076" y="16870"/>
                  <a:pt x="20141" y="17016"/>
                </a:cubicBezTo>
                <a:cubicBezTo>
                  <a:pt x="20258" y="17279"/>
                  <a:pt x="19719" y="17268"/>
                  <a:pt x="19621" y="1726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6259680" y="6276960"/>
            <a:ext cx="1081080" cy="250920"/>
          </a:xfrm>
          <a:custGeom>
            <a:avLst/>
            <a:gdLst/>
            <a:ahLst/>
            <a:rect l="l" t="t" r="r" b="b"/>
            <a:pathLst>
              <a:path w="3002" h="695">
                <a:moveTo>
                  <a:pt x="17388" y="18132"/>
                </a:moveTo>
                <a:cubicBezTo>
                  <a:pt x="18217" y="17882"/>
                  <a:pt x="19042" y="17677"/>
                  <a:pt x="19893" y="17512"/>
                </a:cubicBezTo>
                <a:cubicBezTo>
                  <a:pt x="20082" y="17475"/>
                  <a:pt x="20507" y="17438"/>
                  <a:pt x="20315" y="1743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4">
                                  <p:stCondLst>
                                    <p:cond delay="0"/>
                                  </p:stCondLst>
                                  <p:childTnLst>
                                    <p:set>
                                      <p:cBhvr>
                                        <p:cTn id="62" dur="1" fill="hold">
                                          <p:stCondLst>
                                            <p:cond delay="0"/>
                                          </p:stCondLst>
                                        </p:cTn>
                                        <p:tgtEl>
                                          <p:spTgt spid="147"/>
                                        </p:tgtEl>
                                        <p:attrNameLst>
                                          <p:attrName>style.visibility</p:attrName>
                                        </p:attrNameLst>
                                      </p:cBhvr>
                                      <p:to>
                                        <p:strVal val="visible"/>
                                      </p:to>
                                    </p:set>
                                    <p:anim calcmode="lin" valueType="num" from="(-#ppt_w/2)" to="(#ppt_x)">
                                      <p:cBhvr additive="repl">
                                        <p:cTn id="63" dur="600" fill="hold">
                                          <p:stCondLst>
                                            <p:cond delay="0"/>
                                          </p:stCondLst>
                                        </p:cTn>
                                        <p:tgtEl>
                                          <p:spTgt spid="147"/>
                                        </p:tgtEl>
                                        <p:attrNameLst>
                                          <p:attrName>ppt_x</p:attrName>
                                        </p:attrNameLst>
                                      </p:cBhvr>
                                    </p:anim>
                                    <p:anim calcmode="lin" valueType="num" from="0" to="-1">
                                      <p:cBhvr additive="repl">
                                        <p:cTn id="64" dur="200" autoRev="1" fill="hold">
                                          <p:stCondLst>
                                            <p:cond delay="600"/>
                                          </p:stCondLst>
                                        </p:cTn>
                                        <p:tgtEl>
                                          <p:spTgt spid="147"/>
                                        </p:tgtEl>
                                        <p:attrNameLst>
                                          <p:attrName>xshear</p:attrName>
                                        </p:attrNameLst>
                                      </p:cBhvr>
                                    </p:anim>
                                    <p:animScale>
                                      <p:cBhvr>
                                        <p:cTn id="65" dur="200" autoRev="1" fill="hold">
                                          <p:stCondLst>
                                            <p:cond delay="600"/>
                                          </p:stCondLst>
                                        </p:cTn>
                                        <p:tgtEl>
                                          <p:spTgt spid="147"/>
                                        </p:tgtEl>
                                      </p:cBhvr>
                                      <p:from x="100000" y="100000"/>
                                      <p:to x="80000" y="100000"/>
                                    </p:animScale>
                                    <p:anim calcmode="lin" valueType="num" by="(#ppt_h/3+#ppt_w*0.1)">
                                      <p:cBhvr additive="sum">
                                        <p:cTn id="66" dur="200" autoRev="1" fill="hold">
                                          <p:stCondLst>
                                            <p:cond delay="600"/>
                                          </p:stCondLst>
                                        </p:cTn>
                                        <p:tgtEl>
                                          <p:spTgt spid="147"/>
                                        </p:tgtEl>
                                        <p:attrNameLst>
                                          <p:attrName>ppt_x</p:attrName>
                                        </p:attrNameLst>
                                      </p:cBhvr>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4">
                                  <p:stCondLst>
                                    <p:cond delay="0"/>
                                  </p:stCondLst>
                                  <p:childTnLst>
                                    <p:set>
                                      <p:cBhvr>
                                        <p:cTn id="70" dur="1" fill="hold">
                                          <p:stCondLst>
                                            <p:cond delay="0"/>
                                          </p:stCondLst>
                                        </p:cTn>
                                        <p:tgtEl>
                                          <p:spTgt spid="148">
                                            <p:txEl>
                                              <p:pRg st="0" end="0"/>
                                            </p:txEl>
                                          </p:spTgt>
                                        </p:tgtEl>
                                        <p:attrNameLst>
                                          <p:attrName>style.visibility</p:attrName>
                                        </p:attrNameLst>
                                      </p:cBhvr>
                                      <p:to>
                                        <p:strVal val="visible"/>
                                      </p:to>
                                    </p:set>
                                    <p:anim calcmode="lin" valueType="num" from="(-#ppt_w/2)" to="(#ppt_x)">
                                      <p:cBhvr additive="repl">
                                        <p:cTn id="71" dur="600" fill="hold">
                                          <p:stCondLst>
                                            <p:cond delay="0"/>
                                          </p:stCondLst>
                                        </p:cTn>
                                        <p:tgtEl>
                                          <p:spTgt spid="148">
                                            <p:txEl>
                                              <p:pRg st="0" end="0"/>
                                            </p:txEl>
                                          </p:spTgt>
                                        </p:tgtEl>
                                        <p:attrNameLst>
                                          <p:attrName>ppt_x</p:attrName>
                                        </p:attrNameLst>
                                      </p:cBhvr>
                                    </p:anim>
                                    <p:anim calcmode="lin" valueType="num" from="0" to="-1">
                                      <p:cBhvr additive="repl">
                                        <p:cTn id="72" dur="200" autoRev="1" fill="hold">
                                          <p:stCondLst>
                                            <p:cond delay="600"/>
                                          </p:stCondLst>
                                        </p:cTn>
                                        <p:tgtEl>
                                          <p:spTgt spid="148">
                                            <p:txEl>
                                              <p:pRg st="0" end="0"/>
                                            </p:txEl>
                                          </p:spTgt>
                                        </p:tgtEl>
                                        <p:attrNameLst>
                                          <p:attrName>xshear</p:attrName>
                                        </p:attrNameLst>
                                      </p:cBhvr>
                                    </p:anim>
                                    <p:animScale>
                                      <p:cBhvr>
                                        <p:cTn id="73" dur="200" autoRev="1" fill="hold">
                                          <p:stCondLst>
                                            <p:cond delay="600"/>
                                          </p:stCondLst>
                                        </p:cTn>
                                        <p:tgtEl>
                                          <p:spTgt spid="148">
                                            <p:txEl>
                                              <p:pRg st="0" end="0"/>
                                            </p:txEl>
                                          </p:spTgt>
                                        </p:tgtEl>
                                      </p:cBhvr>
                                      <p:from x="100000" y="100000"/>
                                      <p:to x="80000" y="100000"/>
                                    </p:animScale>
                                    <p:anim calcmode="lin" valueType="num" by="(#ppt_h/3+#ppt_w*0.1)">
                                      <p:cBhvr additive="sum">
                                        <p:cTn id="74" dur="200" autoRev="1" fill="hold">
                                          <p:stCondLst>
                                            <p:cond delay="600"/>
                                          </p:stCondLst>
                                        </p:cTn>
                                        <p:tgtEl>
                                          <p:spTgt spid="148">
                                            <p:txEl>
                                              <p:pRg st="0" end="0"/>
                                            </p:txEl>
                                          </p:spTgt>
                                        </p:tgtEl>
                                        <p:attrNameLst>
                                          <p:attrName>ppt_x</p:attrName>
                                        </p:attrNameLst>
                                      </p:cBhvr>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4">
                                  <p:stCondLst>
                                    <p:cond delay="0"/>
                                  </p:stCondLst>
                                  <p:childTnLst>
                                    <p:set>
                                      <p:cBhvr>
                                        <p:cTn id="78" dur="1" fill="hold">
                                          <p:stCondLst>
                                            <p:cond delay="0"/>
                                          </p:stCondLst>
                                        </p:cTn>
                                        <p:tgtEl>
                                          <p:spTgt spid="148">
                                            <p:txEl>
                                              <p:pRg st="1" end="1"/>
                                            </p:txEl>
                                          </p:spTgt>
                                        </p:tgtEl>
                                        <p:attrNameLst>
                                          <p:attrName>style.visibility</p:attrName>
                                        </p:attrNameLst>
                                      </p:cBhvr>
                                      <p:to>
                                        <p:strVal val="visible"/>
                                      </p:to>
                                    </p:set>
                                    <p:anim calcmode="lin" valueType="num" from="(-#ppt_w/2)" to="(#ppt_x)">
                                      <p:cBhvr additive="repl">
                                        <p:cTn id="79" dur="600" fill="hold">
                                          <p:stCondLst>
                                            <p:cond delay="0"/>
                                          </p:stCondLst>
                                        </p:cTn>
                                        <p:tgtEl>
                                          <p:spTgt spid="148">
                                            <p:txEl>
                                              <p:pRg st="1" end="1"/>
                                            </p:txEl>
                                          </p:spTgt>
                                        </p:tgtEl>
                                        <p:attrNameLst>
                                          <p:attrName>ppt_x</p:attrName>
                                        </p:attrNameLst>
                                      </p:cBhvr>
                                    </p:anim>
                                    <p:anim calcmode="lin" valueType="num" from="0" to="-1">
                                      <p:cBhvr additive="repl">
                                        <p:cTn id="80" dur="200" autoRev="1" fill="hold">
                                          <p:stCondLst>
                                            <p:cond delay="600"/>
                                          </p:stCondLst>
                                        </p:cTn>
                                        <p:tgtEl>
                                          <p:spTgt spid="148">
                                            <p:txEl>
                                              <p:pRg st="1" end="1"/>
                                            </p:txEl>
                                          </p:spTgt>
                                        </p:tgtEl>
                                        <p:attrNameLst>
                                          <p:attrName>xshear</p:attrName>
                                        </p:attrNameLst>
                                      </p:cBhvr>
                                    </p:anim>
                                    <p:animScale>
                                      <p:cBhvr>
                                        <p:cTn id="81" dur="200" autoRev="1" fill="hold">
                                          <p:stCondLst>
                                            <p:cond delay="600"/>
                                          </p:stCondLst>
                                        </p:cTn>
                                        <p:tgtEl>
                                          <p:spTgt spid="148">
                                            <p:txEl>
                                              <p:pRg st="1" end="1"/>
                                            </p:txEl>
                                          </p:spTgt>
                                        </p:tgtEl>
                                      </p:cBhvr>
                                      <p:from x="100000" y="100000"/>
                                      <p:to x="80000" y="100000"/>
                                    </p:animScale>
                                    <p:anim calcmode="lin" valueType="num" by="(#ppt_h/3+#ppt_w*0.1)">
                                      <p:cBhvr additive="sum">
                                        <p:cTn id="82" dur="200" autoRev="1" fill="hold">
                                          <p:stCondLst>
                                            <p:cond delay="600"/>
                                          </p:stCondLst>
                                        </p:cTn>
                                        <p:tgtEl>
                                          <p:spTgt spid="148">
                                            <p:txEl>
                                              <p:pRg st="1" end="1"/>
                                            </p:txEl>
                                          </p:spTgt>
                                        </p:tgtEl>
                                        <p:attrNameLst>
                                          <p:attrName>ppt_x</p:attrName>
                                        </p:attrNameLst>
                                      </p:cBhvr>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4">
                                  <p:stCondLst>
                                    <p:cond delay="0"/>
                                  </p:stCondLst>
                                  <p:childTnLst>
                                    <p:set>
                                      <p:cBhvr>
                                        <p:cTn id="86" dur="1" fill="hold">
                                          <p:stCondLst>
                                            <p:cond delay="0"/>
                                          </p:stCondLst>
                                        </p:cTn>
                                        <p:tgtEl>
                                          <p:spTgt spid="148">
                                            <p:txEl>
                                              <p:pRg st="2" end="2"/>
                                            </p:txEl>
                                          </p:spTgt>
                                        </p:tgtEl>
                                        <p:attrNameLst>
                                          <p:attrName>style.visibility</p:attrName>
                                        </p:attrNameLst>
                                      </p:cBhvr>
                                      <p:to>
                                        <p:strVal val="visible"/>
                                      </p:to>
                                    </p:set>
                                    <p:anim calcmode="lin" valueType="num" from="(-#ppt_w/2)" to="(#ppt_x)">
                                      <p:cBhvr additive="repl">
                                        <p:cTn id="87" dur="600" fill="hold">
                                          <p:stCondLst>
                                            <p:cond delay="0"/>
                                          </p:stCondLst>
                                        </p:cTn>
                                        <p:tgtEl>
                                          <p:spTgt spid="148">
                                            <p:txEl>
                                              <p:pRg st="2" end="2"/>
                                            </p:txEl>
                                          </p:spTgt>
                                        </p:tgtEl>
                                        <p:attrNameLst>
                                          <p:attrName>ppt_x</p:attrName>
                                        </p:attrNameLst>
                                      </p:cBhvr>
                                    </p:anim>
                                    <p:anim calcmode="lin" valueType="num" from="0" to="-1">
                                      <p:cBhvr additive="repl">
                                        <p:cTn id="88" dur="200" autoRev="1" fill="hold">
                                          <p:stCondLst>
                                            <p:cond delay="600"/>
                                          </p:stCondLst>
                                        </p:cTn>
                                        <p:tgtEl>
                                          <p:spTgt spid="148">
                                            <p:txEl>
                                              <p:pRg st="2" end="2"/>
                                            </p:txEl>
                                          </p:spTgt>
                                        </p:tgtEl>
                                        <p:attrNameLst>
                                          <p:attrName>xshear</p:attrName>
                                        </p:attrNameLst>
                                      </p:cBhvr>
                                    </p:anim>
                                    <p:animScale>
                                      <p:cBhvr>
                                        <p:cTn id="89" dur="200" autoRev="1" fill="hold">
                                          <p:stCondLst>
                                            <p:cond delay="600"/>
                                          </p:stCondLst>
                                        </p:cTn>
                                        <p:tgtEl>
                                          <p:spTgt spid="148">
                                            <p:txEl>
                                              <p:pRg st="2" end="2"/>
                                            </p:txEl>
                                          </p:spTgt>
                                        </p:tgtEl>
                                      </p:cBhvr>
                                      <p:from x="100000" y="100000"/>
                                      <p:to x="80000" y="100000"/>
                                    </p:animScale>
                                    <p:anim calcmode="lin" valueType="num" by="(#ppt_h/3+#ppt_w*0.1)">
                                      <p:cBhvr additive="sum">
                                        <p:cTn id="90" dur="200" autoRev="1" fill="hold">
                                          <p:stCondLst>
                                            <p:cond delay="600"/>
                                          </p:stCondLst>
                                        </p:cTn>
                                        <p:tgtEl>
                                          <p:spTgt spid="148">
                                            <p:txEl>
                                              <p:pRg st="2" end="2"/>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pic>
        <p:nvPicPr>
          <p:cNvPr id="170" name="" descr="v9"/>
          <p:cNvPicPr/>
          <p:nvPr/>
        </p:nvPicPr>
        <p:blipFill>
          <a:blip r:embed="rId1"/>
          <a:stretch/>
        </p:blipFill>
        <p:spPr>
          <a:xfrm>
            <a:off x="2666880" y="685800"/>
            <a:ext cx="3921120" cy="2751120"/>
          </a:xfrm>
          <a:prstGeom prst="rect">
            <a:avLst/>
          </a:prstGeom>
          <a:ln w="0">
            <a:noFill/>
          </a:ln>
        </p:spPr>
      </p:pic>
      <p:sp>
        <p:nvSpPr>
          <p:cNvPr id="171" name=""/>
          <p:cNvSpPr/>
          <p:nvPr/>
        </p:nvSpPr>
        <p:spPr>
          <a:xfrm>
            <a:off x="533520" y="3581280"/>
            <a:ext cx="78483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circle graph shows the favorite ice cream flavors of 100 students. About 350 students will attend an ice cream party. Based on this graph, predict how many students will request chocolate ice cream. </a:t>
            </a:r>
            <a:endParaRPr b="0" lang="en-US" sz="2800" spc="-1" strike="noStrike">
              <a:solidFill>
                <a:srgbClr val="ffffff"/>
              </a:solidFill>
              <a:latin typeface="Arial"/>
            </a:endParaRPr>
          </a:p>
        </p:txBody>
      </p:sp>
      <p:sp>
        <p:nvSpPr>
          <p:cNvPr id="172" name=""/>
          <p:cNvSpPr/>
          <p:nvPr/>
        </p:nvSpPr>
        <p:spPr>
          <a:xfrm>
            <a:off x="310680" y="228600"/>
            <a:ext cx="586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3edff"/>
                </a:solidFill>
                <a:latin typeface="Arial"/>
              </a:rPr>
              <a:t>Objective: Students will read and interpret Circle Graphs</a:t>
            </a:r>
            <a:endParaRPr b="0" lang="en-US" sz="1800" spc="-1" strike="noStrike">
              <a:solidFill>
                <a:srgbClr val="ffffff"/>
              </a:solidFill>
              <a:latin typeface="Arial"/>
            </a:endParaRPr>
          </a:p>
        </p:txBody>
      </p:sp>
      <p:sp>
        <p:nvSpPr>
          <p:cNvPr id="173" name=""/>
          <p:cNvSpPr/>
          <p:nvPr/>
        </p:nvSpPr>
        <p:spPr>
          <a:xfrm>
            <a:off x="392040" y="61920"/>
            <a:ext cx="8128080" cy="2332080"/>
          </a:xfrm>
          <a:custGeom>
            <a:avLst/>
            <a:gdLst/>
            <a:ahLst/>
            <a:rect l="l" t="t" r="r" b="b"/>
            <a:pathLst>
              <a:path w="22574" h="6475">
                <a:moveTo>
                  <a:pt x="3249" y="4589"/>
                </a:moveTo>
                <a:lnTo>
                  <a:pt x="3249" y="4589"/>
                </a:lnTo>
              </a:path>
              <a:path w="22574" h="6475">
                <a:moveTo>
                  <a:pt x="1414" y="5407"/>
                </a:moveTo>
                <a:cubicBezTo>
                  <a:pt x="1341" y="5597"/>
                  <a:pt x="1189" y="5835"/>
                  <a:pt x="1315" y="6003"/>
                </a:cubicBezTo>
              </a:path>
              <a:path w="22574" h="6475">
                <a:moveTo>
                  <a:pt x="2208" y="5531"/>
                </a:moveTo>
                <a:cubicBezTo>
                  <a:pt x="2208" y="5556"/>
                  <a:pt x="2208" y="5564"/>
                  <a:pt x="2208" y="5581"/>
                </a:cubicBezTo>
              </a:path>
              <a:path w="22574" h="6475">
                <a:moveTo>
                  <a:pt x="2555" y="5085"/>
                </a:moveTo>
                <a:cubicBezTo>
                  <a:pt x="2721" y="5065"/>
                  <a:pt x="2936" y="5090"/>
                  <a:pt x="2877" y="5333"/>
                </a:cubicBezTo>
                <a:cubicBezTo>
                  <a:pt x="2837" y="5498"/>
                  <a:pt x="2733" y="5473"/>
                  <a:pt x="2604" y="5482"/>
                </a:cubicBezTo>
                <a:cubicBezTo>
                  <a:pt x="2645" y="5318"/>
                  <a:pt x="2782" y="5248"/>
                  <a:pt x="2952" y="5358"/>
                </a:cubicBezTo>
                <a:cubicBezTo>
                  <a:pt x="2995" y="5423"/>
                  <a:pt x="3006" y="5438"/>
                  <a:pt x="3026" y="5482"/>
                </a:cubicBezTo>
              </a:path>
              <a:path w="22574" h="6475">
                <a:moveTo>
                  <a:pt x="3150" y="5011"/>
                </a:moveTo>
                <a:cubicBezTo>
                  <a:pt x="3139" y="5041"/>
                  <a:pt x="3327" y="5096"/>
                  <a:pt x="3398" y="5135"/>
                </a:cubicBezTo>
                <a:cubicBezTo>
                  <a:pt x="3526" y="5205"/>
                  <a:pt x="3560" y="5213"/>
                  <a:pt x="3547" y="5333"/>
                </a:cubicBezTo>
                <a:cubicBezTo>
                  <a:pt x="3333" y="5395"/>
                  <a:pt x="3386" y="5342"/>
                  <a:pt x="3274" y="5135"/>
                </a:cubicBezTo>
              </a:path>
              <a:path w="22574" h="6475">
                <a:moveTo>
                  <a:pt x="3349" y="4911"/>
                </a:moveTo>
                <a:cubicBezTo>
                  <a:pt x="3409" y="4878"/>
                  <a:pt x="3852" y="4593"/>
                  <a:pt x="3671" y="4738"/>
                </a:cubicBezTo>
              </a:path>
              <a:path w="22574" h="6475">
                <a:moveTo>
                  <a:pt x="1612" y="5159"/>
                </a:moveTo>
                <a:cubicBezTo>
                  <a:pt x="1567" y="5342"/>
                  <a:pt x="1447" y="5485"/>
                  <a:pt x="1364" y="5655"/>
                </a:cubicBezTo>
                <a:cubicBezTo>
                  <a:pt x="1345" y="5693"/>
                  <a:pt x="1340" y="5781"/>
                  <a:pt x="1315" y="5730"/>
                </a:cubicBezTo>
              </a:path>
              <a:path w="22574" h="6475">
                <a:moveTo>
                  <a:pt x="1191" y="5333"/>
                </a:moveTo>
                <a:cubicBezTo>
                  <a:pt x="1348" y="5356"/>
                  <a:pt x="1425" y="5394"/>
                  <a:pt x="1513" y="5531"/>
                </a:cubicBezTo>
                <a:cubicBezTo>
                  <a:pt x="1521" y="5548"/>
                  <a:pt x="1530" y="5564"/>
                  <a:pt x="1538" y="5581"/>
                </a:cubicBezTo>
              </a:path>
              <a:path w="22574" h="6475">
                <a:moveTo>
                  <a:pt x="1091" y="6127"/>
                </a:moveTo>
                <a:cubicBezTo>
                  <a:pt x="1684" y="5904"/>
                  <a:pt x="2285" y="5705"/>
                  <a:pt x="2902" y="5556"/>
                </a:cubicBezTo>
                <a:cubicBezTo>
                  <a:pt x="3251" y="5472"/>
                  <a:pt x="3617" y="5406"/>
                  <a:pt x="3969" y="5333"/>
                </a:cubicBezTo>
              </a:path>
              <a:path w="22574" h="6475">
                <a:moveTo>
                  <a:pt x="3076" y="5259"/>
                </a:moveTo>
                <a:cubicBezTo>
                  <a:pt x="3152" y="5318"/>
                  <a:pt x="3253" y="5346"/>
                  <a:pt x="3349" y="5358"/>
                </a:cubicBezTo>
                <a:cubicBezTo>
                  <a:pt x="3408" y="5366"/>
                  <a:pt x="3496" y="5367"/>
                  <a:pt x="3547" y="5333"/>
                </a:cubicBezTo>
                <a:cubicBezTo>
                  <a:pt x="3610" y="5291"/>
                  <a:pt x="3558" y="5258"/>
                  <a:pt x="3522" y="5234"/>
                </a:cubicBezTo>
              </a:path>
              <a:path w="22574" h="6475">
                <a:moveTo>
                  <a:pt x="3398" y="5011"/>
                </a:moveTo>
                <a:cubicBezTo>
                  <a:pt x="3383" y="5011"/>
                  <a:pt x="3298" y="5025"/>
                  <a:pt x="3324" y="4986"/>
                </a:cubicBezTo>
                <a:cubicBezTo>
                  <a:pt x="3362" y="4947"/>
                  <a:pt x="3364" y="4930"/>
                  <a:pt x="3398" y="4936"/>
                </a:cubicBezTo>
              </a:path>
              <a:path w="22574" h="6475">
                <a:moveTo>
                  <a:pt x="3721" y="5755"/>
                </a:moveTo>
                <a:cubicBezTo>
                  <a:pt x="3681" y="5636"/>
                  <a:pt x="3570" y="5887"/>
                  <a:pt x="3522" y="6003"/>
                </a:cubicBezTo>
                <a:cubicBezTo>
                  <a:pt x="3454" y="6207"/>
                  <a:pt x="3430" y="6261"/>
                  <a:pt x="3448" y="6400"/>
                </a:cubicBezTo>
                <a:cubicBezTo>
                  <a:pt x="3698" y="6424"/>
                  <a:pt x="3935" y="6276"/>
                  <a:pt x="3870" y="5953"/>
                </a:cubicBezTo>
                <a:cubicBezTo>
                  <a:pt x="3845" y="5830"/>
                  <a:pt x="3736" y="5838"/>
                  <a:pt x="3646" y="5829"/>
                </a:cubicBezTo>
              </a:path>
              <a:path w="22574" h="6475">
                <a:moveTo>
                  <a:pt x="2952" y="5779"/>
                </a:moveTo>
                <a:cubicBezTo>
                  <a:pt x="2831" y="5803"/>
                  <a:pt x="2728" y="5874"/>
                  <a:pt x="2604" y="5904"/>
                </a:cubicBezTo>
                <a:cubicBezTo>
                  <a:pt x="2573" y="5912"/>
                  <a:pt x="2537" y="6050"/>
                  <a:pt x="2530" y="6077"/>
                </a:cubicBezTo>
                <a:cubicBezTo>
                  <a:pt x="2510" y="6176"/>
                  <a:pt x="2502" y="6192"/>
                  <a:pt x="2505" y="6251"/>
                </a:cubicBezTo>
                <a:cubicBezTo>
                  <a:pt x="2635" y="6195"/>
                  <a:pt x="2791" y="6065"/>
                  <a:pt x="2927" y="6226"/>
                </a:cubicBezTo>
                <a:cubicBezTo>
                  <a:pt x="3136" y="6474"/>
                  <a:pt x="2696" y="6688"/>
                  <a:pt x="2505" y="6648"/>
                </a:cubicBezTo>
                <a:cubicBezTo>
                  <a:pt x="2439" y="6615"/>
                  <a:pt x="2373" y="6581"/>
                  <a:pt x="2307" y="6548"/>
                </a:cubicBezTo>
              </a:path>
              <a:path w="22574" h="6475">
                <a:moveTo>
                  <a:pt x="1463" y="3274"/>
                </a:moveTo>
                <a:cubicBezTo>
                  <a:pt x="1410" y="3166"/>
                  <a:pt x="1609" y="3207"/>
                  <a:pt x="1662" y="3274"/>
                </a:cubicBezTo>
                <a:cubicBezTo>
                  <a:pt x="1800" y="3448"/>
                  <a:pt x="1518" y="3715"/>
                  <a:pt x="1339" y="3696"/>
                </a:cubicBezTo>
                <a:cubicBezTo>
                  <a:pt x="1314" y="3671"/>
                  <a:pt x="1290" y="3646"/>
                  <a:pt x="1265" y="3621"/>
                </a:cubicBezTo>
                <a:cubicBezTo>
                  <a:pt x="1327" y="3421"/>
                  <a:pt x="1528" y="3504"/>
                  <a:pt x="1736" y="3547"/>
                </a:cubicBezTo>
                <a:cubicBezTo>
                  <a:pt x="1794" y="3566"/>
                  <a:pt x="1801" y="3575"/>
                  <a:pt x="1836" y="3572"/>
                </a:cubicBezTo>
              </a:path>
              <a:path w="22574" h="6475">
                <a:moveTo>
                  <a:pt x="1463" y="2977"/>
                </a:moveTo>
                <a:cubicBezTo>
                  <a:pt x="1483" y="3192"/>
                  <a:pt x="1519" y="3406"/>
                  <a:pt x="1538" y="3621"/>
                </a:cubicBezTo>
                <a:cubicBezTo>
                  <a:pt x="1538" y="3679"/>
                  <a:pt x="1538" y="3688"/>
                  <a:pt x="1538" y="3721"/>
                </a:cubicBezTo>
                <a:cubicBezTo>
                  <a:pt x="1518" y="3613"/>
                  <a:pt x="1522" y="3046"/>
                  <a:pt x="1439" y="3001"/>
                </a:cubicBezTo>
                <a:cubicBezTo>
                  <a:pt x="1431" y="3034"/>
                  <a:pt x="1422" y="3068"/>
                  <a:pt x="1414" y="3101"/>
                </a:cubicBezTo>
              </a:path>
              <a:path w="22574" h="6475">
                <a:moveTo>
                  <a:pt x="17661" y="1364"/>
                </a:moveTo>
                <a:cubicBezTo>
                  <a:pt x="17571" y="1515"/>
                  <a:pt x="17507" y="1706"/>
                  <a:pt x="17388" y="1836"/>
                </a:cubicBezTo>
                <a:cubicBezTo>
                  <a:pt x="17388" y="1828"/>
                  <a:pt x="17388" y="1819"/>
                  <a:pt x="17388" y="1811"/>
                </a:cubicBezTo>
              </a:path>
              <a:path w="22574" h="6475">
                <a:moveTo>
                  <a:pt x="18628" y="1339"/>
                </a:moveTo>
                <a:cubicBezTo>
                  <a:pt x="18562" y="1493"/>
                  <a:pt x="18538" y="1529"/>
                  <a:pt x="18554" y="1637"/>
                </a:cubicBezTo>
                <a:cubicBezTo>
                  <a:pt x="18716" y="1687"/>
                  <a:pt x="18851" y="1595"/>
                  <a:pt x="18876" y="1389"/>
                </a:cubicBezTo>
                <a:cubicBezTo>
                  <a:pt x="18897" y="1218"/>
                  <a:pt x="18743" y="1280"/>
                  <a:pt x="18653" y="1290"/>
                </a:cubicBezTo>
              </a:path>
              <a:path w="22574" h="6475">
                <a:moveTo>
                  <a:pt x="20117" y="992"/>
                </a:moveTo>
                <a:lnTo>
                  <a:pt x="20117" y="992"/>
                </a:lnTo>
              </a:path>
              <a:path w="22574" h="6475">
                <a:moveTo>
                  <a:pt x="20910" y="695"/>
                </a:moveTo>
                <a:cubicBezTo>
                  <a:pt x="20918" y="695"/>
                  <a:pt x="20927" y="695"/>
                  <a:pt x="20935" y="695"/>
                </a:cubicBezTo>
              </a:path>
              <a:path w="22574" h="6475">
                <a:moveTo>
                  <a:pt x="20389" y="1265"/>
                </a:moveTo>
                <a:cubicBezTo>
                  <a:pt x="20677" y="1098"/>
                  <a:pt x="20953" y="964"/>
                  <a:pt x="21282" y="893"/>
                </a:cubicBezTo>
                <a:cubicBezTo>
                  <a:pt x="21431" y="874"/>
                  <a:pt x="21447" y="866"/>
                  <a:pt x="21530" y="868"/>
                </a:cubicBezTo>
              </a:path>
              <a:path w="22574" h="6475">
                <a:moveTo>
                  <a:pt x="21952" y="843"/>
                </a:moveTo>
                <a:cubicBezTo>
                  <a:pt x="21866" y="1004"/>
                  <a:pt x="21807" y="1186"/>
                  <a:pt x="21729" y="1339"/>
                </a:cubicBezTo>
              </a:path>
              <a:path w="22574" h="6475">
                <a:moveTo>
                  <a:pt x="22126" y="967"/>
                </a:moveTo>
                <a:cubicBezTo>
                  <a:pt x="22405" y="854"/>
                  <a:pt x="22676" y="762"/>
                  <a:pt x="22969" y="695"/>
                </a:cubicBezTo>
              </a:path>
              <a:path w="22574" h="6475">
                <a:moveTo>
                  <a:pt x="22572" y="248"/>
                </a:moveTo>
                <a:cubicBezTo>
                  <a:pt x="22691" y="241"/>
                  <a:pt x="22741" y="230"/>
                  <a:pt x="22845" y="174"/>
                </a:cubicBezTo>
              </a:path>
              <a:path w="22574" h="6475">
                <a:moveTo>
                  <a:pt x="23440" y="868"/>
                </a:moveTo>
                <a:cubicBezTo>
                  <a:pt x="23556" y="845"/>
                  <a:pt x="23590" y="838"/>
                  <a:pt x="23664" y="819"/>
                </a:cubicBezTo>
              </a:path>
              <a:path w="22574" h="6475">
                <a:moveTo>
                  <a:pt x="23664" y="819"/>
                </a:moveTo>
                <a:lnTo>
                  <a:pt x="23664" y="819"/>
                </a:ln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6276960" y="9360"/>
            <a:ext cx="2832120" cy="2197440"/>
          </a:xfrm>
          <a:custGeom>
            <a:avLst/>
            <a:gdLst/>
            <a:ahLst/>
            <a:rect l="l" t="t" r="r" b="b"/>
            <a:pathLst>
              <a:path w="7864" h="6103">
                <a:moveTo>
                  <a:pt x="19273" y="2828"/>
                </a:moveTo>
                <a:cubicBezTo>
                  <a:pt x="19310" y="2816"/>
                  <a:pt x="19298" y="2811"/>
                  <a:pt x="19348" y="2778"/>
                </a:cubicBezTo>
                <a:cubicBezTo>
                  <a:pt x="19506" y="3009"/>
                  <a:pt x="19504" y="3223"/>
                  <a:pt x="19298" y="3448"/>
                </a:cubicBezTo>
                <a:cubicBezTo>
                  <a:pt x="19208" y="3502"/>
                  <a:pt x="19207" y="3526"/>
                  <a:pt x="19149" y="3522"/>
                </a:cubicBezTo>
                <a:cubicBezTo>
                  <a:pt x="19207" y="3406"/>
                  <a:pt x="19262" y="3298"/>
                  <a:pt x="19397" y="3398"/>
                </a:cubicBezTo>
                <a:cubicBezTo>
                  <a:pt x="19465" y="3466"/>
                  <a:pt x="19487" y="3482"/>
                  <a:pt x="19496" y="3547"/>
                </a:cubicBezTo>
              </a:path>
              <a:path w="7864" h="6103">
                <a:moveTo>
                  <a:pt x="19596" y="2902"/>
                </a:moveTo>
                <a:cubicBezTo>
                  <a:pt x="19588" y="2902"/>
                  <a:pt x="19579" y="2902"/>
                  <a:pt x="19571" y="2902"/>
                </a:cubicBezTo>
                <a:cubicBezTo>
                  <a:pt x="19533" y="3055"/>
                  <a:pt x="19632" y="3015"/>
                  <a:pt x="19745" y="3076"/>
                </a:cubicBezTo>
                <a:cubicBezTo>
                  <a:pt x="19804" y="3108"/>
                  <a:pt x="20037" y="3378"/>
                  <a:pt x="19819" y="3398"/>
                </a:cubicBezTo>
                <a:cubicBezTo>
                  <a:pt x="19778" y="3382"/>
                  <a:pt x="19736" y="3365"/>
                  <a:pt x="19695" y="3349"/>
                </a:cubicBezTo>
              </a:path>
              <a:path w="7864" h="6103">
                <a:moveTo>
                  <a:pt x="20737" y="3175"/>
                </a:moveTo>
                <a:cubicBezTo>
                  <a:pt x="20750" y="3112"/>
                  <a:pt x="20807" y="3039"/>
                  <a:pt x="20886" y="3076"/>
                </a:cubicBezTo>
                <a:cubicBezTo>
                  <a:pt x="21008" y="3133"/>
                  <a:pt x="20900" y="3281"/>
                  <a:pt x="20861" y="3349"/>
                </a:cubicBezTo>
                <a:cubicBezTo>
                  <a:pt x="20966" y="3349"/>
                  <a:pt x="21059" y="3306"/>
                  <a:pt x="21158" y="3274"/>
                </a:cubicBezTo>
              </a:path>
              <a:path w="7864" h="6103">
                <a:moveTo>
                  <a:pt x="22101" y="2803"/>
                </a:moveTo>
                <a:cubicBezTo>
                  <a:pt x="22056" y="2908"/>
                  <a:pt x="22126" y="2940"/>
                  <a:pt x="22225" y="3001"/>
                </a:cubicBezTo>
                <a:cubicBezTo>
                  <a:pt x="22236" y="3008"/>
                  <a:pt x="22511" y="3207"/>
                  <a:pt x="22324" y="3225"/>
                </a:cubicBezTo>
                <a:cubicBezTo>
                  <a:pt x="22283" y="3217"/>
                  <a:pt x="22241" y="3208"/>
                  <a:pt x="22200" y="3200"/>
                </a:cubicBezTo>
              </a:path>
              <a:path w="7864" h="6103">
                <a:moveTo>
                  <a:pt x="22151" y="2803"/>
                </a:moveTo>
                <a:cubicBezTo>
                  <a:pt x="22345" y="2711"/>
                  <a:pt x="22480" y="2704"/>
                  <a:pt x="22696" y="2704"/>
                </a:cubicBezTo>
                <a:cubicBezTo>
                  <a:pt x="22897" y="2704"/>
                  <a:pt x="22760" y="2879"/>
                  <a:pt x="22721" y="3026"/>
                </a:cubicBezTo>
                <a:cubicBezTo>
                  <a:pt x="22858" y="3095"/>
                  <a:pt x="22929" y="2935"/>
                  <a:pt x="22944" y="2803"/>
                </a:cubicBezTo>
                <a:cubicBezTo>
                  <a:pt x="22962" y="2641"/>
                  <a:pt x="22778" y="2725"/>
                  <a:pt x="22721" y="2753"/>
                </a:cubicBezTo>
              </a:path>
              <a:path w="7864" h="6103">
                <a:moveTo>
                  <a:pt x="22002" y="3497"/>
                </a:moveTo>
                <a:cubicBezTo>
                  <a:pt x="22290" y="3416"/>
                  <a:pt x="22579" y="3316"/>
                  <a:pt x="22870" y="3249"/>
                </a:cubicBezTo>
                <a:cubicBezTo>
                  <a:pt x="22984" y="3223"/>
                  <a:pt x="22917" y="3305"/>
                  <a:pt x="22895" y="3349"/>
                </a:cubicBezTo>
              </a:path>
              <a:path w="7864" h="6103">
                <a:moveTo>
                  <a:pt x="21952" y="3969"/>
                </a:moveTo>
                <a:cubicBezTo>
                  <a:pt x="22107" y="3923"/>
                  <a:pt x="22334" y="3934"/>
                  <a:pt x="22250" y="4192"/>
                </a:cubicBezTo>
                <a:cubicBezTo>
                  <a:pt x="22213" y="4307"/>
                  <a:pt x="22045" y="4455"/>
                  <a:pt x="21952" y="4366"/>
                </a:cubicBezTo>
                <a:cubicBezTo>
                  <a:pt x="22053" y="4265"/>
                  <a:pt x="22169" y="4189"/>
                  <a:pt x="22324" y="4266"/>
                </a:cubicBezTo>
                <a:cubicBezTo>
                  <a:pt x="22324" y="4294"/>
                  <a:pt x="22326" y="4305"/>
                  <a:pt x="22349" y="4316"/>
                </a:cubicBezTo>
              </a:path>
              <a:path w="7864" h="6103">
                <a:moveTo>
                  <a:pt x="22473" y="3894"/>
                </a:moveTo>
                <a:cubicBezTo>
                  <a:pt x="22431" y="4032"/>
                  <a:pt x="22418" y="4077"/>
                  <a:pt x="22448" y="4217"/>
                </a:cubicBezTo>
                <a:cubicBezTo>
                  <a:pt x="22585" y="4217"/>
                  <a:pt x="22773" y="4142"/>
                  <a:pt x="22721" y="3944"/>
                </a:cubicBezTo>
                <a:cubicBezTo>
                  <a:pt x="22701" y="3866"/>
                  <a:pt x="22560" y="3868"/>
                  <a:pt x="22498" y="3845"/>
                </a:cubicBezTo>
              </a:path>
              <a:path w="7864" h="6103">
                <a:moveTo>
                  <a:pt x="22845" y="3721"/>
                </a:moveTo>
                <a:cubicBezTo>
                  <a:pt x="22845" y="3902"/>
                  <a:pt x="22806" y="4004"/>
                  <a:pt x="22969" y="4093"/>
                </a:cubicBezTo>
                <a:cubicBezTo>
                  <a:pt x="23066" y="3996"/>
                  <a:pt x="23205" y="3806"/>
                  <a:pt x="22994" y="3721"/>
                </a:cubicBezTo>
                <a:cubicBezTo>
                  <a:pt x="22936" y="3713"/>
                  <a:pt x="22878" y="3704"/>
                  <a:pt x="22820" y="3696"/>
                </a:cubicBezTo>
              </a:path>
              <a:path w="7864" h="6103">
                <a:moveTo>
                  <a:pt x="23416" y="3001"/>
                </a:moveTo>
                <a:cubicBezTo>
                  <a:pt x="23416" y="3092"/>
                  <a:pt x="23416" y="3183"/>
                  <a:pt x="23416" y="3274"/>
                </a:cubicBezTo>
              </a:path>
              <a:path w="7864" h="6103">
                <a:moveTo>
                  <a:pt x="23217" y="3200"/>
                </a:moveTo>
                <a:cubicBezTo>
                  <a:pt x="23338" y="3151"/>
                  <a:pt x="23481" y="3113"/>
                  <a:pt x="23589" y="3051"/>
                </a:cubicBezTo>
              </a:path>
              <a:path w="7864" h="6103">
                <a:moveTo>
                  <a:pt x="23763" y="2679"/>
                </a:moveTo>
                <a:cubicBezTo>
                  <a:pt x="23816" y="2585"/>
                  <a:pt x="23872" y="2559"/>
                  <a:pt x="23986" y="2604"/>
                </a:cubicBezTo>
                <a:cubicBezTo>
                  <a:pt x="24113" y="2655"/>
                  <a:pt x="24168" y="2809"/>
                  <a:pt x="24011" y="2853"/>
                </a:cubicBezTo>
                <a:cubicBezTo>
                  <a:pt x="23937" y="2874"/>
                  <a:pt x="23876" y="2821"/>
                  <a:pt x="23812" y="2803"/>
                </a:cubicBezTo>
                <a:cubicBezTo>
                  <a:pt x="23829" y="2871"/>
                  <a:pt x="23918" y="2890"/>
                  <a:pt x="23986" y="2902"/>
                </a:cubicBezTo>
                <a:cubicBezTo>
                  <a:pt x="24084" y="2920"/>
                  <a:pt x="24068" y="2860"/>
                  <a:pt x="24061" y="2803"/>
                </a:cubicBezTo>
              </a:path>
              <a:path w="7864" h="6103">
                <a:moveTo>
                  <a:pt x="24011" y="2580"/>
                </a:moveTo>
                <a:cubicBezTo>
                  <a:pt x="24106" y="2580"/>
                  <a:pt x="24191" y="2594"/>
                  <a:pt x="24284" y="2604"/>
                </a:cubicBezTo>
                <a:cubicBezTo>
                  <a:pt x="24331" y="2609"/>
                  <a:pt x="24390" y="2667"/>
                  <a:pt x="24383" y="2729"/>
                </a:cubicBezTo>
                <a:cubicBezTo>
                  <a:pt x="24379" y="2763"/>
                  <a:pt x="24267" y="2830"/>
                  <a:pt x="24234" y="2803"/>
                </a:cubicBezTo>
                <a:cubicBezTo>
                  <a:pt x="24218" y="2778"/>
                  <a:pt x="24201" y="2754"/>
                  <a:pt x="24185" y="2729"/>
                </a:cubicBezTo>
              </a:path>
              <a:path w="7864" h="6103">
                <a:moveTo>
                  <a:pt x="24036" y="2480"/>
                </a:moveTo>
                <a:cubicBezTo>
                  <a:pt x="24122" y="2433"/>
                  <a:pt x="24224" y="2362"/>
                  <a:pt x="24309" y="2332"/>
                </a:cubicBezTo>
                <a:cubicBezTo>
                  <a:pt x="24330" y="2325"/>
                  <a:pt x="24382" y="2332"/>
                  <a:pt x="24408" y="2332"/>
                </a:cubicBezTo>
              </a:path>
              <a:path w="7864" h="6103">
                <a:moveTo>
                  <a:pt x="24011" y="3076"/>
                </a:moveTo>
                <a:cubicBezTo>
                  <a:pt x="24066" y="3094"/>
                  <a:pt x="24035" y="3086"/>
                  <a:pt x="24135" y="3051"/>
                </a:cubicBezTo>
                <a:cubicBezTo>
                  <a:pt x="24148" y="3046"/>
                  <a:pt x="24527" y="2931"/>
                  <a:pt x="24532" y="2952"/>
                </a:cubicBezTo>
                <a:cubicBezTo>
                  <a:pt x="24524" y="2968"/>
                  <a:pt x="24515" y="2985"/>
                  <a:pt x="24507" y="3001"/>
                </a:cubicBezTo>
              </a:path>
              <a:path w="7864" h="6103">
                <a:moveTo>
                  <a:pt x="23887" y="3448"/>
                </a:moveTo>
                <a:cubicBezTo>
                  <a:pt x="23901" y="3604"/>
                  <a:pt x="23889" y="3715"/>
                  <a:pt x="23862" y="3870"/>
                </a:cubicBezTo>
                <a:cubicBezTo>
                  <a:pt x="23862" y="3878"/>
                  <a:pt x="23862" y="3886"/>
                  <a:pt x="23862" y="3894"/>
                </a:cubicBezTo>
              </a:path>
              <a:path w="7864" h="6103">
                <a:moveTo>
                  <a:pt x="23986" y="3473"/>
                </a:moveTo>
                <a:cubicBezTo>
                  <a:pt x="23986" y="3617"/>
                  <a:pt x="23993" y="3696"/>
                  <a:pt x="24061" y="3820"/>
                </a:cubicBezTo>
                <a:cubicBezTo>
                  <a:pt x="24128" y="3734"/>
                  <a:pt x="24279" y="3571"/>
                  <a:pt x="24110" y="3497"/>
                </a:cubicBezTo>
                <a:cubicBezTo>
                  <a:pt x="24077" y="3489"/>
                  <a:pt x="24044" y="3481"/>
                  <a:pt x="24011" y="3473"/>
                </a:cubicBezTo>
              </a:path>
              <a:path w="7864" h="6103">
                <a:moveTo>
                  <a:pt x="24284" y="3373"/>
                </a:moveTo>
                <a:cubicBezTo>
                  <a:pt x="24270" y="3470"/>
                  <a:pt x="24244" y="3539"/>
                  <a:pt x="24259" y="3646"/>
                </a:cubicBezTo>
                <a:cubicBezTo>
                  <a:pt x="24372" y="3695"/>
                  <a:pt x="24507" y="3645"/>
                  <a:pt x="24532" y="3497"/>
                </a:cubicBezTo>
                <a:cubicBezTo>
                  <a:pt x="24550" y="3388"/>
                  <a:pt x="24420" y="3371"/>
                  <a:pt x="24358" y="3349"/>
                </a:cubicBezTo>
              </a:path>
              <a:path w="7864" h="6103">
                <a:moveTo>
                  <a:pt x="24755" y="3001"/>
                </a:moveTo>
                <a:cubicBezTo>
                  <a:pt x="24822" y="2986"/>
                  <a:pt x="24901" y="2924"/>
                  <a:pt x="24929" y="2952"/>
                </a:cubicBezTo>
              </a:path>
              <a:path w="7864" h="6103">
                <a:moveTo>
                  <a:pt x="24011" y="5556"/>
                </a:moveTo>
                <a:cubicBezTo>
                  <a:pt x="24072" y="5485"/>
                  <a:pt x="24086" y="5490"/>
                  <a:pt x="24185" y="5482"/>
                </a:cubicBezTo>
                <a:cubicBezTo>
                  <a:pt x="24152" y="5611"/>
                  <a:pt x="24095" y="5702"/>
                  <a:pt x="24011" y="5804"/>
                </a:cubicBezTo>
                <a:cubicBezTo>
                  <a:pt x="24123" y="5794"/>
                  <a:pt x="24299" y="5747"/>
                  <a:pt x="24160" y="5928"/>
                </a:cubicBezTo>
                <a:cubicBezTo>
                  <a:pt x="24028" y="6099"/>
                  <a:pt x="23931" y="6212"/>
                  <a:pt x="23887" y="5978"/>
                </a:cubicBezTo>
              </a:path>
              <a:path w="7864" h="6103">
                <a:moveTo>
                  <a:pt x="24333" y="5407"/>
                </a:moveTo>
                <a:cubicBezTo>
                  <a:pt x="24325" y="5424"/>
                  <a:pt x="24317" y="5440"/>
                  <a:pt x="24309" y="5457"/>
                </a:cubicBezTo>
                <a:cubicBezTo>
                  <a:pt x="24380" y="5493"/>
                  <a:pt x="24609" y="5524"/>
                  <a:pt x="24631" y="5631"/>
                </a:cubicBezTo>
                <a:cubicBezTo>
                  <a:pt x="24682" y="5879"/>
                  <a:pt x="24402" y="5749"/>
                  <a:pt x="24333" y="5705"/>
                </a:cubicBezTo>
              </a:path>
              <a:path w="7864" h="6103">
                <a:moveTo>
                  <a:pt x="24433" y="5308"/>
                </a:moveTo>
                <a:cubicBezTo>
                  <a:pt x="24564" y="5256"/>
                  <a:pt x="24699" y="5212"/>
                  <a:pt x="24829" y="5159"/>
                </a:cubicBezTo>
                <a:cubicBezTo>
                  <a:pt x="24857" y="5292"/>
                  <a:pt x="24850" y="5424"/>
                  <a:pt x="24879" y="5556"/>
                </a:cubicBezTo>
                <a:cubicBezTo>
                  <a:pt x="25041" y="5572"/>
                  <a:pt x="25121" y="5460"/>
                  <a:pt x="25053" y="5283"/>
                </a:cubicBezTo>
                <a:cubicBezTo>
                  <a:pt x="24995" y="5132"/>
                  <a:pt x="24900" y="5152"/>
                  <a:pt x="24780" y="5159"/>
                </a:cubicBezTo>
              </a:path>
              <a:path w="7864" h="6103">
                <a:moveTo>
                  <a:pt x="17934" y="25"/>
                </a:moveTo>
                <a:cubicBezTo>
                  <a:pt x="17866" y="126"/>
                  <a:pt x="17715" y="50"/>
                  <a:pt x="18207" y="74"/>
                </a:cubicBezTo>
                <a:cubicBezTo>
                  <a:pt x="18140" y="332"/>
                  <a:pt x="18065" y="509"/>
                  <a:pt x="17785" y="595"/>
                </a:cubicBezTo>
                <a:cubicBezTo>
                  <a:pt x="17727" y="595"/>
                  <a:pt x="17719" y="595"/>
                  <a:pt x="17686" y="595"/>
                </a:cubicBezTo>
                <a:cubicBezTo>
                  <a:pt x="17754" y="459"/>
                  <a:pt x="17896" y="422"/>
                  <a:pt x="18058" y="422"/>
                </a:cubicBezTo>
                <a:cubicBezTo>
                  <a:pt x="18257" y="422"/>
                  <a:pt x="18156" y="482"/>
                  <a:pt x="18256" y="571"/>
                </a:cubicBezTo>
                <a:cubicBezTo>
                  <a:pt x="18264" y="571"/>
                  <a:pt x="18273" y="571"/>
                  <a:pt x="18281" y="571"/>
                </a:cubicBezTo>
              </a:path>
              <a:path w="7864" h="6103">
                <a:moveTo>
                  <a:pt x="18604" y="223"/>
                </a:moveTo>
                <a:cubicBezTo>
                  <a:pt x="18522" y="241"/>
                  <a:pt x="18488" y="293"/>
                  <a:pt x="18430" y="322"/>
                </a:cubicBezTo>
                <a:cubicBezTo>
                  <a:pt x="18525" y="360"/>
                  <a:pt x="18716" y="359"/>
                  <a:pt x="18777" y="446"/>
                </a:cubicBezTo>
                <a:cubicBezTo>
                  <a:pt x="18926" y="659"/>
                  <a:pt x="18608" y="600"/>
                  <a:pt x="18529" y="571"/>
                </a:cubicBezTo>
              </a:path>
              <a:path w="7864" h="6103">
                <a:moveTo>
                  <a:pt x="18479" y="223"/>
                </a:moveTo>
                <a:cubicBezTo>
                  <a:pt x="18645" y="202"/>
                  <a:pt x="18810" y="183"/>
                  <a:pt x="18976" y="174"/>
                </a:cubicBezTo>
                <a:cubicBezTo>
                  <a:pt x="18984" y="174"/>
                  <a:pt x="18992" y="174"/>
                  <a:pt x="19000" y="174"/>
                </a:cubicBezTo>
              </a:path>
              <a:path w="7864" h="6103">
                <a:moveTo>
                  <a:pt x="17438" y="1091"/>
                </a:moveTo>
                <a:cubicBezTo>
                  <a:pt x="17810" y="981"/>
                  <a:pt x="18167" y="888"/>
                  <a:pt x="18554" y="843"/>
                </a:cubicBezTo>
                <a:cubicBezTo>
                  <a:pt x="18642" y="833"/>
                  <a:pt x="19086" y="757"/>
                  <a:pt x="19199" y="819"/>
                </a:cubicBezTo>
                <a:cubicBezTo>
                  <a:pt x="19191" y="835"/>
                  <a:pt x="19182" y="852"/>
                  <a:pt x="19174" y="868"/>
                </a:cubicBezTo>
              </a:path>
              <a:path w="7864" h="6103">
                <a:moveTo>
                  <a:pt x="18132" y="1265"/>
                </a:moveTo>
                <a:cubicBezTo>
                  <a:pt x="18056" y="1426"/>
                  <a:pt x="18009" y="1536"/>
                  <a:pt x="18033" y="1712"/>
                </a:cubicBezTo>
                <a:cubicBezTo>
                  <a:pt x="18207" y="1673"/>
                  <a:pt x="18418" y="1576"/>
                  <a:pt x="18355" y="1339"/>
                </a:cubicBezTo>
                <a:cubicBezTo>
                  <a:pt x="18343" y="1292"/>
                  <a:pt x="18191" y="1294"/>
                  <a:pt x="18157" y="1290"/>
                </a:cubicBezTo>
              </a:path>
              <a:path w="7864" h="6103">
                <a:moveTo>
                  <a:pt x="19695" y="943"/>
                </a:moveTo>
                <a:cubicBezTo>
                  <a:pt x="19695" y="930"/>
                  <a:pt x="19924" y="763"/>
                  <a:pt x="19968" y="819"/>
                </a:cubicBezTo>
                <a:cubicBezTo>
                  <a:pt x="19960" y="852"/>
                  <a:pt x="19951" y="885"/>
                  <a:pt x="19943" y="918"/>
                </a:cubicBezTo>
              </a:path>
              <a:path w="7864" h="6103">
                <a:moveTo>
                  <a:pt x="19695" y="1166"/>
                </a:moveTo>
                <a:cubicBezTo>
                  <a:pt x="19839" y="1111"/>
                  <a:pt x="19977" y="1056"/>
                  <a:pt x="20117" y="992"/>
                </a:cubicBezTo>
              </a:path>
              <a:path w="7864" h="6103">
                <a:moveTo>
                  <a:pt x="20464" y="496"/>
                </a:moveTo>
                <a:cubicBezTo>
                  <a:pt x="20371" y="465"/>
                  <a:pt x="20548" y="353"/>
                  <a:pt x="20588" y="347"/>
                </a:cubicBezTo>
                <a:cubicBezTo>
                  <a:pt x="20834" y="313"/>
                  <a:pt x="20699" y="644"/>
                  <a:pt x="20613" y="719"/>
                </a:cubicBezTo>
                <a:cubicBezTo>
                  <a:pt x="20508" y="783"/>
                  <a:pt x="20487" y="801"/>
                  <a:pt x="20414" y="819"/>
                </a:cubicBezTo>
                <a:cubicBezTo>
                  <a:pt x="20414" y="698"/>
                  <a:pt x="20529" y="728"/>
                  <a:pt x="20613" y="744"/>
                </a:cubicBezTo>
                <a:cubicBezTo>
                  <a:pt x="20694" y="760"/>
                  <a:pt x="20698" y="775"/>
                  <a:pt x="20712" y="843"/>
                </a:cubicBezTo>
              </a:path>
              <a:path w="7864" h="6103">
                <a:moveTo>
                  <a:pt x="21084" y="347"/>
                </a:moveTo>
                <a:cubicBezTo>
                  <a:pt x="21084" y="484"/>
                  <a:pt x="21137" y="394"/>
                  <a:pt x="21233" y="471"/>
                </a:cubicBezTo>
                <a:cubicBezTo>
                  <a:pt x="21360" y="572"/>
                  <a:pt x="21329" y="615"/>
                  <a:pt x="21208" y="670"/>
                </a:cubicBezTo>
              </a:path>
              <a:path w="7864" h="6103">
                <a:moveTo>
                  <a:pt x="21134" y="248"/>
                </a:moveTo>
                <a:cubicBezTo>
                  <a:pt x="21263" y="211"/>
                  <a:pt x="21373" y="198"/>
                  <a:pt x="21506" y="198"/>
                </a:cubicBezTo>
              </a:path>
              <a:path w="7864" h="6103">
                <a:moveTo>
                  <a:pt x="20563" y="1364"/>
                </a:moveTo>
                <a:cubicBezTo>
                  <a:pt x="20495" y="1499"/>
                  <a:pt x="20366" y="1680"/>
                  <a:pt x="20365" y="1836"/>
                </a:cubicBezTo>
                <a:cubicBezTo>
                  <a:pt x="20373" y="1828"/>
                  <a:pt x="20381" y="1819"/>
                  <a:pt x="20389" y="1811"/>
                </a:cubicBezTo>
              </a:path>
              <a:path w="7864" h="6103">
                <a:moveTo>
                  <a:pt x="20886" y="1364"/>
                </a:moveTo>
                <a:cubicBezTo>
                  <a:pt x="20846" y="1518"/>
                  <a:pt x="20816" y="1610"/>
                  <a:pt x="20836" y="1761"/>
                </a:cubicBezTo>
                <a:cubicBezTo>
                  <a:pt x="20931" y="1739"/>
                  <a:pt x="21246" y="1615"/>
                  <a:pt x="21134" y="1439"/>
                </a:cubicBezTo>
                <a:cubicBezTo>
                  <a:pt x="21041" y="1392"/>
                  <a:pt x="21014" y="1380"/>
                  <a:pt x="20960" y="1339"/>
                </a:cubicBezTo>
              </a:path>
              <a:path w="7864" h="6103">
                <a:moveTo>
                  <a:pt x="21704" y="893"/>
                </a:moveTo>
                <a:cubicBezTo>
                  <a:pt x="21792" y="1016"/>
                  <a:pt x="21879" y="1132"/>
                  <a:pt x="21952" y="1265"/>
                </a:cubicBezTo>
              </a:path>
              <a:path w="7864" h="6103">
                <a:moveTo>
                  <a:pt x="22349" y="1091"/>
                </a:moveTo>
                <a:cubicBezTo>
                  <a:pt x="22394" y="1069"/>
                  <a:pt x="22523" y="1039"/>
                  <a:pt x="22523" y="1141"/>
                </a:cubicBezTo>
                <a:cubicBezTo>
                  <a:pt x="22502" y="1225"/>
                  <a:pt x="22507" y="1251"/>
                  <a:pt x="22448" y="1265"/>
                </a:cubicBezTo>
                <a:cubicBezTo>
                  <a:pt x="22541" y="1284"/>
                  <a:pt x="22597" y="1330"/>
                  <a:pt x="22572" y="1439"/>
                </a:cubicBezTo>
                <a:cubicBezTo>
                  <a:pt x="22528" y="1628"/>
                  <a:pt x="22412" y="1626"/>
                  <a:pt x="22275" y="1563"/>
                </a:cubicBezTo>
              </a:path>
              <a:path w="7864" h="6103">
                <a:moveTo>
                  <a:pt x="22746" y="1067"/>
                </a:moveTo>
                <a:cubicBezTo>
                  <a:pt x="22703" y="1130"/>
                  <a:pt x="22687" y="1142"/>
                  <a:pt x="22696" y="1191"/>
                </a:cubicBezTo>
                <a:cubicBezTo>
                  <a:pt x="22765" y="1217"/>
                  <a:pt x="22966" y="1264"/>
                  <a:pt x="22969" y="1364"/>
                </a:cubicBezTo>
                <a:cubicBezTo>
                  <a:pt x="22974" y="1519"/>
                  <a:pt x="22870" y="1513"/>
                  <a:pt x="22771" y="1513"/>
                </a:cubicBezTo>
              </a:path>
              <a:path w="7864" h="6103">
                <a:moveTo>
                  <a:pt x="22671" y="1091"/>
                </a:moveTo>
                <a:cubicBezTo>
                  <a:pt x="22774" y="1025"/>
                  <a:pt x="22881" y="955"/>
                  <a:pt x="22994" y="918"/>
                </a:cubicBezTo>
              </a:path>
              <a:path w="7864" h="6103">
                <a:moveTo>
                  <a:pt x="22200" y="397"/>
                </a:moveTo>
                <a:cubicBezTo>
                  <a:pt x="22267" y="330"/>
                  <a:pt x="22326" y="297"/>
                  <a:pt x="22399" y="248"/>
                </a:cubicBezTo>
                <a:cubicBezTo>
                  <a:pt x="22389" y="370"/>
                  <a:pt x="22380" y="375"/>
                  <a:pt x="22299" y="471"/>
                </a:cubicBezTo>
                <a:cubicBezTo>
                  <a:pt x="22342" y="487"/>
                  <a:pt x="22481" y="507"/>
                  <a:pt x="22374" y="595"/>
                </a:cubicBezTo>
                <a:cubicBezTo>
                  <a:pt x="22301" y="655"/>
                  <a:pt x="22230" y="652"/>
                  <a:pt x="22151" y="645"/>
                </a:cubicBezTo>
              </a:path>
              <a:path w="7864" h="6103">
                <a:moveTo>
                  <a:pt x="22572" y="248"/>
                </a:moveTo>
                <a:cubicBezTo>
                  <a:pt x="22572" y="316"/>
                  <a:pt x="22585" y="338"/>
                  <a:pt x="22647" y="372"/>
                </a:cubicBezTo>
                <a:cubicBezTo>
                  <a:pt x="22728" y="413"/>
                  <a:pt x="22741" y="430"/>
                  <a:pt x="22796" y="422"/>
                </a:cubicBezTo>
                <a:cubicBezTo>
                  <a:pt x="22779" y="522"/>
                  <a:pt x="22770" y="504"/>
                  <a:pt x="22696" y="571"/>
                </a:cubicBezTo>
              </a:path>
              <a:path w="7864" h="6103">
                <a:moveTo>
                  <a:pt x="23341" y="744"/>
                </a:moveTo>
                <a:cubicBezTo>
                  <a:pt x="23380" y="705"/>
                  <a:pt x="23480" y="672"/>
                  <a:pt x="23515" y="695"/>
                </a:cubicBezTo>
              </a:path>
              <a:path w="7864" h="6103">
                <a:moveTo>
                  <a:pt x="24160" y="74"/>
                </a:moveTo>
                <a:cubicBezTo>
                  <a:pt x="24201" y="84"/>
                  <a:pt x="24250" y="106"/>
                  <a:pt x="24259" y="149"/>
                </a:cubicBezTo>
                <a:cubicBezTo>
                  <a:pt x="24266" y="180"/>
                  <a:pt x="24276" y="193"/>
                  <a:pt x="24284" y="223"/>
                </a:cubicBezTo>
                <a:cubicBezTo>
                  <a:pt x="24142" y="243"/>
                  <a:pt x="24059" y="298"/>
                  <a:pt x="23937" y="372"/>
                </a:cubicBezTo>
                <a:cubicBezTo>
                  <a:pt x="24048" y="383"/>
                  <a:pt x="24245" y="369"/>
                  <a:pt x="24333" y="446"/>
                </a:cubicBezTo>
                <a:cubicBezTo>
                  <a:pt x="24459" y="555"/>
                  <a:pt x="24344" y="766"/>
                  <a:pt x="24209" y="794"/>
                </a:cubicBezTo>
                <a:cubicBezTo>
                  <a:pt x="24201" y="786"/>
                  <a:pt x="24193" y="777"/>
                  <a:pt x="24185" y="769"/>
                </a:cubicBezTo>
                <a:cubicBezTo>
                  <a:pt x="24163" y="646"/>
                  <a:pt x="24189" y="575"/>
                  <a:pt x="24259" y="471"/>
                </a:cubicBezTo>
                <a:cubicBezTo>
                  <a:pt x="24281" y="449"/>
                  <a:pt x="24290" y="444"/>
                  <a:pt x="24284" y="422"/>
                </a:cubicBezTo>
              </a:path>
              <a:path w="7864" h="6103">
                <a:moveTo>
                  <a:pt x="24433" y="397"/>
                </a:moveTo>
                <a:cubicBezTo>
                  <a:pt x="24486" y="392"/>
                  <a:pt x="24599" y="349"/>
                  <a:pt x="24631" y="397"/>
                </a:cubicBezTo>
                <a:cubicBezTo>
                  <a:pt x="24689" y="484"/>
                  <a:pt x="24648" y="632"/>
                  <a:pt x="24631" y="719"/>
                </a:cubicBezTo>
                <a:cubicBezTo>
                  <a:pt x="24631" y="727"/>
                  <a:pt x="24631" y="736"/>
                  <a:pt x="24631" y="744"/>
                </a:cubicBezTo>
              </a:path>
              <a:path w="7864" h="6103">
                <a:moveTo>
                  <a:pt x="24805" y="695"/>
                </a:moveTo>
                <a:cubicBezTo>
                  <a:pt x="24829" y="719"/>
                  <a:pt x="24838" y="728"/>
                  <a:pt x="24854" y="744"/>
                </a:cubicBezTo>
              </a:path>
              <a:path w="7864" h="6103">
                <a:moveTo>
                  <a:pt x="25003" y="521"/>
                </a:moveTo>
                <a:cubicBezTo>
                  <a:pt x="24964" y="521"/>
                  <a:pt x="25064" y="554"/>
                  <a:pt x="25102" y="571"/>
                </a:cubicBezTo>
                <a:cubicBezTo>
                  <a:pt x="25176" y="603"/>
                  <a:pt x="25226" y="607"/>
                  <a:pt x="25226" y="695"/>
                </a:cubicBezTo>
                <a:cubicBezTo>
                  <a:pt x="25119" y="695"/>
                  <a:pt x="25079" y="690"/>
                  <a:pt x="25028" y="620"/>
                </a:cubicBezTo>
              </a:path>
              <a:path w="7864" h="6103">
                <a:moveTo>
                  <a:pt x="24259" y="1191"/>
                </a:moveTo>
                <a:cubicBezTo>
                  <a:pt x="24188" y="1167"/>
                  <a:pt x="24272" y="1159"/>
                  <a:pt x="24284" y="1141"/>
                </a:cubicBezTo>
                <a:cubicBezTo>
                  <a:pt x="24308" y="1106"/>
                  <a:pt x="24290" y="1116"/>
                  <a:pt x="24358" y="1116"/>
                </a:cubicBezTo>
                <a:cubicBezTo>
                  <a:pt x="24376" y="1239"/>
                  <a:pt x="24398" y="1319"/>
                  <a:pt x="24284" y="1414"/>
                </a:cubicBezTo>
                <a:cubicBezTo>
                  <a:pt x="24251" y="1430"/>
                  <a:pt x="24218" y="1447"/>
                  <a:pt x="24185" y="1463"/>
                </a:cubicBezTo>
                <a:cubicBezTo>
                  <a:pt x="24050" y="1400"/>
                  <a:pt x="24344" y="1435"/>
                  <a:pt x="24358" y="1463"/>
                </a:cubicBezTo>
                <a:cubicBezTo>
                  <a:pt x="24432" y="1612"/>
                  <a:pt x="24223" y="1726"/>
                  <a:pt x="24110" y="1736"/>
                </a:cubicBezTo>
                <a:cubicBezTo>
                  <a:pt x="24029" y="1710"/>
                  <a:pt x="24004" y="1694"/>
                  <a:pt x="24036" y="1612"/>
                </a:cubicBezTo>
              </a:path>
              <a:path w="7864" h="6103">
                <a:moveTo>
                  <a:pt x="24482" y="1265"/>
                </a:moveTo>
                <a:cubicBezTo>
                  <a:pt x="24443" y="1355"/>
                  <a:pt x="24437" y="1380"/>
                  <a:pt x="24532" y="1439"/>
                </a:cubicBezTo>
                <a:cubicBezTo>
                  <a:pt x="24557" y="1454"/>
                  <a:pt x="24764" y="1566"/>
                  <a:pt x="24656" y="1637"/>
                </a:cubicBezTo>
                <a:cubicBezTo>
                  <a:pt x="24593" y="1637"/>
                  <a:pt x="24566" y="1630"/>
                  <a:pt x="24532" y="1588"/>
                </a:cubicBezTo>
              </a:path>
              <a:path w="7864" h="6103">
                <a:moveTo>
                  <a:pt x="24581" y="1265"/>
                </a:moveTo>
                <a:cubicBezTo>
                  <a:pt x="24704" y="1176"/>
                  <a:pt x="24799" y="1111"/>
                  <a:pt x="24954" y="1091"/>
                </a:cubicBezTo>
                <a:cubicBezTo>
                  <a:pt x="24979" y="1091"/>
                  <a:pt x="25003" y="1091"/>
                  <a:pt x="25028" y="1091"/>
                </a:cubicBezTo>
                <a:cubicBezTo>
                  <a:pt x="25007" y="1174"/>
                  <a:pt x="24912" y="1395"/>
                  <a:pt x="25078" y="1414"/>
                </a:cubicBezTo>
                <a:cubicBezTo>
                  <a:pt x="25234" y="1432"/>
                  <a:pt x="25390" y="1173"/>
                  <a:pt x="25251" y="1067"/>
                </a:cubicBezTo>
                <a:cubicBezTo>
                  <a:pt x="25145" y="1040"/>
                  <a:pt x="25105" y="1032"/>
                  <a:pt x="25028" y="1042"/>
                </a:cubicBezTo>
              </a:path>
              <a:path w="7864" h="6103">
                <a:moveTo>
                  <a:pt x="24234" y="298"/>
                </a:moveTo>
                <a:cubicBezTo>
                  <a:pt x="24234" y="228"/>
                  <a:pt x="24254" y="214"/>
                  <a:pt x="24333" y="198"/>
                </a:cubicBezTo>
                <a:cubicBezTo>
                  <a:pt x="24395" y="186"/>
                  <a:pt x="24405" y="163"/>
                  <a:pt x="24383" y="273"/>
                </a:cubicBezTo>
                <a:cubicBezTo>
                  <a:pt x="24378" y="300"/>
                  <a:pt x="24332" y="431"/>
                  <a:pt x="24309" y="446"/>
                </a:cubicBezTo>
                <a:cubicBezTo>
                  <a:pt x="24284" y="446"/>
                  <a:pt x="24276" y="446"/>
                  <a:pt x="24284" y="471"/>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133200" y="125280"/>
            <a:ext cx="9002880" cy="3036960"/>
          </a:xfrm>
          <a:custGeom>
            <a:avLst/>
            <a:gdLst/>
            <a:ahLst/>
            <a:rect l="l" t="t" r="r" b="b"/>
            <a:pathLst>
              <a:path w="25004" h="8435">
                <a:moveTo>
                  <a:pt x="1191" y="6524"/>
                </a:moveTo>
                <a:cubicBezTo>
                  <a:pt x="1191" y="6673"/>
                  <a:pt x="1266" y="6800"/>
                  <a:pt x="1290" y="6945"/>
                </a:cubicBezTo>
                <a:cubicBezTo>
                  <a:pt x="1325" y="7153"/>
                  <a:pt x="1350" y="6864"/>
                  <a:pt x="1389" y="6747"/>
                </a:cubicBezTo>
              </a:path>
              <a:path w="25004" h="8435">
                <a:moveTo>
                  <a:pt x="1315" y="6400"/>
                </a:moveTo>
                <a:cubicBezTo>
                  <a:pt x="1330" y="6353"/>
                  <a:pt x="1559" y="6273"/>
                  <a:pt x="1612" y="6251"/>
                </a:cubicBezTo>
                <a:cubicBezTo>
                  <a:pt x="1637" y="6243"/>
                  <a:pt x="1662" y="6234"/>
                  <a:pt x="1687" y="6226"/>
                </a:cubicBezTo>
                <a:cubicBezTo>
                  <a:pt x="1703" y="6417"/>
                  <a:pt x="1712" y="6603"/>
                  <a:pt x="1712" y="6796"/>
                </a:cubicBezTo>
                <a:cubicBezTo>
                  <a:pt x="1712" y="6843"/>
                  <a:pt x="1728" y="6821"/>
                  <a:pt x="1736" y="6796"/>
                </a:cubicBezTo>
              </a:path>
              <a:path w="25004" h="8435">
                <a:moveTo>
                  <a:pt x="3746" y="6672"/>
                </a:moveTo>
                <a:cubicBezTo>
                  <a:pt x="3572" y="6833"/>
                  <a:pt x="3543" y="6959"/>
                  <a:pt x="3522" y="7193"/>
                </a:cubicBezTo>
                <a:cubicBezTo>
                  <a:pt x="3706" y="7206"/>
                  <a:pt x="3960" y="7123"/>
                  <a:pt x="3944" y="6871"/>
                </a:cubicBezTo>
                <a:cubicBezTo>
                  <a:pt x="3870" y="6772"/>
                  <a:pt x="3845" y="6739"/>
                  <a:pt x="3746" y="6772"/>
                </a:cubicBezTo>
              </a:path>
              <a:path w="25004" h="8435">
                <a:moveTo>
                  <a:pt x="2877" y="6945"/>
                </a:moveTo>
                <a:cubicBezTo>
                  <a:pt x="2758" y="6969"/>
                  <a:pt x="2692" y="7137"/>
                  <a:pt x="2654" y="7243"/>
                </a:cubicBezTo>
                <a:cubicBezTo>
                  <a:pt x="2646" y="7284"/>
                  <a:pt x="2637" y="7326"/>
                  <a:pt x="2629" y="7367"/>
                </a:cubicBezTo>
                <a:cubicBezTo>
                  <a:pt x="2799" y="7445"/>
                  <a:pt x="2904" y="7355"/>
                  <a:pt x="2977" y="7169"/>
                </a:cubicBezTo>
                <a:cubicBezTo>
                  <a:pt x="3024" y="7048"/>
                  <a:pt x="2994" y="6948"/>
                  <a:pt x="2853" y="6970"/>
                </a:cubicBezTo>
                <a:cubicBezTo>
                  <a:pt x="2828" y="6978"/>
                  <a:pt x="2803" y="6987"/>
                  <a:pt x="2778" y="6995"/>
                </a:cubicBezTo>
              </a:path>
              <a:path w="25004" h="8435">
                <a:moveTo>
                  <a:pt x="2059" y="7193"/>
                </a:moveTo>
                <a:cubicBezTo>
                  <a:pt x="2048" y="7162"/>
                  <a:pt x="1994" y="7150"/>
                  <a:pt x="1960" y="7193"/>
                </a:cubicBezTo>
                <a:cubicBezTo>
                  <a:pt x="1852" y="7330"/>
                  <a:pt x="1797" y="7499"/>
                  <a:pt x="1860" y="7640"/>
                </a:cubicBezTo>
                <a:cubicBezTo>
                  <a:pt x="2061" y="7596"/>
                  <a:pt x="2203" y="7502"/>
                  <a:pt x="2232" y="7268"/>
                </a:cubicBezTo>
                <a:cubicBezTo>
                  <a:pt x="2244" y="7170"/>
                  <a:pt x="2084" y="7172"/>
                  <a:pt x="2034" y="7169"/>
                </a:cubicBezTo>
                <a:cubicBezTo>
                  <a:pt x="2026" y="7169"/>
                  <a:pt x="2017" y="7169"/>
                  <a:pt x="2009" y="7169"/>
                </a:cubicBezTo>
              </a:path>
              <a:path w="25004" h="8435">
                <a:moveTo>
                  <a:pt x="1339" y="7392"/>
                </a:moveTo>
                <a:cubicBezTo>
                  <a:pt x="1399" y="7412"/>
                  <a:pt x="1332" y="7416"/>
                  <a:pt x="1389" y="7342"/>
                </a:cubicBezTo>
                <a:cubicBezTo>
                  <a:pt x="1425" y="7295"/>
                  <a:pt x="1446" y="7260"/>
                  <a:pt x="1488" y="7218"/>
                </a:cubicBezTo>
                <a:cubicBezTo>
                  <a:pt x="1408" y="7358"/>
                  <a:pt x="1364" y="7577"/>
                  <a:pt x="1339" y="7739"/>
                </a:cubicBezTo>
                <a:cubicBezTo>
                  <a:pt x="1339" y="7813"/>
                  <a:pt x="1339" y="7822"/>
                  <a:pt x="1339" y="7863"/>
                </a:cubicBezTo>
              </a:path>
              <a:path w="25004" h="8435">
                <a:moveTo>
                  <a:pt x="1141" y="7392"/>
                </a:moveTo>
                <a:cubicBezTo>
                  <a:pt x="1101" y="7402"/>
                  <a:pt x="1077" y="7410"/>
                  <a:pt x="1067" y="7441"/>
                </a:cubicBezTo>
                <a:cubicBezTo>
                  <a:pt x="1171" y="7380"/>
                  <a:pt x="1299" y="7329"/>
                  <a:pt x="1414" y="7268"/>
                </a:cubicBezTo>
                <a:cubicBezTo>
                  <a:pt x="1422" y="7260"/>
                  <a:pt x="1431" y="7251"/>
                  <a:pt x="1439" y="7243"/>
                </a:cubicBezTo>
              </a:path>
              <a:path w="25004" h="8435">
                <a:moveTo>
                  <a:pt x="967" y="8186"/>
                </a:moveTo>
                <a:cubicBezTo>
                  <a:pt x="1385" y="8002"/>
                  <a:pt x="1799" y="7836"/>
                  <a:pt x="2232" y="7689"/>
                </a:cubicBezTo>
                <a:cubicBezTo>
                  <a:pt x="2700" y="7530"/>
                  <a:pt x="3172" y="7402"/>
                  <a:pt x="3646" y="7268"/>
                </a:cubicBezTo>
                <a:cubicBezTo>
                  <a:pt x="3750" y="7239"/>
                  <a:pt x="3787" y="7213"/>
                  <a:pt x="3870" y="7193"/>
                </a:cubicBezTo>
                <a:cubicBezTo>
                  <a:pt x="3978" y="7166"/>
                  <a:pt x="4088" y="7137"/>
                  <a:pt x="4192" y="7094"/>
                </a:cubicBezTo>
                <a:cubicBezTo>
                  <a:pt x="4221" y="7082"/>
                  <a:pt x="4345" y="7046"/>
                  <a:pt x="4291" y="7045"/>
                </a:cubicBezTo>
                <a:cubicBezTo>
                  <a:pt x="4266" y="7053"/>
                  <a:pt x="4242" y="7061"/>
                  <a:pt x="4217" y="7069"/>
                </a:cubicBezTo>
              </a:path>
              <a:path w="25004" h="8435">
                <a:moveTo>
                  <a:pt x="695" y="7565"/>
                </a:moveTo>
                <a:cubicBezTo>
                  <a:pt x="794" y="7641"/>
                  <a:pt x="729" y="7796"/>
                  <a:pt x="719" y="7913"/>
                </a:cubicBezTo>
                <a:cubicBezTo>
                  <a:pt x="719" y="7974"/>
                  <a:pt x="728" y="7989"/>
                  <a:pt x="695" y="8012"/>
                </a:cubicBezTo>
              </a:path>
              <a:path w="25004" h="8435">
                <a:moveTo>
                  <a:pt x="372" y="7938"/>
                </a:moveTo>
                <a:cubicBezTo>
                  <a:pt x="577" y="7830"/>
                  <a:pt x="788" y="7666"/>
                  <a:pt x="1017" y="7615"/>
                </a:cubicBezTo>
                <a:cubicBezTo>
                  <a:pt x="1091" y="7615"/>
                  <a:pt x="1100" y="7615"/>
                  <a:pt x="1141" y="7615"/>
                </a:cubicBezTo>
              </a:path>
              <a:path w="25004" h="8435">
                <a:moveTo>
                  <a:pt x="1736" y="8136"/>
                </a:moveTo>
                <a:cubicBezTo>
                  <a:pt x="1611" y="8157"/>
                  <a:pt x="1440" y="8255"/>
                  <a:pt x="1364" y="8359"/>
                </a:cubicBezTo>
                <a:cubicBezTo>
                  <a:pt x="1218" y="8560"/>
                  <a:pt x="1712" y="8521"/>
                  <a:pt x="1786" y="8607"/>
                </a:cubicBezTo>
                <a:cubicBezTo>
                  <a:pt x="1786" y="8640"/>
                  <a:pt x="1786" y="8673"/>
                  <a:pt x="1786" y="8706"/>
                </a:cubicBezTo>
                <a:cubicBezTo>
                  <a:pt x="1753" y="8731"/>
                  <a:pt x="1720" y="8756"/>
                  <a:pt x="1687" y="8781"/>
                </a:cubicBezTo>
                <a:cubicBezTo>
                  <a:pt x="1475" y="8653"/>
                  <a:pt x="1567" y="8500"/>
                  <a:pt x="1712" y="8285"/>
                </a:cubicBezTo>
                <a:cubicBezTo>
                  <a:pt x="1720" y="8277"/>
                  <a:pt x="1728" y="8268"/>
                  <a:pt x="1736" y="8260"/>
                </a:cubicBezTo>
              </a:path>
              <a:path w="25004" h="8435">
                <a:moveTo>
                  <a:pt x="1960" y="8136"/>
                </a:moveTo>
                <a:cubicBezTo>
                  <a:pt x="2078" y="8082"/>
                  <a:pt x="2337" y="7929"/>
                  <a:pt x="2381" y="8136"/>
                </a:cubicBezTo>
                <a:cubicBezTo>
                  <a:pt x="2407" y="8257"/>
                  <a:pt x="2326" y="8517"/>
                  <a:pt x="2356" y="8533"/>
                </a:cubicBezTo>
              </a:path>
              <a:path w="25004" h="8435">
                <a:moveTo>
                  <a:pt x="3076" y="7813"/>
                </a:moveTo>
                <a:cubicBezTo>
                  <a:pt x="3049" y="7820"/>
                  <a:pt x="2864" y="7856"/>
                  <a:pt x="2853" y="7888"/>
                </a:cubicBezTo>
                <a:cubicBezTo>
                  <a:pt x="2824" y="7971"/>
                  <a:pt x="2814" y="8099"/>
                  <a:pt x="2803" y="8186"/>
                </a:cubicBezTo>
                <a:cubicBezTo>
                  <a:pt x="2933" y="8160"/>
                  <a:pt x="3035" y="8083"/>
                  <a:pt x="3175" y="8136"/>
                </a:cubicBezTo>
                <a:cubicBezTo>
                  <a:pt x="3200" y="8153"/>
                  <a:pt x="3224" y="8169"/>
                  <a:pt x="3249" y="8186"/>
                </a:cubicBezTo>
                <a:cubicBezTo>
                  <a:pt x="3203" y="8293"/>
                  <a:pt x="3007" y="8499"/>
                  <a:pt x="2853" y="8384"/>
                </a:cubicBezTo>
                <a:cubicBezTo>
                  <a:pt x="2853" y="8351"/>
                  <a:pt x="2853" y="8318"/>
                  <a:pt x="2853" y="8285"/>
                </a:cubicBezTo>
              </a:path>
              <a:path w="25004" h="8435">
                <a:moveTo>
                  <a:pt x="3621" y="7590"/>
                </a:moveTo>
                <a:cubicBezTo>
                  <a:pt x="3541" y="7809"/>
                  <a:pt x="3534" y="7909"/>
                  <a:pt x="3646" y="8111"/>
                </a:cubicBezTo>
                <a:cubicBezTo>
                  <a:pt x="3849" y="8081"/>
                  <a:pt x="4079" y="7982"/>
                  <a:pt x="4043" y="7714"/>
                </a:cubicBezTo>
                <a:cubicBezTo>
                  <a:pt x="4010" y="7466"/>
                  <a:pt x="3797" y="7581"/>
                  <a:pt x="3671" y="7615"/>
                </a:cubicBezTo>
              </a:path>
              <a:path w="25004" h="8435">
                <a:moveTo>
                  <a:pt x="2604" y="8508"/>
                </a:moveTo>
                <a:cubicBezTo>
                  <a:pt x="2604" y="8551"/>
                  <a:pt x="2601" y="8590"/>
                  <a:pt x="2629" y="8558"/>
                </a:cubicBezTo>
                <a:cubicBezTo>
                  <a:pt x="2652" y="8535"/>
                  <a:pt x="2660" y="8531"/>
                  <a:pt x="2654" y="8508"/>
                </a:cubicBezTo>
                <a:cubicBezTo>
                  <a:pt x="2646" y="8516"/>
                  <a:pt x="2637" y="8525"/>
                  <a:pt x="2629" y="8533"/>
                </a:cubicBezTo>
                <a:cubicBezTo>
                  <a:pt x="2662" y="8566"/>
                  <a:pt x="2730" y="8444"/>
                  <a:pt x="2704" y="8483"/>
                </a:cubicBezTo>
                <a:cubicBezTo>
                  <a:pt x="2696" y="8500"/>
                  <a:pt x="2687" y="8516"/>
                  <a:pt x="2679" y="8533"/>
                </a:cubicBezTo>
              </a:path>
              <a:path w="25004" h="8435">
                <a:moveTo>
                  <a:pt x="4390" y="7714"/>
                </a:moveTo>
                <a:cubicBezTo>
                  <a:pt x="4366" y="7656"/>
                  <a:pt x="4331" y="7521"/>
                  <a:pt x="4390" y="7466"/>
                </a:cubicBezTo>
                <a:cubicBezTo>
                  <a:pt x="4504" y="7359"/>
                  <a:pt x="4636" y="7457"/>
                  <a:pt x="4762" y="7491"/>
                </a:cubicBezTo>
                <a:cubicBezTo>
                  <a:pt x="4837" y="7511"/>
                  <a:pt x="5065" y="7498"/>
                  <a:pt x="5035" y="7367"/>
                </a:cubicBezTo>
                <a:cubicBezTo>
                  <a:pt x="5027" y="7367"/>
                  <a:pt x="5019" y="7367"/>
                  <a:pt x="5011" y="7367"/>
                </a:cubicBezTo>
              </a:path>
              <a:path w="25004" h="8435">
                <a:moveTo>
                  <a:pt x="5060" y="7466"/>
                </a:moveTo>
                <a:cubicBezTo>
                  <a:pt x="5071" y="7421"/>
                  <a:pt x="5085" y="7396"/>
                  <a:pt x="5085" y="7342"/>
                </a:cubicBezTo>
                <a:cubicBezTo>
                  <a:pt x="5085" y="7291"/>
                  <a:pt x="5100" y="7256"/>
                  <a:pt x="5060" y="7243"/>
                </a:cubicBezTo>
              </a:path>
              <a:path w="25004" h="8435">
                <a:moveTo>
                  <a:pt x="5854" y="6846"/>
                </a:moveTo>
                <a:cubicBezTo>
                  <a:pt x="5685" y="6874"/>
                  <a:pt x="5613" y="6904"/>
                  <a:pt x="5531" y="7045"/>
                </a:cubicBezTo>
                <a:cubicBezTo>
                  <a:pt x="5639" y="7082"/>
                  <a:pt x="6074" y="7132"/>
                  <a:pt x="5953" y="7317"/>
                </a:cubicBezTo>
                <a:cubicBezTo>
                  <a:pt x="5845" y="7404"/>
                  <a:pt x="5823" y="7438"/>
                  <a:pt x="5730" y="7417"/>
                </a:cubicBezTo>
                <a:cubicBezTo>
                  <a:pt x="5722" y="7258"/>
                  <a:pt x="5766" y="7150"/>
                  <a:pt x="5804" y="6995"/>
                </a:cubicBezTo>
              </a:path>
              <a:path w="25004" h="8435">
                <a:moveTo>
                  <a:pt x="6375" y="6722"/>
                </a:moveTo>
                <a:cubicBezTo>
                  <a:pt x="6231" y="6746"/>
                  <a:pt x="6167" y="6779"/>
                  <a:pt x="6052" y="6871"/>
                </a:cubicBezTo>
                <a:cubicBezTo>
                  <a:pt x="6149" y="6999"/>
                  <a:pt x="6306" y="7050"/>
                  <a:pt x="6424" y="7169"/>
                </a:cubicBezTo>
                <a:cubicBezTo>
                  <a:pt x="6316" y="7259"/>
                  <a:pt x="6115" y="7344"/>
                  <a:pt x="6201" y="7094"/>
                </a:cubicBezTo>
                <a:cubicBezTo>
                  <a:pt x="6239" y="6983"/>
                  <a:pt x="6393" y="6764"/>
                  <a:pt x="6276" y="6772"/>
                </a:cubicBezTo>
                <a:cubicBezTo>
                  <a:pt x="6259" y="6780"/>
                  <a:pt x="6243" y="6788"/>
                  <a:pt x="6226" y="6796"/>
                </a:cubicBezTo>
              </a:path>
              <a:path w="25004" h="8435">
                <a:moveTo>
                  <a:pt x="19546" y="2828"/>
                </a:moveTo>
                <a:cubicBezTo>
                  <a:pt x="19692" y="2763"/>
                  <a:pt x="19877" y="2674"/>
                  <a:pt x="20042" y="2679"/>
                </a:cubicBezTo>
                <a:cubicBezTo>
                  <a:pt x="20117" y="2704"/>
                  <a:pt x="20141" y="2712"/>
                  <a:pt x="20141" y="2778"/>
                </a:cubicBezTo>
              </a:path>
              <a:path w="25004" h="8435">
                <a:moveTo>
                  <a:pt x="20786" y="3671"/>
                </a:moveTo>
                <a:cubicBezTo>
                  <a:pt x="20829" y="3601"/>
                  <a:pt x="20932" y="3568"/>
                  <a:pt x="21010" y="3522"/>
                </a:cubicBezTo>
              </a:path>
              <a:path w="25004" h="8435">
                <a:moveTo>
                  <a:pt x="24829" y="3225"/>
                </a:moveTo>
                <a:cubicBezTo>
                  <a:pt x="24932" y="3199"/>
                  <a:pt x="24967" y="3190"/>
                  <a:pt x="25028" y="3150"/>
                </a:cubicBezTo>
              </a:path>
              <a:path w="25004" h="8435">
                <a:moveTo>
                  <a:pt x="22349" y="5407"/>
                </a:moveTo>
                <a:cubicBezTo>
                  <a:pt x="22390" y="5407"/>
                  <a:pt x="22362" y="5420"/>
                  <a:pt x="22399" y="5432"/>
                </a:cubicBezTo>
              </a:path>
              <a:path w="25004" h="8435">
                <a:moveTo>
                  <a:pt x="23242" y="5482"/>
                </a:moveTo>
                <a:cubicBezTo>
                  <a:pt x="23344" y="5427"/>
                  <a:pt x="23405" y="5399"/>
                  <a:pt x="23515" y="5407"/>
                </a:cubicBezTo>
              </a:path>
              <a:path w="25004" h="8435">
                <a:moveTo>
                  <a:pt x="23316" y="5779"/>
                </a:moveTo>
                <a:cubicBezTo>
                  <a:pt x="23518" y="5704"/>
                  <a:pt x="23587" y="5678"/>
                  <a:pt x="23713" y="5606"/>
                </a:cubicBezTo>
              </a:path>
              <a:path w="25004" h="8435">
                <a:moveTo>
                  <a:pt x="23788" y="4713"/>
                </a:moveTo>
                <a:cubicBezTo>
                  <a:pt x="23788" y="4705"/>
                  <a:pt x="23788" y="4696"/>
                  <a:pt x="23788" y="4688"/>
                </a:cubicBezTo>
              </a:path>
              <a:path w="25004" h="8435">
                <a:moveTo>
                  <a:pt x="24532" y="4093"/>
                </a:moveTo>
                <a:cubicBezTo>
                  <a:pt x="24622" y="4041"/>
                  <a:pt x="24769" y="3904"/>
                  <a:pt x="24805" y="3994"/>
                </a:cubicBezTo>
              </a:path>
              <a:path w="25004" h="8435">
                <a:moveTo>
                  <a:pt x="24408" y="4589"/>
                </a:moveTo>
                <a:cubicBezTo>
                  <a:pt x="24417" y="4634"/>
                  <a:pt x="24421" y="4645"/>
                  <a:pt x="24457" y="4663"/>
                </a:cubicBezTo>
              </a:path>
              <a:path w="25004" h="8435">
                <a:moveTo>
                  <a:pt x="24929" y="471"/>
                </a:moveTo>
                <a:cubicBezTo>
                  <a:pt x="25062" y="438"/>
                  <a:pt x="25177" y="405"/>
                  <a:pt x="25301" y="347"/>
                </a:cubicBezTo>
              </a:path>
              <a:path w="25004" h="8435">
                <a:moveTo>
                  <a:pt x="24110" y="1042"/>
                </a:moveTo>
                <a:cubicBezTo>
                  <a:pt x="24491" y="967"/>
                  <a:pt x="24984" y="810"/>
                  <a:pt x="25375" y="893"/>
                </a:cubicBezTo>
                <a:cubicBezTo>
                  <a:pt x="25342" y="901"/>
                  <a:pt x="25309" y="910"/>
                  <a:pt x="25276" y="91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6939000" y="1517760"/>
            <a:ext cx="1982880" cy="1125360"/>
          </a:xfrm>
          <a:custGeom>
            <a:avLst/>
            <a:gdLst/>
            <a:ahLst/>
            <a:rect l="l" t="t" r="r" b="b"/>
            <a:pathLst>
              <a:path w="5508" h="3126">
                <a:moveTo>
                  <a:pt x="19472" y="5904"/>
                </a:moveTo>
                <a:cubicBezTo>
                  <a:pt x="19549" y="5884"/>
                  <a:pt x="19701" y="5803"/>
                  <a:pt x="19769" y="5755"/>
                </a:cubicBezTo>
                <a:cubicBezTo>
                  <a:pt x="19769" y="5747"/>
                  <a:pt x="19769" y="5738"/>
                  <a:pt x="19769" y="5730"/>
                </a:cubicBezTo>
                <a:cubicBezTo>
                  <a:pt x="19769" y="5961"/>
                  <a:pt x="19733" y="6130"/>
                  <a:pt x="19670" y="6350"/>
                </a:cubicBezTo>
                <a:cubicBezTo>
                  <a:pt x="19670" y="6358"/>
                  <a:pt x="19670" y="6367"/>
                  <a:pt x="19670" y="6375"/>
                </a:cubicBezTo>
              </a:path>
              <a:path w="5508" h="3126">
                <a:moveTo>
                  <a:pt x="20017" y="5730"/>
                </a:moveTo>
                <a:cubicBezTo>
                  <a:pt x="19982" y="5874"/>
                  <a:pt x="20132" y="5873"/>
                  <a:pt x="20241" y="5953"/>
                </a:cubicBezTo>
                <a:cubicBezTo>
                  <a:pt x="20298" y="5994"/>
                  <a:pt x="20326" y="6196"/>
                  <a:pt x="20216" y="6176"/>
                </a:cubicBezTo>
                <a:cubicBezTo>
                  <a:pt x="20183" y="6160"/>
                  <a:pt x="20150" y="6143"/>
                  <a:pt x="20117" y="6127"/>
                </a:cubicBezTo>
              </a:path>
              <a:path w="5508" h="3126">
                <a:moveTo>
                  <a:pt x="20067" y="5581"/>
                </a:moveTo>
                <a:cubicBezTo>
                  <a:pt x="20149" y="5546"/>
                  <a:pt x="20418" y="5366"/>
                  <a:pt x="20513" y="5432"/>
                </a:cubicBezTo>
                <a:cubicBezTo>
                  <a:pt x="20513" y="5449"/>
                  <a:pt x="20513" y="5465"/>
                  <a:pt x="20513" y="5482"/>
                </a:cubicBezTo>
              </a:path>
              <a:path w="5508" h="3126">
                <a:moveTo>
                  <a:pt x="19348" y="6722"/>
                </a:moveTo>
                <a:cubicBezTo>
                  <a:pt x="19675" y="6559"/>
                  <a:pt x="19982" y="6473"/>
                  <a:pt x="20340" y="6400"/>
                </a:cubicBezTo>
                <a:cubicBezTo>
                  <a:pt x="20472" y="6373"/>
                  <a:pt x="20464" y="6348"/>
                  <a:pt x="20464" y="6375"/>
                </a:cubicBezTo>
              </a:path>
              <a:path w="5508" h="3126">
                <a:moveTo>
                  <a:pt x="19273" y="7020"/>
                </a:moveTo>
                <a:cubicBezTo>
                  <a:pt x="19338" y="7001"/>
                  <a:pt x="19488" y="6894"/>
                  <a:pt x="19546" y="6970"/>
                </a:cubicBezTo>
                <a:cubicBezTo>
                  <a:pt x="19622" y="7069"/>
                  <a:pt x="19502" y="7109"/>
                  <a:pt x="19472" y="7169"/>
                </a:cubicBezTo>
                <a:cubicBezTo>
                  <a:pt x="19487" y="7146"/>
                  <a:pt x="19585" y="7105"/>
                  <a:pt x="19596" y="7169"/>
                </a:cubicBezTo>
                <a:cubicBezTo>
                  <a:pt x="19625" y="7340"/>
                  <a:pt x="19469" y="7337"/>
                  <a:pt x="19348" y="7342"/>
                </a:cubicBezTo>
                <a:cubicBezTo>
                  <a:pt x="19306" y="7342"/>
                  <a:pt x="19290" y="7350"/>
                  <a:pt x="19298" y="7317"/>
                </a:cubicBezTo>
              </a:path>
              <a:path w="5508" h="3126">
                <a:moveTo>
                  <a:pt x="19918" y="6896"/>
                </a:moveTo>
                <a:cubicBezTo>
                  <a:pt x="19871" y="6991"/>
                  <a:pt x="19774" y="7197"/>
                  <a:pt x="19993" y="7169"/>
                </a:cubicBezTo>
                <a:cubicBezTo>
                  <a:pt x="20148" y="7149"/>
                  <a:pt x="20298" y="6971"/>
                  <a:pt x="20117" y="6871"/>
                </a:cubicBezTo>
                <a:cubicBezTo>
                  <a:pt x="20033" y="6850"/>
                  <a:pt x="20013" y="6834"/>
                  <a:pt x="19968" y="6871"/>
                </a:cubicBezTo>
              </a:path>
              <a:path w="5508" h="3126">
                <a:moveTo>
                  <a:pt x="20315" y="6772"/>
                </a:moveTo>
                <a:cubicBezTo>
                  <a:pt x="20266" y="6868"/>
                  <a:pt x="20249" y="6899"/>
                  <a:pt x="20290" y="6970"/>
                </a:cubicBezTo>
                <a:cubicBezTo>
                  <a:pt x="20405" y="7036"/>
                  <a:pt x="20620" y="7056"/>
                  <a:pt x="20613" y="6821"/>
                </a:cubicBezTo>
                <a:cubicBezTo>
                  <a:pt x="20608" y="6662"/>
                  <a:pt x="20419" y="6757"/>
                  <a:pt x="20365" y="6772"/>
                </a:cubicBezTo>
              </a:path>
              <a:path w="5508" h="3126">
                <a:moveTo>
                  <a:pt x="21084" y="6003"/>
                </a:moveTo>
                <a:cubicBezTo>
                  <a:pt x="21101" y="6098"/>
                  <a:pt x="21109" y="6179"/>
                  <a:pt x="21109" y="6276"/>
                </a:cubicBezTo>
              </a:path>
              <a:path w="5508" h="3126">
                <a:moveTo>
                  <a:pt x="20886" y="6251"/>
                </a:moveTo>
                <a:cubicBezTo>
                  <a:pt x="21001" y="6222"/>
                  <a:pt x="21101" y="6173"/>
                  <a:pt x="21208" y="6127"/>
                </a:cubicBezTo>
                <a:cubicBezTo>
                  <a:pt x="21302" y="6095"/>
                  <a:pt x="21341" y="6072"/>
                  <a:pt x="21382" y="6003"/>
                </a:cubicBezTo>
              </a:path>
              <a:path w="5508" h="3126">
                <a:moveTo>
                  <a:pt x="21580" y="5234"/>
                </a:moveTo>
                <a:cubicBezTo>
                  <a:pt x="21580" y="5353"/>
                  <a:pt x="21615" y="5464"/>
                  <a:pt x="21630" y="5581"/>
                </a:cubicBezTo>
                <a:cubicBezTo>
                  <a:pt x="21630" y="5622"/>
                  <a:pt x="21630" y="5630"/>
                  <a:pt x="21630" y="5655"/>
                </a:cubicBezTo>
              </a:path>
              <a:path w="5508" h="3126">
                <a:moveTo>
                  <a:pt x="21803" y="5259"/>
                </a:moveTo>
                <a:cubicBezTo>
                  <a:pt x="21851" y="5196"/>
                  <a:pt x="21945" y="5190"/>
                  <a:pt x="22027" y="5234"/>
                </a:cubicBezTo>
                <a:cubicBezTo>
                  <a:pt x="22142" y="5296"/>
                  <a:pt x="21975" y="5457"/>
                  <a:pt x="21952" y="5507"/>
                </a:cubicBezTo>
                <a:cubicBezTo>
                  <a:pt x="21952" y="5515"/>
                  <a:pt x="21952" y="5523"/>
                  <a:pt x="21952" y="5531"/>
                </a:cubicBezTo>
                <a:cubicBezTo>
                  <a:pt x="22010" y="5531"/>
                  <a:pt x="22101" y="5525"/>
                  <a:pt x="22151" y="5507"/>
                </a:cubicBezTo>
                <a:cubicBezTo>
                  <a:pt x="22159" y="5499"/>
                  <a:pt x="22167" y="5490"/>
                  <a:pt x="22175" y="5482"/>
                </a:cubicBezTo>
              </a:path>
              <a:path w="5508" h="3126">
                <a:moveTo>
                  <a:pt x="22572" y="5135"/>
                </a:moveTo>
                <a:cubicBezTo>
                  <a:pt x="22537" y="5135"/>
                  <a:pt x="22524" y="5144"/>
                  <a:pt x="22523" y="5184"/>
                </a:cubicBezTo>
                <a:cubicBezTo>
                  <a:pt x="22635" y="5249"/>
                  <a:pt x="22696" y="5223"/>
                  <a:pt x="22721" y="5358"/>
                </a:cubicBezTo>
                <a:cubicBezTo>
                  <a:pt x="22738" y="5448"/>
                  <a:pt x="22597" y="5387"/>
                  <a:pt x="22572" y="5383"/>
                </a:cubicBezTo>
              </a:path>
              <a:path w="5508" h="3126">
                <a:moveTo>
                  <a:pt x="22597" y="5060"/>
                </a:moveTo>
                <a:cubicBezTo>
                  <a:pt x="22639" y="5007"/>
                  <a:pt x="22715" y="4969"/>
                  <a:pt x="22796" y="4961"/>
                </a:cubicBezTo>
                <a:cubicBezTo>
                  <a:pt x="22804" y="4961"/>
                  <a:pt x="22812" y="4961"/>
                  <a:pt x="22820" y="4961"/>
                </a:cubicBezTo>
              </a:path>
              <a:path w="5508" h="3126">
                <a:moveTo>
                  <a:pt x="21580" y="6003"/>
                </a:moveTo>
                <a:cubicBezTo>
                  <a:pt x="21716" y="5976"/>
                  <a:pt x="21864" y="5938"/>
                  <a:pt x="22002" y="5904"/>
                </a:cubicBezTo>
                <a:cubicBezTo>
                  <a:pt x="22221" y="5851"/>
                  <a:pt x="22448" y="5757"/>
                  <a:pt x="22671" y="5730"/>
                </a:cubicBezTo>
                <a:cubicBezTo>
                  <a:pt x="22749" y="5721"/>
                  <a:pt x="22796" y="5705"/>
                  <a:pt x="22870" y="5705"/>
                </a:cubicBezTo>
                <a:cubicBezTo>
                  <a:pt x="22878" y="5705"/>
                  <a:pt x="22887" y="5705"/>
                  <a:pt x="22895" y="5705"/>
                </a:cubicBezTo>
              </a:path>
              <a:path w="5508" h="3126">
                <a:moveTo>
                  <a:pt x="22051" y="6152"/>
                </a:moveTo>
                <a:cubicBezTo>
                  <a:pt x="21941" y="6176"/>
                  <a:pt x="21857" y="6162"/>
                  <a:pt x="21828" y="6276"/>
                </a:cubicBezTo>
                <a:cubicBezTo>
                  <a:pt x="21806" y="6384"/>
                  <a:pt x="21803" y="6410"/>
                  <a:pt x="21779" y="6474"/>
                </a:cubicBezTo>
                <a:cubicBezTo>
                  <a:pt x="21864" y="6438"/>
                  <a:pt x="21995" y="6328"/>
                  <a:pt x="22051" y="6449"/>
                </a:cubicBezTo>
                <a:cubicBezTo>
                  <a:pt x="22120" y="6598"/>
                  <a:pt x="21946" y="6723"/>
                  <a:pt x="21803" y="6697"/>
                </a:cubicBezTo>
                <a:cubicBezTo>
                  <a:pt x="21787" y="6681"/>
                  <a:pt x="21770" y="6664"/>
                  <a:pt x="21754" y="6648"/>
                </a:cubicBezTo>
              </a:path>
              <a:path w="5508" h="3126">
                <a:moveTo>
                  <a:pt x="22299" y="6201"/>
                </a:moveTo>
                <a:cubicBezTo>
                  <a:pt x="22220" y="6344"/>
                  <a:pt x="22207" y="6385"/>
                  <a:pt x="22225" y="6548"/>
                </a:cubicBezTo>
                <a:cubicBezTo>
                  <a:pt x="22370" y="6524"/>
                  <a:pt x="22648" y="6416"/>
                  <a:pt x="22572" y="6201"/>
                </a:cubicBezTo>
                <a:cubicBezTo>
                  <a:pt x="22535" y="6095"/>
                  <a:pt x="22317" y="6163"/>
                  <a:pt x="22250" y="6176"/>
                </a:cubicBezTo>
              </a:path>
              <a:path w="5508" h="3126">
                <a:moveTo>
                  <a:pt x="23688" y="5308"/>
                </a:moveTo>
                <a:cubicBezTo>
                  <a:pt x="23955" y="5131"/>
                  <a:pt x="24248" y="5057"/>
                  <a:pt x="24532" y="4911"/>
                </a:cubicBezTo>
                <a:cubicBezTo>
                  <a:pt x="24647" y="4835"/>
                  <a:pt x="24659" y="4821"/>
                  <a:pt x="24730" y="4787"/>
                </a:cubicBezTo>
              </a:path>
              <a:path w="5508" h="3126">
                <a:moveTo>
                  <a:pt x="23639" y="4713"/>
                </a:moveTo>
                <a:cubicBezTo>
                  <a:pt x="23735" y="4681"/>
                  <a:pt x="23810" y="4608"/>
                  <a:pt x="23887" y="4539"/>
                </a:cubicBezTo>
                <a:cubicBezTo>
                  <a:pt x="23798" y="4628"/>
                  <a:pt x="23678" y="4680"/>
                  <a:pt x="23589" y="4762"/>
                </a:cubicBezTo>
                <a:cubicBezTo>
                  <a:pt x="23581" y="4779"/>
                  <a:pt x="23572" y="4795"/>
                  <a:pt x="23564" y="4812"/>
                </a:cubicBezTo>
                <a:cubicBezTo>
                  <a:pt x="23627" y="4836"/>
                  <a:pt x="24015" y="4916"/>
                  <a:pt x="23837" y="5035"/>
                </a:cubicBezTo>
                <a:cubicBezTo>
                  <a:pt x="23804" y="5043"/>
                  <a:pt x="23771" y="5052"/>
                  <a:pt x="23738" y="5060"/>
                </a:cubicBezTo>
                <a:cubicBezTo>
                  <a:pt x="23693" y="4896"/>
                  <a:pt x="23737" y="4789"/>
                  <a:pt x="23812" y="4638"/>
                </a:cubicBezTo>
              </a:path>
              <a:path w="5508" h="3126">
                <a:moveTo>
                  <a:pt x="23986" y="4514"/>
                </a:moveTo>
                <a:cubicBezTo>
                  <a:pt x="24052" y="4458"/>
                  <a:pt x="24123" y="4392"/>
                  <a:pt x="24209" y="4366"/>
                </a:cubicBezTo>
                <a:cubicBezTo>
                  <a:pt x="24217" y="4366"/>
                  <a:pt x="24226" y="4366"/>
                  <a:pt x="24234" y="4366"/>
                </a:cubicBezTo>
                <a:cubicBezTo>
                  <a:pt x="24305" y="4524"/>
                  <a:pt x="24257" y="4625"/>
                  <a:pt x="24209" y="4787"/>
                </a:cubicBezTo>
                <a:cubicBezTo>
                  <a:pt x="24201" y="4812"/>
                  <a:pt x="24193" y="4837"/>
                  <a:pt x="24185" y="4862"/>
                </a:cubicBezTo>
              </a:path>
              <a:path w="5508" h="3126">
                <a:moveTo>
                  <a:pt x="24383" y="4589"/>
                </a:moveTo>
                <a:cubicBezTo>
                  <a:pt x="24416" y="4589"/>
                  <a:pt x="24432" y="4589"/>
                  <a:pt x="24457" y="4589"/>
                </a:cubicBezTo>
              </a:path>
              <a:path w="5508" h="3126">
                <a:moveTo>
                  <a:pt x="24482" y="4217"/>
                </a:moveTo>
                <a:cubicBezTo>
                  <a:pt x="24517" y="4356"/>
                  <a:pt x="24636" y="4370"/>
                  <a:pt x="24755" y="4440"/>
                </a:cubicBezTo>
                <a:cubicBezTo>
                  <a:pt x="24826" y="4482"/>
                  <a:pt x="24747" y="4618"/>
                  <a:pt x="24681" y="4614"/>
                </a:cubicBezTo>
                <a:cubicBezTo>
                  <a:pt x="24549" y="4561"/>
                  <a:pt x="24502" y="4538"/>
                  <a:pt x="24457" y="4440"/>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7688160" y="1241280"/>
            <a:ext cx="125640" cy="108000"/>
          </a:xfrm>
          <a:custGeom>
            <a:avLst/>
            <a:gdLst/>
            <a:ahLst/>
            <a:rect l="l" t="t" r="r" b="b"/>
            <a:pathLst>
              <a:path w="348" h="299">
                <a:moveTo>
                  <a:pt x="21357" y="3473"/>
                </a:moveTo>
                <a:cubicBezTo>
                  <a:pt x="21435" y="3462"/>
                  <a:pt x="21501" y="3453"/>
                  <a:pt x="21580" y="3448"/>
                </a:cubicBezTo>
              </a:path>
              <a:path w="348" h="299">
                <a:moveTo>
                  <a:pt x="21456" y="3746"/>
                </a:moveTo>
                <a:cubicBezTo>
                  <a:pt x="21571" y="3717"/>
                  <a:pt x="21620" y="3706"/>
                  <a:pt x="21704" y="3696"/>
                </a:cubicBezTo>
              </a:path>
              <a:path w="348" h="299">
                <a:moveTo>
                  <a:pt x="21704" y="3696"/>
                </a:moveTo>
                <a:lnTo>
                  <a:pt x="21704" y="3696"/>
                </a:ln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65120" y="1330200"/>
            <a:ext cx="892080" cy="750960"/>
          </a:xfrm>
          <a:custGeom>
            <a:avLst/>
            <a:gdLst/>
            <a:ahLst/>
            <a:rect l="l" t="t" r="r" b="b"/>
            <a:pathLst>
              <a:path w="2481" h="2084">
                <a:moveTo>
                  <a:pt x="1687" y="4018"/>
                </a:moveTo>
                <a:cubicBezTo>
                  <a:pt x="1713" y="3984"/>
                  <a:pt x="1925" y="3858"/>
                  <a:pt x="1984" y="3919"/>
                </a:cubicBezTo>
                <a:cubicBezTo>
                  <a:pt x="2109" y="4049"/>
                  <a:pt x="1874" y="4221"/>
                  <a:pt x="1811" y="4291"/>
                </a:cubicBezTo>
                <a:cubicBezTo>
                  <a:pt x="1786" y="4308"/>
                  <a:pt x="1761" y="4324"/>
                  <a:pt x="1736" y="4341"/>
                </a:cubicBezTo>
                <a:cubicBezTo>
                  <a:pt x="1815" y="4262"/>
                  <a:pt x="1998" y="4240"/>
                  <a:pt x="2059" y="4390"/>
                </a:cubicBezTo>
                <a:cubicBezTo>
                  <a:pt x="2141" y="4591"/>
                  <a:pt x="1702" y="4873"/>
                  <a:pt x="1538" y="4762"/>
                </a:cubicBezTo>
                <a:cubicBezTo>
                  <a:pt x="1538" y="4721"/>
                  <a:pt x="1538" y="4679"/>
                  <a:pt x="1538" y="4638"/>
                </a:cubicBezTo>
              </a:path>
              <a:path w="2481" h="2084">
                <a:moveTo>
                  <a:pt x="2729" y="3820"/>
                </a:moveTo>
                <a:cubicBezTo>
                  <a:pt x="2668" y="3838"/>
                  <a:pt x="2591" y="3835"/>
                  <a:pt x="2555" y="3894"/>
                </a:cubicBezTo>
                <a:cubicBezTo>
                  <a:pt x="2493" y="3995"/>
                  <a:pt x="2455" y="4109"/>
                  <a:pt x="2406" y="4217"/>
                </a:cubicBezTo>
                <a:cubicBezTo>
                  <a:pt x="2539" y="4179"/>
                  <a:pt x="2679" y="4062"/>
                  <a:pt x="2828" y="4142"/>
                </a:cubicBezTo>
                <a:cubicBezTo>
                  <a:pt x="3026" y="4249"/>
                  <a:pt x="2845" y="4463"/>
                  <a:pt x="2704" y="4490"/>
                </a:cubicBezTo>
                <a:cubicBezTo>
                  <a:pt x="2468" y="4535"/>
                  <a:pt x="2456" y="4487"/>
                  <a:pt x="2555" y="4366"/>
                </a:cubicBezTo>
              </a:path>
              <a:path w="2481" h="2084">
                <a:moveTo>
                  <a:pt x="3423" y="3721"/>
                </a:moveTo>
                <a:cubicBezTo>
                  <a:pt x="3298" y="4004"/>
                  <a:pt x="3214" y="4183"/>
                  <a:pt x="3225" y="4490"/>
                </a:cubicBezTo>
                <a:cubicBezTo>
                  <a:pt x="3522" y="4547"/>
                  <a:pt x="3807" y="4394"/>
                  <a:pt x="3770" y="3994"/>
                </a:cubicBezTo>
                <a:cubicBezTo>
                  <a:pt x="3740" y="3672"/>
                  <a:pt x="3544" y="3721"/>
                  <a:pt x="3324" y="3721"/>
                </a:cubicBezTo>
              </a:path>
              <a:path w="2481" h="2084">
                <a:moveTo>
                  <a:pt x="1290" y="5581"/>
                </a:moveTo>
                <a:cubicBezTo>
                  <a:pt x="1385" y="5657"/>
                  <a:pt x="1389" y="5723"/>
                  <a:pt x="1389" y="5581"/>
                </a:cubicBezTo>
              </a:path>
              <a:path w="2481" h="2084">
                <a:moveTo>
                  <a:pt x="1364" y="5383"/>
                </a:moveTo>
                <a:cubicBezTo>
                  <a:pt x="1440" y="5474"/>
                  <a:pt x="1611" y="5653"/>
                  <a:pt x="1612" y="5779"/>
                </a:cubicBezTo>
                <a:cubicBezTo>
                  <a:pt x="1604" y="5779"/>
                  <a:pt x="1596" y="5779"/>
                  <a:pt x="1588" y="5779"/>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6750000" y="1241280"/>
            <a:ext cx="866880" cy="642960"/>
          </a:xfrm>
          <a:custGeom>
            <a:avLst/>
            <a:gdLst/>
            <a:ahLst/>
            <a:rect l="l" t="t" r="r" b="b"/>
            <a:pathLst>
              <a:path w="2407" h="1787">
                <a:moveTo>
                  <a:pt x="18876" y="4068"/>
                </a:moveTo>
                <a:cubicBezTo>
                  <a:pt x="19171" y="3945"/>
                  <a:pt x="19462" y="3838"/>
                  <a:pt x="19769" y="3746"/>
                </a:cubicBezTo>
                <a:cubicBezTo>
                  <a:pt x="19834" y="3727"/>
                  <a:pt x="20049" y="3631"/>
                  <a:pt x="20092" y="3696"/>
                </a:cubicBezTo>
              </a:path>
              <a:path w="2407" h="1787">
                <a:moveTo>
                  <a:pt x="18926" y="4638"/>
                </a:moveTo>
                <a:cubicBezTo>
                  <a:pt x="18884" y="4841"/>
                  <a:pt x="18752" y="5442"/>
                  <a:pt x="18752" y="5234"/>
                </a:cubicBezTo>
                <a:cubicBezTo>
                  <a:pt x="18760" y="5209"/>
                  <a:pt x="18769" y="5184"/>
                  <a:pt x="18777" y="5159"/>
                </a:cubicBezTo>
              </a:path>
              <a:path w="2407" h="1787">
                <a:moveTo>
                  <a:pt x="19224" y="4638"/>
                </a:moveTo>
                <a:cubicBezTo>
                  <a:pt x="19183" y="4843"/>
                  <a:pt x="19161" y="4897"/>
                  <a:pt x="19224" y="5085"/>
                </a:cubicBezTo>
                <a:cubicBezTo>
                  <a:pt x="19402" y="5021"/>
                  <a:pt x="19572" y="4855"/>
                  <a:pt x="19447" y="4638"/>
                </a:cubicBezTo>
                <a:cubicBezTo>
                  <a:pt x="19406" y="4567"/>
                  <a:pt x="19285" y="4551"/>
                  <a:pt x="19248" y="4514"/>
                </a:cubicBezTo>
              </a:path>
              <a:path w="2407" h="1787">
                <a:moveTo>
                  <a:pt x="19745" y="4390"/>
                </a:moveTo>
                <a:cubicBezTo>
                  <a:pt x="19729" y="4601"/>
                  <a:pt x="19696" y="4762"/>
                  <a:pt x="19869" y="4887"/>
                </a:cubicBezTo>
                <a:cubicBezTo>
                  <a:pt x="19987" y="4752"/>
                  <a:pt x="20175" y="4463"/>
                  <a:pt x="19893" y="4341"/>
                </a:cubicBezTo>
                <a:cubicBezTo>
                  <a:pt x="19757" y="4341"/>
                  <a:pt x="19719" y="4336"/>
                  <a:pt x="19645" y="4390"/>
                </a:cubicBezTo>
              </a:path>
              <a:path w="2407" h="1787">
                <a:moveTo>
                  <a:pt x="20340" y="3572"/>
                </a:moveTo>
                <a:cubicBezTo>
                  <a:pt x="20425" y="3640"/>
                  <a:pt x="20493" y="3792"/>
                  <a:pt x="20563" y="3894"/>
                </a:cubicBezTo>
                <a:cubicBezTo>
                  <a:pt x="20571" y="3902"/>
                  <a:pt x="20580" y="3911"/>
                  <a:pt x="20588" y="3919"/>
                </a:cubicBezTo>
              </a:path>
              <a:path w="2407" h="1787">
                <a:moveTo>
                  <a:pt x="20588" y="3448"/>
                </a:moveTo>
                <a:cubicBezTo>
                  <a:pt x="20519" y="3647"/>
                  <a:pt x="20471" y="3849"/>
                  <a:pt x="20389" y="4043"/>
                </a:cubicBezTo>
              </a:path>
              <a:path w="2407" h="1787">
                <a:moveTo>
                  <a:pt x="20811" y="3845"/>
                </a:moveTo>
                <a:cubicBezTo>
                  <a:pt x="20893" y="3845"/>
                  <a:pt x="20955" y="3852"/>
                  <a:pt x="21034" y="3870"/>
                </a:cubicBezTo>
                <a:cubicBezTo>
                  <a:pt x="21018" y="4038"/>
                  <a:pt x="20967" y="4139"/>
                  <a:pt x="20910" y="4291"/>
                </a:cubicBezTo>
                <a:cubicBezTo>
                  <a:pt x="21035" y="4266"/>
                  <a:pt x="21059" y="4230"/>
                  <a:pt x="21158" y="4142"/>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7099200" y="2867040"/>
            <a:ext cx="1704960" cy="581040"/>
          </a:xfrm>
          <a:custGeom>
            <a:avLst/>
            <a:gdLst/>
            <a:ahLst/>
            <a:rect l="l" t="t" r="r" b="b"/>
            <a:pathLst>
              <a:path w="4738" h="1614">
                <a:moveTo>
                  <a:pt x="19769" y="9327"/>
                </a:moveTo>
                <a:cubicBezTo>
                  <a:pt x="19735" y="9438"/>
                  <a:pt x="19723" y="9683"/>
                  <a:pt x="19943" y="9550"/>
                </a:cubicBezTo>
                <a:cubicBezTo>
                  <a:pt x="20148" y="9426"/>
                  <a:pt x="20116" y="9275"/>
                  <a:pt x="19968" y="9153"/>
                </a:cubicBezTo>
              </a:path>
              <a:path w="4738" h="1614">
                <a:moveTo>
                  <a:pt x="21456" y="9500"/>
                </a:moveTo>
                <a:cubicBezTo>
                  <a:pt x="21456" y="9508"/>
                  <a:pt x="21456" y="9517"/>
                  <a:pt x="21456" y="9525"/>
                </a:cubicBezTo>
              </a:path>
              <a:path w="4738" h="1614">
                <a:moveTo>
                  <a:pt x="21828" y="9203"/>
                </a:moveTo>
                <a:cubicBezTo>
                  <a:pt x="21920" y="9180"/>
                  <a:pt x="21945" y="9174"/>
                  <a:pt x="22002" y="9153"/>
                </a:cubicBezTo>
              </a:path>
              <a:path w="4738" h="1614">
                <a:moveTo>
                  <a:pt x="21555" y="8582"/>
                </a:moveTo>
                <a:cubicBezTo>
                  <a:pt x="21555" y="8590"/>
                  <a:pt x="21555" y="8599"/>
                  <a:pt x="21555" y="8607"/>
                </a:cubicBezTo>
              </a:path>
              <a:path w="4738" h="1614">
                <a:moveTo>
                  <a:pt x="21555" y="8607"/>
                </a:moveTo>
                <a:lnTo>
                  <a:pt x="21555" y="8607"/>
                </a:lnTo>
              </a:path>
              <a:path w="4738" h="1614">
                <a:moveTo>
                  <a:pt x="22200" y="8855"/>
                </a:moveTo>
                <a:cubicBezTo>
                  <a:pt x="22306" y="8802"/>
                  <a:pt x="22386" y="8798"/>
                  <a:pt x="22498" y="8830"/>
                </a:cubicBezTo>
              </a:path>
              <a:path w="4738" h="1614">
                <a:moveTo>
                  <a:pt x="23837" y="8483"/>
                </a:moveTo>
                <a:lnTo>
                  <a:pt x="23837" y="8483"/>
                </a:lnTo>
                <a:lnTo>
                  <a:pt x="23837" y="8483"/>
                </a:lnTo>
              </a:path>
              <a:path w="4738" h="1614">
                <a:moveTo>
                  <a:pt x="23837" y="8483"/>
                </a:moveTo>
                <a:lnTo>
                  <a:pt x="23837" y="8483"/>
                </a:lnTo>
              </a:path>
              <a:path w="4738" h="1614">
                <a:moveTo>
                  <a:pt x="24259" y="7987"/>
                </a:moveTo>
                <a:cubicBezTo>
                  <a:pt x="24363" y="7966"/>
                  <a:pt x="24440" y="7916"/>
                  <a:pt x="24457" y="8037"/>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6786720" y="2901960"/>
            <a:ext cx="2044440" cy="581040"/>
          </a:xfrm>
          <a:custGeom>
            <a:avLst/>
            <a:gdLst/>
            <a:ahLst/>
            <a:rect l="l" t="t" r="r" b="b"/>
            <a:pathLst>
              <a:path w="5681" h="1613">
                <a:moveTo>
                  <a:pt x="19372" y="8210"/>
                </a:moveTo>
                <a:cubicBezTo>
                  <a:pt x="19478" y="8088"/>
                  <a:pt x="19545" y="8157"/>
                  <a:pt x="19670" y="8235"/>
                </a:cubicBezTo>
                <a:cubicBezTo>
                  <a:pt x="19649" y="8458"/>
                  <a:pt x="19531" y="8631"/>
                  <a:pt x="19248" y="8582"/>
                </a:cubicBezTo>
                <a:cubicBezTo>
                  <a:pt x="19223" y="8566"/>
                  <a:pt x="19199" y="8549"/>
                  <a:pt x="19174" y="8533"/>
                </a:cubicBezTo>
                <a:cubicBezTo>
                  <a:pt x="19275" y="8389"/>
                  <a:pt x="19411" y="8441"/>
                  <a:pt x="19571" y="8533"/>
                </a:cubicBezTo>
                <a:cubicBezTo>
                  <a:pt x="19588" y="8549"/>
                  <a:pt x="19604" y="8566"/>
                  <a:pt x="19621" y="8582"/>
                </a:cubicBezTo>
              </a:path>
              <a:path w="5681" h="1613">
                <a:moveTo>
                  <a:pt x="19893" y="8285"/>
                </a:moveTo>
                <a:cubicBezTo>
                  <a:pt x="19820" y="8310"/>
                  <a:pt x="19982" y="8356"/>
                  <a:pt x="20017" y="8384"/>
                </a:cubicBezTo>
                <a:cubicBezTo>
                  <a:pt x="20139" y="8481"/>
                  <a:pt x="20152" y="8485"/>
                  <a:pt x="20092" y="8582"/>
                </a:cubicBezTo>
                <a:cubicBezTo>
                  <a:pt x="19944" y="8583"/>
                  <a:pt x="19972" y="8547"/>
                  <a:pt x="19918" y="8409"/>
                </a:cubicBezTo>
              </a:path>
              <a:path w="5681" h="1613">
                <a:moveTo>
                  <a:pt x="19993" y="8210"/>
                </a:moveTo>
                <a:cubicBezTo>
                  <a:pt x="20017" y="8206"/>
                  <a:pt x="20383" y="8122"/>
                  <a:pt x="20389" y="8186"/>
                </a:cubicBezTo>
                <a:cubicBezTo>
                  <a:pt x="20381" y="8219"/>
                  <a:pt x="20373" y="8252"/>
                  <a:pt x="20365" y="8285"/>
                </a:cubicBezTo>
              </a:path>
              <a:path w="5681" h="1613">
                <a:moveTo>
                  <a:pt x="19248" y="8806"/>
                </a:moveTo>
                <a:cubicBezTo>
                  <a:pt x="19589" y="8806"/>
                  <a:pt x="19926" y="8807"/>
                  <a:pt x="20265" y="8830"/>
                </a:cubicBezTo>
                <a:cubicBezTo>
                  <a:pt x="20257" y="8830"/>
                  <a:pt x="20249" y="8830"/>
                  <a:pt x="20241" y="8830"/>
                </a:cubicBezTo>
              </a:path>
              <a:path w="5681" h="1613">
                <a:moveTo>
                  <a:pt x="19100" y="9128"/>
                </a:moveTo>
                <a:cubicBezTo>
                  <a:pt x="19022" y="9251"/>
                  <a:pt x="18915" y="9366"/>
                  <a:pt x="18852" y="9500"/>
                </a:cubicBezTo>
                <a:cubicBezTo>
                  <a:pt x="18852" y="9508"/>
                  <a:pt x="18852" y="9517"/>
                  <a:pt x="18852" y="9525"/>
                </a:cubicBezTo>
              </a:path>
              <a:path w="5681" h="1613">
                <a:moveTo>
                  <a:pt x="19447" y="9178"/>
                </a:moveTo>
                <a:cubicBezTo>
                  <a:pt x="19297" y="9311"/>
                  <a:pt x="19195" y="9361"/>
                  <a:pt x="19298" y="9550"/>
                </a:cubicBezTo>
                <a:cubicBezTo>
                  <a:pt x="19410" y="9529"/>
                  <a:pt x="19784" y="9408"/>
                  <a:pt x="19596" y="9203"/>
                </a:cubicBezTo>
                <a:cubicBezTo>
                  <a:pt x="19505" y="9180"/>
                  <a:pt x="19482" y="9172"/>
                  <a:pt x="19422" y="9178"/>
                </a:cubicBezTo>
              </a:path>
              <a:path w="5681" h="1613">
                <a:moveTo>
                  <a:pt x="19844" y="8533"/>
                </a:moveTo>
                <a:cubicBezTo>
                  <a:pt x="19819" y="8533"/>
                  <a:pt x="19811" y="8533"/>
                  <a:pt x="19794" y="8533"/>
                </a:cubicBezTo>
                <a:cubicBezTo>
                  <a:pt x="19869" y="8544"/>
                  <a:pt x="19940" y="8559"/>
                  <a:pt x="20017" y="8582"/>
                </a:cubicBezTo>
              </a:path>
              <a:path w="5681" h="1613">
                <a:moveTo>
                  <a:pt x="20538" y="8781"/>
                </a:moveTo>
                <a:cubicBezTo>
                  <a:pt x="20608" y="8827"/>
                  <a:pt x="20713" y="8959"/>
                  <a:pt x="20762" y="9029"/>
                </a:cubicBezTo>
                <a:cubicBezTo>
                  <a:pt x="20762" y="9054"/>
                  <a:pt x="20762" y="9062"/>
                  <a:pt x="20786" y="9054"/>
                </a:cubicBezTo>
              </a:path>
              <a:path w="5681" h="1613">
                <a:moveTo>
                  <a:pt x="20910" y="8756"/>
                </a:moveTo>
                <a:cubicBezTo>
                  <a:pt x="20788" y="8886"/>
                  <a:pt x="20669" y="9008"/>
                  <a:pt x="20538" y="9128"/>
                </a:cubicBezTo>
              </a:path>
              <a:path w="5681" h="1613">
                <a:moveTo>
                  <a:pt x="21010" y="9178"/>
                </a:moveTo>
                <a:cubicBezTo>
                  <a:pt x="21104" y="9178"/>
                  <a:pt x="21156" y="9177"/>
                  <a:pt x="21233" y="9227"/>
                </a:cubicBezTo>
                <a:cubicBezTo>
                  <a:pt x="21190" y="9306"/>
                  <a:pt x="21097" y="9426"/>
                  <a:pt x="20985" y="9426"/>
                </a:cubicBezTo>
                <a:cubicBezTo>
                  <a:pt x="20985" y="9418"/>
                  <a:pt x="20985" y="9409"/>
                  <a:pt x="20985" y="9401"/>
                </a:cubicBezTo>
                <a:cubicBezTo>
                  <a:pt x="21099" y="9401"/>
                  <a:pt x="21127" y="9417"/>
                  <a:pt x="21109" y="9550"/>
                </a:cubicBezTo>
                <a:cubicBezTo>
                  <a:pt x="21092" y="9670"/>
                  <a:pt x="20982" y="9704"/>
                  <a:pt x="20886" y="9649"/>
                </a:cubicBezTo>
                <a:cubicBezTo>
                  <a:pt x="20861" y="9624"/>
                  <a:pt x="20853" y="9616"/>
                  <a:pt x="20886" y="9599"/>
                </a:cubicBezTo>
              </a:path>
              <a:path w="5681" h="1613">
                <a:moveTo>
                  <a:pt x="21654" y="9227"/>
                </a:moveTo>
                <a:cubicBezTo>
                  <a:pt x="21654" y="9332"/>
                  <a:pt x="21764" y="9339"/>
                  <a:pt x="21803" y="9426"/>
                </a:cubicBezTo>
                <a:cubicBezTo>
                  <a:pt x="21823" y="9472"/>
                  <a:pt x="21792" y="9643"/>
                  <a:pt x="21704" y="9575"/>
                </a:cubicBezTo>
                <a:cubicBezTo>
                  <a:pt x="21687" y="9550"/>
                  <a:pt x="21671" y="9525"/>
                  <a:pt x="21654" y="9500"/>
                </a:cubicBezTo>
              </a:path>
              <a:path w="5681" h="1613">
                <a:moveTo>
                  <a:pt x="21059" y="8954"/>
                </a:moveTo>
                <a:cubicBezTo>
                  <a:pt x="21250" y="8931"/>
                  <a:pt x="21436" y="8930"/>
                  <a:pt x="21630" y="8930"/>
                </a:cubicBezTo>
                <a:cubicBezTo>
                  <a:pt x="21737" y="8930"/>
                  <a:pt x="21745" y="8930"/>
                  <a:pt x="21803" y="8930"/>
                </a:cubicBezTo>
              </a:path>
              <a:path w="5681" h="1613">
                <a:moveTo>
                  <a:pt x="21158" y="8285"/>
                </a:moveTo>
                <a:cubicBezTo>
                  <a:pt x="21196" y="8285"/>
                  <a:pt x="21321" y="8255"/>
                  <a:pt x="21282" y="8334"/>
                </a:cubicBezTo>
                <a:cubicBezTo>
                  <a:pt x="21256" y="8387"/>
                  <a:pt x="21183" y="8409"/>
                  <a:pt x="21134" y="8434"/>
                </a:cubicBezTo>
                <a:cubicBezTo>
                  <a:pt x="21180" y="8434"/>
                  <a:pt x="21304" y="8454"/>
                  <a:pt x="21282" y="8533"/>
                </a:cubicBezTo>
                <a:cubicBezTo>
                  <a:pt x="21263" y="8602"/>
                  <a:pt x="21088" y="8637"/>
                  <a:pt x="21034" y="8607"/>
                </a:cubicBezTo>
                <a:cubicBezTo>
                  <a:pt x="21034" y="8599"/>
                  <a:pt x="21034" y="8590"/>
                  <a:pt x="21034" y="8582"/>
                </a:cubicBezTo>
              </a:path>
              <a:path w="5681" h="1613">
                <a:moveTo>
                  <a:pt x="21654" y="8334"/>
                </a:moveTo>
                <a:cubicBezTo>
                  <a:pt x="21685" y="8396"/>
                  <a:pt x="21794" y="8457"/>
                  <a:pt x="21828" y="8533"/>
                </a:cubicBezTo>
                <a:cubicBezTo>
                  <a:pt x="21902" y="8698"/>
                  <a:pt x="21661" y="8603"/>
                  <a:pt x="21630" y="8582"/>
                </a:cubicBezTo>
              </a:path>
              <a:path w="5681" h="1613">
                <a:moveTo>
                  <a:pt x="21704" y="8285"/>
                </a:moveTo>
                <a:cubicBezTo>
                  <a:pt x="21805" y="8247"/>
                  <a:pt x="21844" y="8235"/>
                  <a:pt x="21952" y="8235"/>
                </a:cubicBezTo>
              </a:path>
              <a:path w="5681" h="1613">
                <a:moveTo>
                  <a:pt x="22101" y="9004"/>
                </a:moveTo>
                <a:cubicBezTo>
                  <a:pt x="22221" y="9004"/>
                  <a:pt x="22331" y="8998"/>
                  <a:pt x="22448" y="8979"/>
                </a:cubicBezTo>
              </a:path>
              <a:path w="5681" h="1613">
                <a:moveTo>
                  <a:pt x="23267" y="8210"/>
                </a:moveTo>
                <a:cubicBezTo>
                  <a:pt x="23333" y="8115"/>
                  <a:pt x="23061" y="8221"/>
                  <a:pt x="23019" y="8235"/>
                </a:cubicBezTo>
                <a:cubicBezTo>
                  <a:pt x="23065" y="8387"/>
                  <a:pt x="23196" y="8462"/>
                  <a:pt x="23217" y="8607"/>
                </a:cubicBezTo>
                <a:cubicBezTo>
                  <a:pt x="23056" y="8634"/>
                  <a:pt x="22985" y="8557"/>
                  <a:pt x="23118" y="8409"/>
                </a:cubicBezTo>
                <a:cubicBezTo>
                  <a:pt x="23173" y="8348"/>
                  <a:pt x="23254" y="8322"/>
                  <a:pt x="23292" y="8260"/>
                </a:cubicBezTo>
              </a:path>
              <a:path w="5681" h="1613">
                <a:moveTo>
                  <a:pt x="23540" y="8210"/>
                </a:moveTo>
                <a:cubicBezTo>
                  <a:pt x="23634" y="8181"/>
                  <a:pt x="23713" y="8161"/>
                  <a:pt x="23812" y="8161"/>
                </a:cubicBezTo>
                <a:cubicBezTo>
                  <a:pt x="23790" y="8315"/>
                  <a:pt x="23724" y="8448"/>
                  <a:pt x="23639" y="8582"/>
                </a:cubicBezTo>
                <a:cubicBezTo>
                  <a:pt x="23596" y="8625"/>
                  <a:pt x="23610" y="8622"/>
                  <a:pt x="23713" y="8558"/>
                </a:cubicBezTo>
              </a:path>
              <a:path w="5681" h="1613">
                <a:moveTo>
                  <a:pt x="24185" y="8062"/>
                </a:moveTo>
                <a:cubicBezTo>
                  <a:pt x="24177" y="8062"/>
                  <a:pt x="24168" y="8062"/>
                  <a:pt x="24160" y="8062"/>
                </a:cubicBezTo>
                <a:cubicBezTo>
                  <a:pt x="24171" y="8094"/>
                  <a:pt x="24229" y="8140"/>
                  <a:pt x="24259" y="8186"/>
                </a:cubicBezTo>
                <a:cubicBezTo>
                  <a:pt x="24350" y="8325"/>
                  <a:pt x="24267" y="8362"/>
                  <a:pt x="24135" y="8384"/>
                </a:cubicBezTo>
              </a:path>
              <a:path w="5681" h="1613">
                <a:moveTo>
                  <a:pt x="22870" y="8657"/>
                </a:moveTo>
                <a:cubicBezTo>
                  <a:pt x="23114" y="8583"/>
                  <a:pt x="23530" y="8613"/>
                  <a:pt x="23788" y="8632"/>
                </a:cubicBezTo>
                <a:cubicBezTo>
                  <a:pt x="24064" y="8652"/>
                  <a:pt x="24296" y="8702"/>
                  <a:pt x="24532" y="8806"/>
                </a:cubicBezTo>
              </a:path>
              <a:path w="5681" h="1613">
                <a:moveTo>
                  <a:pt x="22895" y="9029"/>
                </a:moveTo>
                <a:cubicBezTo>
                  <a:pt x="23009" y="9029"/>
                  <a:pt x="23093" y="9029"/>
                  <a:pt x="23192" y="9079"/>
                </a:cubicBezTo>
                <a:cubicBezTo>
                  <a:pt x="23100" y="9151"/>
                  <a:pt x="23033" y="9187"/>
                  <a:pt x="22920" y="9227"/>
                </a:cubicBezTo>
                <a:cubicBezTo>
                  <a:pt x="23013" y="9238"/>
                  <a:pt x="23077" y="9266"/>
                  <a:pt x="23168" y="9302"/>
                </a:cubicBezTo>
                <a:cubicBezTo>
                  <a:pt x="23123" y="9369"/>
                  <a:pt x="22919" y="9503"/>
                  <a:pt x="22820" y="9426"/>
                </a:cubicBezTo>
                <a:cubicBezTo>
                  <a:pt x="22820" y="9401"/>
                  <a:pt x="22820" y="9376"/>
                  <a:pt x="22820" y="9351"/>
                </a:cubicBezTo>
              </a:path>
              <a:path w="5681" h="1613">
                <a:moveTo>
                  <a:pt x="23589" y="9153"/>
                </a:moveTo>
                <a:cubicBezTo>
                  <a:pt x="23474" y="9199"/>
                  <a:pt x="23439" y="9209"/>
                  <a:pt x="23391" y="9277"/>
                </a:cubicBezTo>
                <a:cubicBezTo>
                  <a:pt x="23480" y="9366"/>
                  <a:pt x="23727" y="9457"/>
                  <a:pt x="23812" y="9277"/>
                </a:cubicBezTo>
                <a:cubicBezTo>
                  <a:pt x="23875" y="9143"/>
                  <a:pt x="23689" y="9148"/>
                  <a:pt x="23639" y="9153"/>
                </a:cubicBezTo>
              </a:path>
              <a:path w="5681" h="1613">
                <a:moveTo>
                  <a:pt x="24135" y="9128"/>
                </a:moveTo>
                <a:cubicBezTo>
                  <a:pt x="24077" y="9226"/>
                  <a:pt x="24056" y="9268"/>
                  <a:pt x="24036" y="9376"/>
                </a:cubicBezTo>
                <a:cubicBezTo>
                  <a:pt x="24086" y="9383"/>
                  <a:pt x="24361" y="9374"/>
                  <a:pt x="24234" y="9227"/>
                </a:cubicBezTo>
                <a:cubicBezTo>
                  <a:pt x="24145" y="9183"/>
                  <a:pt x="24122" y="9170"/>
                  <a:pt x="24061" y="9153"/>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8947080" y="268200"/>
            <a:ext cx="1800" cy="1800"/>
          </a:xfrm>
          <a:custGeom>
            <a:avLst/>
            <a:gdLst/>
            <a:ahLst/>
            <a:rect l="l" t="t" r="r" b="b"/>
            <a:pathLst>
              <a:path w="1" h="1">
                <a:moveTo>
                  <a:pt x="24854" y="744"/>
                </a:moveTo>
                <a:lnTo>
                  <a:pt x="24854" y="744"/>
                </a:lnTo>
              </a:path>
            </a:pathLst>
          </a:custGeom>
          <a:noFill/>
          <a:ln cap="rnd" w="34920">
            <a:solidFill>
              <a:srgbClr val="ffffff"/>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4">
                                  <p:stCondLst>
                                    <p:cond delay="0"/>
                                  </p:stCondLst>
                                  <p:childTnLst>
                                    <p:set>
                                      <p:cBhvr>
                                        <p:cTn id="96" dur="1" fill="hold">
                                          <p:stCondLst>
                                            <p:cond delay="0"/>
                                          </p:stCondLst>
                                        </p:cTn>
                                        <p:tgtEl>
                                          <p:spTgt spid="170"/>
                                        </p:tgtEl>
                                        <p:attrNameLst>
                                          <p:attrName>style.visibility</p:attrName>
                                        </p:attrNameLst>
                                      </p:cBhvr>
                                      <p:to>
                                        <p:strVal val="visible"/>
                                      </p:to>
                                    </p:set>
                                    <p:anim calcmode="lin" valueType="num" from="(-#ppt_w/2)" to="(#ppt_x)">
                                      <p:cBhvr additive="repl">
                                        <p:cTn id="97" dur="600" fill="hold">
                                          <p:stCondLst>
                                            <p:cond delay="0"/>
                                          </p:stCondLst>
                                        </p:cTn>
                                        <p:tgtEl>
                                          <p:spTgt spid="170"/>
                                        </p:tgtEl>
                                        <p:attrNameLst>
                                          <p:attrName>ppt_x</p:attrName>
                                        </p:attrNameLst>
                                      </p:cBhvr>
                                    </p:anim>
                                    <p:anim calcmode="lin" valueType="num" from="0" to="-1">
                                      <p:cBhvr additive="repl">
                                        <p:cTn id="98" dur="200" autoRev="1" fill="hold">
                                          <p:stCondLst>
                                            <p:cond delay="600"/>
                                          </p:stCondLst>
                                        </p:cTn>
                                        <p:tgtEl>
                                          <p:spTgt spid="170"/>
                                        </p:tgtEl>
                                        <p:attrNameLst>
                                          <p:attrName>xshear</p:attrName>
                                        </p:attrNameLst>
                                      </p:cBhvr>
                                    </p:anim>
                                    <p:animScale>
                                      <p:cBhvr>
                                        <p:cTn id="99" dur="200" autoRev="1" fill="hold">
                                          <p:stCondLst>
                                            <p:cond delay="600"/>
                                          </p:stCondLst>
                                        </p:cTn>
                                        <p:tgtEl>
                                          <p:spTgt spid="170"/>
                                        </p:tgtEl>
                                      </p:cBhvr>
                                      <p:from x="100000" y="100000"/>
                                      <p:to x="80000" y="100000"/>
                                    </p:animScale>
                                    <p:anim calcmode="lin" valueType="num" by="(#ppt_h/3+#ppt_w*0.1)">
                                      <p:cBhvr additive="sum">
                                        <p:cTn id="100" dur="200" autoRev="1" fill="hold">
                                          <p:stCondLst>
                                            <p:cond delay="600"/>
                                          </p:stCondLst>
                                        </p:cTn>
                                        <p:tgtEl>
                                          <p:spTgt spid="170"/>
                                        </p:tgtEl>
                                        <p:attrNameLst>
                                          <p:attrName>ppt_x</p:attrName>
                                        </p:attrNameLst>
                                      </p:cBhvr>
                                    </p:anim>
                                  </p:childTnLst>
                                </p:cTn>
                              </p:par>
                              <p:par>
                                <p:cTn id="101" nodeType="withEffect" fill="hold" presetClass="entr" presetID="34">
                                  <p:stCondLst>
                                    <p:cond delay="0"/>
                                  </p:stCondLst>
                                  <p:childTnLst>
                                    <p:set>
                                      <p:cBhvr>
                                        <p:cTn id="102" dur="1" fill="hold">
                                          <p:stCondLst>
                                            <p:cond delay="0"/>
                                          </p:stCondLst>
                                        </p:cTn>
                                        <p:tgtEl>
                                          <p:spTgt spid="171"/>
                                        </p:tgtEl>
                                        <p:attrNameLst>
                                          <p:attrName>style.visibility</p:attrName>
                                        </p:attrNameLst>
                                      </p:cBhvr>
                                      <p:to>
                                        <p:strVal val="visible"/>
                                      </p:to>
                                    </p:set>
                                    <p:anim calcmode="lin" valueType="num" from="(-#ppt_w/2)" to="(#ppt_x)">
                                      <p:cBhvr additive="repl">
                                        <p:cTn id="103" dur="600" fill="hold">
                                          <p:stCondLst>
                                            <p:cond delay="0"/>
                                          </p:stCondLst>
                                        </p:cTn>
                                        <p:tgtEl>
                                          <p:spTgt spid="171"/>
                                        </p:tgtEl>
                                        <p:attrNameLst>
                                          <p:attrName>ppt_x</p:attrName>
                                        </p:attrNameLst>
                                      </p:cBhvr>
                                    </p:anim>
                                    <p:anim calcmode="lin" valueType="num" from="0" to="-1">
                                      <p:cBhvr additive="repl">
                                        <p:cTn id="104" dur="200" autoRev="1" fill="hold">
                                          <p:stCondLst>
                                            <p:cond delay="600"/>
                                          </p:stCondLst>
                                        </p:cTn>
                                        <p:tgtEl>
                                          <p:spTgt spid="171"/>
                                        </p:tgtEl>
                                        <p:attrNameLst>
                                          <p:attrName>xshear</p:attrName>
                                        </p:attrNameLst>
                                      </p:cBhvr>
                                    </p:anim>
                                    <p:animScale>
                                      <p:cBhvr>
                                        <p:cTn id="105" dur="200" autoRev="1" fill="hold">
                                          <p:stCondLst>
                                            <p:cond delay="600"/>
                                          </p:stCondLst>
                                        </p:cTn>
                                        <p:tgtEl>
                                          <p:spTgt spid="171"/>
                                        </p:tgtEl>
                                      </p:cBhvr>
                                      <p:from x="100000" y="100000"/>
                                      <p:to x="80000" y="100000"/>
                                    </p:animScale>
                                    <p:anim calcmode="lin" valueType="num" by="(#ppt_h/3+#ppt_w*0.1)">
                                      <p:cBhvr additive="sum">
                                        <p:cTn id="106" dur="200" autoRev="1" fill="hold">
                                          <p:stCondLst>
                                            <p:cond delay="600"/>
                                          </p:stCondLst>
                                        </p:cTn>
                                        <p:tgtEl>
                                          <p:spTgt spid="17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pic>
        <p:nvPicPr>
          <p:cNvPr id="183" name="" descr="v5"/>
          <p:cNvPicPr/>
          <p:nvPr/>
        </p:nvPicPr>
        <p:blipFill>
          <a:blip r:embed="rId1"/>
          <a:stretch/>
        </p:blipFill>
        <p:spPr>
          <a:xfrm>
            <a:off x="5410080" y="228600"/>
            <a:ext cx="3537000" cy="3173400"/>
          </a:xfrm>
          <a:prstGeom prst="rect">
            <a:avLst/>
          </a:prstGeom>
          <a:ln w="0">
            <a:noFill/>
          </a:ln>
        </p:spPr>
      </p:pic>
      <p:sp>
        <p:nvSpPr>
          <p:cNvPr id="184" name=""/>
          <p:cNvSpPr/>
          <p:nvPr/>
        </p:nvSpPr>
        <p:spPr>
          <a:xfrm>
            <a:off x="762120" y="3352680"/>
            <a:ext cx="838188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Which season received the greatest number of vote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 many more votes did summer receive than winter?</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Which two seasons received a combined 265 votes?</a:t>
            </a:r>
            <a:endParaRPr b="0" lang="en-US" sz="2000" spc="-1" strike="noStrike">
              <a:solidFill>
                <a:srgbClr val="ffffff"/>
              </a:solidFill>
              <a:latin typeface="Arial"/>
            </a:endParaRPr>
          </a:p>
        </p:txBody>
      </p:sp>
      <p:sp>
        <p:nvSpPr>
          <p:cNvPr id="185" name=""/>
          <p:cNvSpPr/>
          <p:nvPr/>
        </p:nvSpPr>
        <p:spPr>
          <a:xfrm>
            <a:off x="60480" y="189000"/>
            <a:ext cx="49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3edff"/>
                </a:solidFill>
                <a:latin typeface="Arial"/>
              </a:rPr>
              <a:t>Objective: Students will read and interpret Circle Graphs</a:t>
            </a:r>
            <a:endParaRPr b="0" lang="en-US" sz="1800" spc="-1" strike="noStrike">
              <a:solidFill>
                <a:srgbClr val="ffffff"/>
              </a:solidFill>
              <a:latin typeface="Arial"/>
            </a:endParaRPr>
          </a:p>
        </p:txBody>
      </p:sp>
      <p:sp>
        <p:nvSpPr>
          <p:cNvPr id="186" name=""/>
          <p:cNvSpPr/>
          <p:nvPr/>
        </p:nvSpPr>
        <p:spPr>
          <a:xfrm>
            <a:off x="1527120" y="3776760"/>
            <a:ext cx="3187800" cy="260280"/>
          </a:xfrm>
          <a:custGeom>
            <a:avLst/>
            <a:gdLst/>
            <a:ahLst/>
            <a:rect l="l" t="t" r="r" b="b"/>
            <a:pathLst>
              <a:path w="8856" h="721">
                <a:moveTo>
                  <a:pt x="4242" y="10492"/>
                </a:moveTo>
                <a:cubicBezTo>
                  <a:pt x="4275" y="10703"/>
                  <a:pt x="4295" y="10917"/>
                  <a:pt x="4390" y="11112"/>
                </a:cubicBezTo>
                <a:cubicBezTo>
                  <a:pt x="4465" y="11266"/>
                  <a:pt x="4625" y="11131"/>
                  <a:pt x="4738" y="11088"/>
                </a:cubicBezTo>
              </a:path>
              <a:path w="8856" h="721">
                <a:moveTo>
                  <a:pt x="9947" y="11137"/>
                </a:moveTo>
                <a:cubicBezTo>
                  <a:pt x="9947" y="11195"/>
                  <a:pt x="9930" y="11220"/>
                  <a:pt x="9971" y="11212"/>
                </a:cubicBezTo>
              </a:path>
              <a:path w="8856" h="721">
                <a:moveTo>
                  <a:pt x="9971" y="11212"/>
                </a:moveTo>
                <a:lnTo>
                  <a:pt x="9971" y="11212"/>
                </a:lnTo>
              </a:path>
              <a:path w="8856" h="721">
                <a:moveTo>
                  <a:pt x="10294" y="10492"/>
                </a:moveTo>
                <a:cubicBezTo>
                  <a:pt x="10304" y="10664"/>
                  <a:pt x="10346" y="10822"/>
                  <a:pt x="10368" y="10988"/>
                </a:cubicBezTo>
              </a:path>
              <a:path w="8856" h="721">
                <a:moveTo>
                  <a:pt x="13022" y="10840"/>
                </a:moveTo>
                <a:cubicBezTo>
                  <a:pt x="12910" y="10833"/>
                  <a:pt x="12636" y="10879"/>
                  <a:pt x="12799" y="11063"/>
                </a:cubicBezTo>
                <a:cubicBezTo>
                  <a:pt x="12946" y="11229"/>
                  <a:pt x="13039" y="10996"/>
                  <a:pt x="13097" y="1091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955800" y="3759120"/>
            <a:ext cx="509400" cy="268200"/>
          </a:xfrm>
          <a:custGeom>
            <a:avLst/>
            <a:gdLst/>
            <a:ahLst/>
            <a:rect l="l" t="t" r="r" b="b"/>
            <a:pathLst>
              <a:path w="1415" h="745">
                <a:moveTo>
                  <a:pt x="2704" y="10592"/>
                </a:moveTo>
                <a:cubicBezTo>
                  <a:pt x="2704" y="10749"/>
                  <a:pt x="2725" y="10909"/>
                  <a:pt x="2753" y="11063"/>
                </a:cubicBezTo>
                <a:cubicBezTo>
                  <a:pt x="2772" y="11137"/>
                  <a:pt x="2780" y="11144"/>
                  <a:pt x="2778" y="11187"/>
                </a:cubicBezTo>
                <a:cubicBezTo>
                  <a:pt x="2705" y="10933"/>
                  <a:pt x="2666" y="10706"/>
                  <a:pt x="2654" y="10443"/>
                </a:cubicBezTo>
                <a:cubicBezTo>
                  <a:pt x="2831" y="10468"/>
                  <a:pt x="2938" y="10533"/>
                  <a:pt x="3125" y="10542"/>
                </a:cubicBezTo>
                <a:cubicBezTo>
                  <a:pt x="3251" y="10542"/>
                  <a:pt x="3278" y="10549"/>
                  <a:pt x="3349" y="10517"/>
                </a:cubicBezTo>
              </a:path>
              <a:path w="1415" h="745">
                <a:moveTo>
                  <a:pt x="2729" y="10864"/>
                </a:moveTo>
                <a:cubicBezTo>
                  <a:pt x="2947" y="10845"/>
                  <a:pt x="3151" y="10815"/>
                  <a:pt x="3373" y="10815"/>
                </a:cubicBezTo>
              </a:path>
              <a:path w="1415" h="745">
                <a:moveTo>
                  <a:pt x="3696" y="10815"/>
                </a:moveTo>
                <a:cubicBezTo>
                  <a:pt x="3604" y="10692"/>
                  <a:pt x="3516" y="10670"/>
                  <a:pt x="3398" y="10815"/>
                </a:cubicBezTo>
                <a:cubicBezTo>
                  <a:pt x="3311" y="10967"/>
                  <a:pt x="3283" y="11001"/>
                  <a:pt x="3274" y="11112"/>
                </a:cubicBezTo>
                <a:cubicBezTo>
                  <a:pt x="3491" y="11151"/>
                  <a:pt x="3533" y="11052"/>
                  <a:pt x="3671" y="10864"/>
                </a:cubicBezTo>
                <a:cubicBezTo>
                  <a:pt x="3683" y="10944"/>
                  <a:pt x="3736" y="11135"/>
                  <a:pt x="3870" y="11088"/>
                </a:cubicBezTo>
                <a:cubicBezTo>
                  <a:pt x="3911" y="11055"/>
                  <a:pt x="3953" y="11021"/>
                  <a:pt x="3994" y="10988"/>
                </a:cubicBezTo>
              </a:path>
              <a:path w="1415" h="745">
                <a:moveTo>
                  <a:pt x="3994" y="10492"/>
                </a:moveTo>
                <a:cubicBezTo>
                  <a:pt x="3994" y="10653"/>
                  <a:pt x="3998" y="10803"/>
                  <a:pt x="4018" y="10964"/>
                </a:cubicBezTo>
                <a:cubicBezTo>
                  <a:pt x="4039" y="11089"/>
                  <a:pt x="4040" y="11116"/>
                  <a:pt x="4068" y="11187"/>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2187720" y="3741840"/>
            <a:ext cx="1339560" cy="250560"/>
          </a:xfrm>
          <a:custGeom>
            <a:avLst/>
            <a:gdLst/>
            <a:ahLst/>
            <a:rect l="l" t="t" r="r" b="b"/>
            <a:pathLst>
              <a:path w="3722" h="696">
                <a:moveTo>
                  <a:pt x="6176" y="10592"/>
                </a:moveTo>
                <a:cubicBezTo>
                  <a:pt x="6154" y="10473"/>
                  <a:pt x="6396" y="10430"/>
                  <a:pt x="6499" y="10492"/>
                </a:cubicBezTo>
                <a:cubicBezTo>
                  <a:pt x="6797" y="10673"/>
                  <a:pt x="6560" y="11037"/>
                  <a:pt x="6300" y="11088"/>
                </a:cubicBezTo>
                <a:cubicBezTo>
                  <a:pt x="6134" y="11067"/>
                  <a:pt x="6076" y="11090"/>
                  <a:pt x="6077" y="10964"/>
                </a:cubicBezTo>
                <a:cubicBezTo>
                  <a:pt x="6300" y="10847"/>
                  <a:pt x="6391" y="10840"/>
                  <a:pt x="6623" y="10964"/>
                </a:cubicBezTo>
              </a:path>
              <a:path w="3722" h="696">
                <a:moveTo>
                  <a:pt x="6796" y="10542"/>
                </a:moveTo>
                <a:cubicBezTo>
                  <a:pt x="6777" y="10626"/>
                  <a:pt x="6721" y="10772"/>
                  <a:pt x="6846" y="10815"/>
                </a:cubicBezTo>
                <a:cubicBezTo>
                  <a:pt x="6954" y="10853"/>
                  <a:pt x="7058" y="10764"/>
                  <a:pt x="7144" y="10716"/>
                </a:cubicBezTo>
              </a:path>
              <a:path w="3722" h="696">
                <a:moveTo>
                  <a:pt x="7020" y="10418"/>
                </a:moveTo>
                <a:cubicBezTo>
                  <a:pt x="7014" y="10475"/>
                  <a:pt x="6952" y="10992"/>
                  <a:pt x="7020" y="10988"/>
                </a:cubicBezTo>
                <a:cubicBezTo>
                  <a:pt x="7045" y="10972"/>
                  <a:pt x="7069" y="10955"/>
                  <a:pt x="7094" y="10939"/>
                </a:cubicBezTo>
              </a:path>
              <a:path w="3722" h="696">
                <a:moveTo>
                  <a:pt x="7491" y="10393"/>
                </a:moveTo>
                <a:cubicBezTo>
                  <a:pt x="7414" y="10426"/>
                  <a:pt x="7136" y="10526"/>
                  <a:pt x="7193" y="10666"/>
                </a:cubicBezTo>
                <a:cubicBezTo>
                  <a:pt x="7253" y="10815"/>
                  <a:pt x="7467" y="10822"/>
                  <a:pt x="7466" y="10964"/>
                </a:cubicBezTo>
                <a:cubicBezTo>
                  <a:pt x="7271" y="10880"/>
                  <a:pt x="7304" y="10797"/>
                  <a:pt x="7417" y="10616"/>
                </a:cubicBezTo>
                <a:cubicBezTo>
                  <a:pt x="7471" y="10543"/>
                  <a:pt x="7463" y="10510"/>
                  <a:pt x="7516" y="10517"/>
                </a:cubicBezTo>
              </a:path>
              <a:path w="3722" h="696">
                <a:moveTo>
                  <a:pt x="7813" y="10418"/>
                </a:moveTo>
                <a:cubicBezTo>
                  <a:pt x="8026" y="10489"/>
                  <a:pt x="8238" y="10523"/>
                  <a:pt x="8458" y="10567"/>
                </a:cubicBezTo>
                <a:cubicBezTo>
                  <a:pt x="8329" y="10786"/>
                  <a:pt x="8174" y="10879"/>
                  <a:pt x="7987" y="11038"/>
                </a:cubicBezTo>
                <a:cubicBezTo>
                  <a:pt x="7995" y="11038"/>
                  <a:pt x="8004" y="11038"/>
                  <a:pt x="8012" y="11038"/>
                </a:cubicBezTo>
              </a:path>
              <a:path w="3722" h="696">
                <a:moveTo>
                  <a:pt x="8954" y="10492"/>
                </a:moveTo>
                <a:cubicBezTo>
                  <a:pt x="8872" y="10465"/>
                  <a:pt x="9038" y="10444"/>
                  <a:pt x="9054" y="10443"/>
                </a:cubicBezTo>
                <a:cubicBezTo>
                  <a:pt x="9095" y="10443"/>
                  <a:pt x="9137" y="10443"/>
                  <a:pt x="9178" y="10443"/>
                </a:cubicBezTo>
                <a:cubicBezTo>
                  <a:pt x="9210" y="10602"/>
                  <a:pt x="9132" y="10628"/>
                  <a:pt x="9004" y="10716"/>
                </a:cubicBezTo>
                <a:cubicBezTo>
                  <a:pt x="9085" y="10716"/>
                  <a:pt x="9273" y="10697"/>
                  <a:pt x="9252" y="10840"/>
                </a:cubicBezTo>
                <a:cubicBezTo>
                  <a:pt x="9214" y="11093"/>
                  <a:pt x="8968" y="10993"/>
                  <a:pt x="8880" y="10889"/>
                </a:cubicBezTo>
              </a:path>
              <a:path w="3722" h="696">
                <a:moveTo>
                  <a:pt x="9525" y="10468"/>
                </a:moveTo>
                <a:cubicBezTo>
                  <a:pt x="9521" y="10556"/>
                  <a:pt x="9434" y="10933"/>
                  <a:pt x="9575" y="10964"/>
                </a:cubicBezTo>
                <a:cubicBezTo>
                  <a:pt x="9714" y="10995"/>
                  <a:pt x="9759" y="10848"/>
                  <a:pt x="9798" y="10765"/>
                </a:cubicBezTo>
                <a:cubicBezTo>
                  <a:pt x="9693" y="10795"/>
                  <a:pt x="9559" y="10902"/>
                  <a:pt x="9624" y="11038"/>
                </a:cubicBezTo>
                <a:cubicBezTo>
                  <a:pt x="9641" y="11038"/>
                  <a:pt x="9657" y="11038"/>
                  <a:pt x="9674" y="1103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3813120" y="3786120"/>
            <a:ext cx="268200" cy="223920"/>
          </a:xfrm>
          <a:custGeom>
            <a:avLst/>
            <a:gdLst/>
            <a:ahLst/>
            <a:rect l="l" t="t" r="r" b="b"/>
            <a:pathLst>
              <a:path w="745" h="621">
                <a:moveTo>
                  <a:pt x="10592" y="10517"/>
                </a:moveTo>
                <a:cubicBezTo>
                  <a:pt x="10627" y="10633"/>
                  <a:pt x="10608" y="10893"/>
                  <a:pt x="10666" y="10988"/>
                </a:cubicBezTo>
                <a:cubicBezTo>
                  <a:pt x="10683" y="10988"/>
                  <a:pt x="10699" y="10988"/>
                  <a:pt x="10716" y="10988"/>
                </a:cubicBezTo>
              </a:path>
              <a:path w="745" h="621">
                <a:moveTo>
                  <a:pt x="10964" y="10567"/>
                </a:moveTo>
                <a:cubicBezTo>
                  <a:pt x="10964" y="10725"/>
                  <a:pt x="10942" y="10924"/>
                  <a:pt x="11038" y="11063"/>
                </a:cubicBezTo>
                <a:cubicBezTo>
                  <a:pt x="11166" y="11250"/>
                  <a:pt x="11294" y="11009"/>
                  <a:pt x="11336" y="10914"/>
                </a:cubicBezTo>
                <a:cubicBezTo>
                  <a:pt x="11308" y="10923"/>
                  <a:pt x="11057" y="11106"/>
                  <a:pt x="11187" y="11137"/>
                </a:cubicBezTo>
                <a:cubicBezTo>
                  <a:pt x="11220" y="11129"/>
                  <a:pt x="11253" y="11120"/>
                  <a:pt x="11286" y="11112"/>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4249800" y="3813120"/>
            <a:ext cx="509400" cy="169920"/>
          </a:xfrm>
          <a:custGeom>
            <a:avLst/>
            <a:gdLst/>
            <a:ahLst/>
            <a:rect l="l" t="t" r="r" b="b"/>
            <a:pathLst>
              <a:path w="1415" h="472">
                <a:moveTo>
                  <a:pt x="12005" y="10740"/>
                </a:moveTo>
                <a:cubicBezTo>
                  <a:pt x="12040" y="10729"/>
                  <a:pt x="12030" y="10733"/>
                  <a:pt x="12030" y="10691"/>
                </a:cubicBezTo>
                <a:cubicBezTo>
                  <a:pt x="11908" y="10691"/>
                  <a:pt x="11825" y="10791"/>
                  <a:pt x="11807" y="10914"/>
                </a:cubicBezTo>
                <a:cubicBezTo>
                  <a:pt x="11815" y="10939"/>
                  <a:pt x="11824" y="10963"/>
                  <a:pt x="11832" y="10988"/>
                </a:cubicBezTo>
                <a:cubicBezTo>
                  <a:pt x="11958" y="11008"/>
                  <a:pt x="12117" y="11011"/>
                  <a:pt x="12129" y="10840"/>
                </a:cubicBezTo>
                <a:cubicBezTo>
                  <a:pt x="12110" y="10782"/>
                  <a:pt x="12102" y="10775"/>
                  <a:pt x="12105" y="10740"/>
                </a:cubicBezTo>
                <a:cubicBezTo>
                  <a:pt x="12119" y="10825"/>
                  <a:pt x="12136" y="10906"/>
                  <a:pt x="12204" y="10964"/>
                </a:cubicBezTo>
                <a:cubicBezTo>
                  <a:pt x="12275" y="11011"/>
                  <a:pt x="12297" y="11029"/>
                  <a:pt x="12353" y="10988"/>
                </a:cubicBezTo>
              </a:path>
              <a:path w="1415" h="472">
                <a:moveTo>
                  <a:pt x="12402" y="10815"/>
                </a:moveTo>
                <a:cubicBezTo>
                  <a:pt x="12402" y="10898"/>
                  <a:pt x="12404" y="10961"/>
                  <a:pt x="12427" y="11038"/>
                </a:cubicBezTo>
                <a:cubicBezTo>
                  <a:pt x="12433" y="10994"/>
                  <a:pt x="12441" y="10788"/>
                  <a:pt x="12502" y="10790"/>
                </a:cubicBezTo>
                <a:cubicBezTo>
                  <a:pt x="12668" y="10796"/>
                  <a:pt x="12705" y="10936"/>
                  <a:pt x="12774" y="11063"/>
                </a:cubicBezTo>
              </a:path>
              <a:path w="1415" h="472">
                <a:moveTo>
                  <a:pt x="12998" y="10592"/>
                </a:moveTo>
                <a:cubicBezTo>
                  <a:pt x="13009" y="10656"/>
                  <a:pt x="13036" y="11055"/>
                  <a:pt x="13097" y="11063"/>
                </a:cubicBezTo>
                <a:cubicBezTo>
                  <a:pt x="13138" y="11055"/>
                  <a:pt x="13180" y="11046"/>
                  <a:pt x="13221" y="1103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4973760" y="3795840"/>
            <a:ext cx="527040" cy="169560"/>
          </a:xfrm>
          <a:custGeom>
            <a:avLst/>
            <a:gdLst/>
            <a:ahLst/>
            <a:rect l="l" t="t" r="r" b="b"/>
            <a:pathLst>
              <a:path w="1465" h="472">
                <a:moveTo>
                  <a:pt x="13866" y="10641"/>
                </a:moveTo>
                <a:cubicBezTo>
                  <a:pt x="14051" y="10631"/>
                  <a:pt x="14090" y="10656"/>
                  <a:pt x="14238" y="10765"/>
                </a:cubicBezTo>
                <a:cubicBezTo>
                  <a:pt x="14145" y="10963"/>
                  <a:pt x="14068" y="10959"/>
                  <a:pt x="13841" y="10939"/>
                </a:cubicBezTo>
                <a:cubicBezTo>
                  <a:pt x="13833" y="10939"/>
                  <a:pt x="13824" y="10939"/>
                  <a:pt x="13816" y="10939"/>
                </a:cubicBezTo>
                <a:cubicBezTo>
                  <a:pt x="14019" y="10911"/>
                  <a:pt x="14212" y="10932"/>
                  <a:pt x="14412" y="10914"/>
                </a:cubicBezTo>
              </a:path>
              <a:path w="1465" h="472">
                <a:moveTo>
                  <a:pt x="14436" y="10592"/>
                </a:moveTo>
                <a:cubicBezTo>
                  <a:pt x="14520" y="10625"/>
                  <a:pt x="14839" y="10728"/>
                  <a:pt x="14734" y="10889"/>
                </a:cubicBezTo>
                <a:cubicBezTo>
                  <a:pt x="14663" y="10999"/>
                  <a:pt x="14501" y="10913"/>
                  <a:pt x="14412" y="10889"/>
                </a:cubicBezTo>
                <a:cubicBezTo>
                  <a:pt x="14563" y="10870"/>
                  <a:pt x="14689" y="10917"/>
                  <a:pt x="14833" y="10914"/>
                </a:cubicBezTo>
                <a:cubicBezTo>
                  <a:pt x="14874" y="10906"/>
                  <a:pt x="14916" y="10897"/>
                  <a:pt x="14957" y="10889"/>
                </a:cubicBezTo>
              </a:path>
              <a:path w="1465" h="472">
                <a:moveTo>
                  <a:pt x="15156" y="10542"/>
                </a:moveTo>
                <a:cubicBezTo>
                  <a:pt x="15048" y="10596"/>
                  <a:pt x="15009" y="10587"/>
                  <a:pt x="14957" y="10691"/>
                </a:cubicBezTo>
                <a:cubicBezTo>
                  <a:pt x="15079" y="10715"/>
                  <a:pt x="15080" y="10694"/>
                  <a:pt x="15180" y="10616"/>
                </a:cubicBezTo>
                <a:cubicBezTo>
                  <a:pt x="15282" y="10642"/>
                  <a:pt x="15269" y="10871"/>
                  <a:pt x="15280" y="10964"/>
                </a:cubicBezTo>
                <a:cubicBezTo>
                  <a:pt x="15280" y="10980"/>
                  <a:pt x="15280" y="10997"/>
                  <a:pt x="15280" y="11013"/>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9360" y="4268880"/>
            <a:ext cx="820800" cy="866520"/>
          </a:xfrm>
          <a:custGeom>
            <a:avLst/>
            <a:gdLst/>
            <a:ahLst/>
            <a:rect l="l" t="t" r="r" b="b"/>
            <a:pathLst>
              <a:path w="2283" h="2407">
                <a:moveTo>
                  <a:pt x="347" y="11881"/>
                </a:moveTo>
                <a:cubicBezTo>
                  <a:pt x="297" y="11866"/>
                  <a:pt x="301" y="12109"/>
                  <a:pt x="298" y="12179"/>
                </a:cubicBezTo>
                <a:cubicBezTo>
                  <a:pt x="292" y="12328"/>
                  <a:pt x="273" y="12626"/>
                  <a:pt x="273" y="12477"/>
                </a:cubicBezTo>
              </a:path>
              <a:path w="2283" h="2407">
                <a:moveTo>
                  <a:pt x="645" y="11881"/>
                </a:moveTo>
                <a:cubicBezTo>
                  <a:pt x="721" y="12032"/>
                  <a:pt x="682" y="12164"/>
                  <a:pt x="670" y="12328"/>
                </a:cubicBezTo>
                <a:cubicBezTo>
                  <a:pt x="664" y="12406"/>
                  <a:pt x="648" y="12441"/>
                  <a:pt x="670" y="12452"/>
                </a:cubicBezTo>
              </a:path>
              <a:path w="2283" h="2407">
                <a:moveTo>
                  <a:pt x="1042" y="11906"/>
                </a:moveTo>
                <a:cubicBezTo>
                  <a:pt x="1023" y="12041"/>
                  <a:pt x="963" y="12191"/>
                  <a:pt x="967" y="12328"/>
                </a:cubicBezTo>
                <a:cubicBezTo>
                  <a:pt x="970" y="12442"/>
                  <a:pt x="1088" y="12503"/>
                  <a:pt x="1191" y="12452"/>
                </a:cubicBezTo>
                <a:cubicBezTo>
                  <a:pt x="1306" y="12395"/>
                  <a:pt x="1265" y="12281"/>
                  <a:pt x="1265" y="12179"/>
                </a:cubicBezTo>
                <a:cubicBezTo>
                  <a:pt x="1171" y="12179"/>
                  <a:pt x="1109" y="12210"/>
                  <a:pt x="1067" y="12303"/>
                </a:cubicBezTo>
                <a:cubicBezTo>
                  <a:pt x="1025" y="12395"/>
                  <a:pt x="1037" y="12464"/>
                  <a:pt x="1116" y="12477"/>
                </a:cubicBezTo>
              </a:path>
              <a:path w="2283" h="2407">
                <a:moveTo>
                  <a:pt x="2158" y="12005"/>
                </a:moveTo>
                <a:cubicBezTo>
                  <a:pt x="2108" y="11986"/>
                  <a:pt x="2008" y="11999"/>
                  <a:pt x="1960" y="12055"/>
                </a:cubicBezTo>
                <a:cubicBezTo>
                  <a:pt x="1952" y="12072"/>
                  <a:pt x="1943" y="12088"/>
                  <a:pt x="1935" y="12105"/>
                </a:cubicBezTo>
                <a:cubicBezTo>
                  <a:pt x="2039" y="12187"/>
                  <a:pt x="2135" y="12129"/>
                  <a:pt x="2257" y="12154"/>
                </a:cubicBezTo>
                <a:cubicBezTo>
                  <a:pt x="2265" y="12162"/>
                  <a:pt x="2274" y="12171"/>
                  <a:pt x="2282" y="12179"/>
                </a:cubicBezTo>
                <a:cubicBezTo>
                  <a:pt x="2226" y="12310"/>
                  <a:pt x="2153" y="12398"/>
                  <a:pt x="1984" y="12378"/>
                </a:cubicBezTo>
                <a:cubicBezTo>
                  <a:pt x="1968" y="12370"/>
                  <a:pt x="1951" y="12361"/>
                  <a:pt x="1935" y="12353"/>
                </a:cubicBezTo>
              </a:path>
              <a:path w="2283" h="2407">
                <a:moveTo>
                  <a:pt x="25" y="13122"/>
                </a:moveTo>
                <a:cubicBezTo>
                  <a:pt x="108" y="13122"/>
                  <a:pt x="168" y="13091"/>
                  <a:pt x="248" y="13072"/>
                </a:cubicBezTo>
                <a:cubicBezTo>
                  <a:pt x="273" y="13072"/>
                  <a:pt x="281" y="13072"/>
                  <a:pt x="298" y="13072"/>
                </a:cubicBezTo>
              </a:path>
              <a:path w="2283" h="2407">
                <a:moveTo>
                  <a:pt x="719" y="12874"/>
                </a:moveTo>
                <a:cubicBezTo>
                  <a:pt x="751" y="12834"/>
                  <a:pt x="858" y="12743"/>
                  <a:pt x="918" y="12824"/>
                </a:cubicBezTo>
                <a:cubicBezTo>
                  <a:pt x="969" y="12892"/>
                  <a:pt x="799" y="12981"/>
                  <a:pt x="769" y="12998"/>
                </a:cubicBezTo>
                <a:cubicBezTo>
                  <a:pt x="769" y="12990"/>
                  <a:pt x="769" y="12981"/>
                  <a:pt x="769" y="12973"/>
                </a:cubicBezTo>
                <a:cubicBezTo>
                  <a:pt x="854" y="12973"/>
                  <a:pt x="976" y="12952"/>
                  <a:pt x="918" y="13097"/>
                </a:cubicBezTo>
                <a:cubicBezTo>
                  <a:pt x="888" y="13174"/>
                  <a:pt x="637" y="13235"/>
                  <a:pt x="695" y="13146"/>
                </a:cubicBezTo>
                <a:cubicBezTo>
                  <a:pt x="728" y="13113"/>
                  <a:pt x="761" y="13080"/>
                  <a:pt x="794" y="13047"/>
                </a:cubicBezTo>
              </a:path>
              <a:path w="2283" h="2407">
                <a:moveTo>
                  <a:pt x="1215" y="12774"/>
                </a:moveTo>
                <a:cubicBezTo>
                  <a:pt x="1200" y="12867"/>
                  <a:pt x="1191" y="12950"/>
                  <a:pt x="1191" y="13047"/>
                </a:cubicBezTo>
                <a:cubicBezTo>
                  <a:pt x="1191" y="13103"/>
                  <a:pt x="1196" y="13125"/>
                  <a:pt x="1240" y="13146"/>
                </a:cubicBezTo>
                <a:cubicBezTo>
                  <a:pt x="1320" y="13129"/>
                  <a:pt x="1429" y="13093"/>
                  <a:pt x="1389" y="12973"/>
                </a:cubicBezTo>
                <a:cubicBezTo>
                  <a:pt x="1366" y="12904"/>
                  <a:pt x="1278" y="12937"/>
                  <a:pt x="1240" y="12948"/>
                </a:cubicBezTo>
                <a:cubicBezTo>
                  <a:pt x="1248" y="13020"/>
                  <a:pt x="1261" y="13080"/>
                  <a:pt x="1290" y="13146"/>
                </a:cubicBezTo>
              </a:path>
              <a:path w="2283" h="2407">
                <a:moveTo>
                  <a:pt x="1687" y="12923"/>
                </a:moveTo>
                <a:cubicBezTo>
                  <a:pt x="1725" y="12973"/>
                  <a:pt x="1754" y="13037"/>
                  <a:pt x="1786" y="13097"/>
                </a:cubicBezTo>
                <a:cubicBezTo>
                  <a:pt x="1794" y="13113"/>
                  <a:pt x="1803" y="13130"/>
                  <a:pt x="1811" y="13146"/>
                </a:cubicBezTo>
                <a:cubicBezTo>
                  <a:pt x="1890" y="13097"/>
                  <a:pt x="1948" y="13037"/>
                  <a:pt x="1984" y="12948"/>
                </a:cubicBezTo>
                <a:cubicBezTo>
                  <a:pt x="1984" y="12940"/>
                  <a:pt x="1984" y="12931"/>
                  <a:pt x="1984" y="12923"/>
                </a:cubicBezTo>
                <a:cubicBezTo>
                  <a:pt x="2010" y="12985"/>
                  <a:pt x="2043" y="13149"/>
                  <a:pt x="2108" y="13171"/>
                </a:cubicBezTo>
                <a:cubicBezTo>
                  <a:pt x="2250" y="13220"/>
                  <a:pt x="2361" y="12973"/>
                  <a:pt x="2257" y="12874"/>
                </a:cubicBezTo>
                <a:cubicBezTo>
                  <a:pt x="2197" y="12854"/>
                  <a:pt x="2182" y="12835"/>
                  <a:pt x="2158" y="12874"/>
                </a:cubicBezTo>
              </a:path>
              <a:path w="2283" h="2407">
                <a:moveTo>
                  <a:pt x="198" y="13494"/>
                </a:moveTo>
                <a:cubicBezTo>
                  <a:pt x="483" y="13523"/>
                  <a:pt x="755" y="13526"/>
                  <a:pt x="1042" y="13494"/>
                </a:cubicBezTo>
                <a:cubicBezTo>
                  <a:pt x="1224" y="13474"/>
                  <a:pt x="1503" y="13568"/>
                  <a:pt x="1563" y="13395"/>
                </a:cubicBezTo>
              </a:path>
              <a:path w="2283" h="2407">
                <a:moveTo>
                  <a:pt x="1488" y="13667"/>
                </a:moveTo>
                <a:cubicBezTo>
                  <a:pt x="1488" y="13632"/>
                  <a:pt x="1372" y="13920"/>
                  <a:pt x="1364" y="13965"/>
                </a:cubicBezTo>
                <a:cubicBezTo>
                  <a:pt x="1364" y="14066"/>
                  <a:pt x="1354" y="14087"/>
                  <a:pt x="1389" y="14139"/>
                </a:cubicBezTo>
                <a:cubicBezTo>
                  <a:pt x="1514" y="14084"/>
                  <a:pt x="1723" y="13953"/>
                  <a:pt x="1637" y="13767"/>
                </a:cubicBezTo>
                <a:cubicBezTo>
                  <a:pt x="1596" y="13677"/>
                  <a:pt x="1497" y="13722"/>
                  <a:pt x="1439" y="13742"/>
                </a:cubicBezTo>
              </a:path>
              <a:path w="2283" h="2407">
                <a:moveTo>
                  <a:pt x="868" y="13841"/>
                </a:moveTo>
                <a:cubicBezTo>
                  <a:pt x="902" y="13798"/>
                  <a:pt x="950" y="13745"/>
                  <a:pt x="967" y="13692"/>
                </a:cubicBezTo>
                <a:cubicBezTo>
                  <a:pt x="967" y="13684"/>
                  <a:pt x="967" y="13675"/>
                  <a:pt x="967" y="13667"/>
                </a:cubicBezTo>
                <a:cubicBezTo>
                  <a:pt x="857" y="13683"/>
                  <a:pt x="772" y="13709"/>
                  <a:pt x="719" y="13816"/>
                </a:cubicBezTo>
                <a:cubicBezTo>
                  <a:pt x="719" y="13824"/>
                  <a:pt x="719" y="13833"/>
                  <a:pt x="719" y="13841"/>
                </a:cubicBezTo>
                <a:cubicBezTo>
                  <a:pt x="815" y="13937"/>
                  <a:pt x="965" y="13940"/>
                  <a:pt x="1017" y="14089"/>
                </a:cubicBezTo>
                <a:cubicBezTo>
                  <a:pt x="1061" y="14216"/>
                  <a:pt x="898" y="14250"/>
                  <a:pt x="819" y="14263"/>
                </a:cubicBezTo>
                <a:cubicBezTo>
                  <a:pt x="798" y="14157"/>
                  <a:pt x="805" y="14093"/>
                  <a:pt x="868" y="13990"/>
                </a:cubicBezTo>
                <a:cubicBezTo>
                  <a:pt x="944" y="13866"/>
                  <a:pt x="1094" y="13790"/>
                  <a:pt x="1116" y="13643"/>
                </a:cubicBezTo>
                <a:cubicBezTo>
                  <a:pt x="1124" y="13586"/>
                  <a:pt x="1053" y="13549"/>
                  <a:pt x="992" y="13568"/>
                </a:cubicBezTo>
                <a:cubicBezTo>
                  <a:pt x="984" y="13576"/>
                  <a:pt x="975" y="13585"/>
                  <a:pt x="967" y="13593"/>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1455840" y="4653000"/>
            <a:ext cx="1251000" cy="258840"/>
          </a:xfrm>
          <a:custGeom>
            <a:avLst/>
            <a:gdLst/>
            <a:ahLst/>
            <a:rect l="l" t="t" r="r" b="b"/>
            <a:pathLst>
              <a:path w="3474" h="721">
                <a:moveTo>
                  <a:pt x="4539" y="12948"/>
                </a:moveTo>
                <a:cubicBezTo>
                  <a:pt x="4635" y="12916"/>
                  <a:pt x="4410" y="12936"/>
                  <a:pt x="4316" y="12973"/>
                </a:cubicBezTo>
                <a:cubicBezTo>
                  <a:pt x="4153" y="13055"/>
                  <a:pt x="4114" y="13061"/>
                  <a:pt x="4043" y="13146"/>
                </a:cubicBezTo>
                <a:cubicBezTo>
                  <a:pt x="4203" y="13251"/>
                  <a:pt x="4593" y="13346"/>
                  <a:pt x="4415" y="13568"/>
                </a:cubicBezTo>
                <a:cubicBezTo>
                  <a:pt x="4296" y="13640"/>
                  <a:pt x="4261" y="13666"/>
                  <a:pt x="4167" y="13618"/>
                </a:cubicBezTo>
                <a:cubicBezTo>
                  <a:pt x="4214" y="13381"/>
                  <a:pt x="4347" y="13231"/>
                  <a:pt x="4465" y="13022"/>
                </a:cubicBezTo>
                <a:cubicBezTo>
                  <a:pt x="4465" y="12998"/>
                  <a:pt x="4465" y="12990"/>
                  <a:pt x="4490" y="12998"/>
                </a:cubicBezTo>
              </a:path>
              <a:path w="3474" h="721">
                <a:moveTo>
                  <a:pt x="4837" y="12923"/>
                </a:moveTo>
                <a:cubicBezTo>
                  <a:pt x="4626" y="12972"/>
                  <a:pt x="4505" y="13186"/>
                  <a:pt x="4539" y="13419"/>
                </a:cubicBezTo>
                <a:cubicBezTo>
                  <a:pt x="4564" y="13452"/>
                  <a:pt x="4589" y="13486"/>
                  <a:pt x="4614" y="13519"/>
                </a:cubicBezTo>
                <a:cubicBezTo>
                  <a:pt x="4776" y="13475"/>
                  <a:pt x="5163" y="13269"/>
                  <a:pt x="4936" y="13022"/>
                </a:cubicBezTo>
                <a:cubicBezTo>
                  <a:pt x="4804" y="12979"/>
                  <a:pt x="4772" y="12967"/>
                  <a:pt x="4688" y="12948"/>
                </a:cubicBezTo>
              </a:path>
              <a:path w="3474" h="721">
                <a:moveTo>
                  <a:pt x="5407" y="13097"/>
                </a:moveTo>
                <a:cubicBezTo>
                  <a:pt x="5407" y="13171"/>
                  <a:pt x="5407" y="13246"/>
                  <a:pt x="5407" y="13320"/>
                </a:cubicBezTo>
                <a:cubicBezTo>
                  <a:pt x="5407" y="13638"/>
                  <a:pt x="5397" y="13188"/>
                  <a:pt x="5457" y="13122"/>
                </a:cubicBezTo>
                <a:cubicBezTo>
                  <a:pt x="5498" y="13105"/>
                  <a:pt x="5540" y="13089"/>
                  <a:pt x="5581" y="13072"/>
                </a:cubicBezTo>
                <a:cubicBezTo>
                  <a:pt x="5732" y="13202"/>
                  <a:pt x="5766" y="13229"/>
                  <a:pt x="5829" y="13419"/>
                </a:cubicBezTo>
                <a:cubicBezTo>
                  <a:pt x="5743" y="13392"/>
                  <a:pt x="5784" y="13210"/>
                  <a:pt x="5829" y="13146"/>
                </a:cubicBezTo>
                <a:cubicBezTo>
                  <a:pt x="6036" y="12856"/>
                  <a:pt x="6172" y="13353"/>
                  <a:pt x="6176" y="13494"/>
                </a:cubicBezTo>
                <a:cubicBezTo>
                  <a:pt x="6144" y="13560"/>
                  <a:pt x="6153" y="13568"/>
                  <a:pt x="6251" y="13494"/>
                </a:cubicBezTo>
              </a:path>
              <a:path w="3474" h="721">
                <a:moveTo>
                  <a:pt x="6375" y="13196"/>
                </a:moveTo>
                <a:cubicBezTo>
                  <a:pt x="6281" y="13337"/>
                  <a:pt x="6250" y="13378"/>
                  <a:pt x="6251" y="13494"/>
                </a:cubicBezTo>
                <a:cubicBezTo>
                  <a:pt x="6399" y="13527"/>
                  <a:pt x="6703" y="13485"/>
                  <a:pt x="6623" y="13221"/>
                </a:cubicBezTo>
                <a:cubicBezTo>
                  <a:pt x="6585" y="13093"/>
                  <a:pt x="6490" y="13122"/>
                  <a:pt x="6400" y="13122"/>
                </a:cubicBezTo>
              </a:path>
              <a:path w="3474" h="721">
                <a:moveTo>
                  <a:pt x="6772" y="13370"/>
                </a:moveTo>
                <a:cubicBezTo>
                  <a:pt x="6780" y="13411"/>
                  <a:pt x="6788" y="13453"/>
                  <a:pt x="6796" y="13494"/>
                </a:cubicBezTo>
                <a:cubicBezTo>
                  <a:pt x="6796" y="13346"/>
                  <a:pt x="6823" y="13201"/>
                  <a:pt x="6945" y="13097"/>
                </a:cubicBezTo>
                <a:cubicBezTo>
                  <a:pt x="6970" y="13089"/>
                  <a:pt x="6995" y="13080"/>
                  <a:pt x="7020" y="13072"/>
                </a:cubicBezTo>
              </a:path>
              <a:path w="3474" h="721">
                <a:moveTo>
                  <a:pt x="7020" y="13271"/>
                </a:moveTo>
                <a:cubicBezTo>
                  <a:pt x="7131" y="13243"/>
                  <a:pt x="7266" y="13252"/>
                  <a:pt x="7293" y="13122"/>
                </a:cubicBezTo>
                <a:cubicBezTo>
                  <a:pt x="7155" y="13132"/>
                  <a:pt x="6934" y="13330"/>
                  <a:pt x="7069" y="13519"/>
                </a:cubicBezTo>
                <a:cubicBezTo>
                  <a:pt x="7254" y="13592"/>
                  <a:pt x="7360" y="13594"/>
                  <a:pt x="7516" y="1349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894040" y="4633920"/>
            <a:ext cx="812880" cy="268200"/>
          </a:xfrm>
          <a:custGeom>
            <a:avLst/>
            <a:gdLst/>
            <a:ahLst/>
            <a:rect l="l" t="t" r="r" b="b"/>
            <a:pathLst>
              <a:path w="2258" h="745">
                <a:moveTo>
                  <a:pt x="8037" y="13271"/>
                </a:moveTo>
                <a:cubicBezTo>
                  <a:pt x="8126" y="13392"/>
                  <a:pt x="8209" y="13507"/>
                  <a:pt x="8310" y="13618"/>
                </a:cubicBezTo>
                <a:cubicBezTo>
                  <a:pt x="8409" y="13428"/>
                  <a:pt x="8430" y="13234"/>
                  <a:pt x="8607" y="13171"/>
                </a:cubicBezTo>
              </a:path>
              <a:path w="2258" h="745">
                <a:moveTo>
                  <a:pt x="8880" y="13097"/>
                </a:moveTo>
                <a:cubicBezTo>
                  <a:pt x="8646" y="13249"/>
                  <a:pt x="8587" y="13342"/>
                  <a:pt x="8657" y="13618"/>
                </a:cubicBezTo>
                <a:cubicBezTo>
                  <a:pt x="8918" y="13520"/>
                  <a:pt x="9070" y="13417"/>
                  <a:pt x="8880" y="13146"/>
                </a:cubicBezTo>
                <a:cubicBezTo>
                  <a:pt x="8855" y="13121"/>
                  <a:pt x="8831" y="13097"/>
                  <a:pt x="8806" y="13072"/>
                </a:cubicBezTo>
              </a:path>
              <a:path w="2258" h="745">
                <a:moveTo>
                  <a:pt x="9227" y="12874"/>
                </a:moveTo>
                <a:cubicBezTo>
                  <a:pt x="9278" y="13096"/>
                  <a:pt x="9303" y="13322"/>
                  <a:pt x="9351" y="13543"/>
                </a:cubicBezTo>
                <a:cubicBezTo>
                  <a:pt x="9351" y="13535"/>
                  <a:pt x="9351" y="13527"/>
                  <a:pt x="9351" y="13519"/>
                </a:cubicBezTo>
              </a:path>
              <a:path w="2258" h="745">
                <a:moveTo>
                  <a:pt x="9079" y="13221"/>
                </a:moveTo>
                <a:cubicBezTo>
                  <a:pt x="9321" y="13235"/>
                  <a:pt x="9556" y="13236"/>
                  <a:pt x="9798" y="13246"/>
                </a:cubicBezTo>
                <a:cubicBezTo>
                  <a:pt x="9842" y="13248"/>
                  <a:pt x="9841" y="13129"/>
                  <a:pt x="9823" y="13097"/>
                </a:cubicBezTo>
                <a:cubicBezTo>
                  <a:pt x="9815" y="13097"/>
                  <a:pt x="9806" y="13097"/>
                  <a:pt x="9798" y="13097"/>
                </a:cubicBezTo>
                <a:cubicBezTo>
                  <a:pt x="9649" y="13176"/>
                  <a:pt x="9650" y="13201"/>
                  <a:pt x="9599" y="13370"/>
                </a:cubicBezTo>
                <a:cubicBezTo>
                  <a:pt x="9818" y="13456"/>
                  <a:pt x="9809" y="13403"/>
                  <a:pt x="10046" y="13295"/>
                </a:cubicBezTo>
              </a:path>
              <a:path w="2258" h="745">
                <a:moveTo>
                  <a:pt x="10195" y="13097"/>
                </a:moveTo>
                <a:cubicBezTo>
                  <a:pt x="10108" y="13102"/>
                  <a:pt x="10049" y="13094"/>
                  <a:pt x="9996" y="13146"/>
                </a:cubicBezTo>
                <a:cubicBezTo>
                  <a:pt x="10079" y="13270"/>
                  <a:pt x="10212" y="13336"/>
                  <a:pt x="10294" y="13469"/>
                </a:cubicBezTo>
                <a:cubicBezTo>
                  <a:pt x="10097" y="13542"/>
                  <a:pt x="10068" y="13532"/>
                  <a:pt x="9872" y="13469"/>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276640" y="5688000"/>
            <a:ext cx="1331640" cy="19080"/>
          </a:xfrm>
          <a:custGeom>
            <a:avLst/>
            <a:gdLst/>
            <a:ahLst/>
            <a:rect l="l" t="t" r="r" b="b"/>
            <a:pathLst>
              <a:path w="3697" h="50">
                <a:moveTo>
                  <a:pt x="6325" y="15801"/>
                </a:moveTo>
                <a:cubicBezTo>
                  <a:pt x="6325" y="15809"/>
                  <a:pt x="6325" y="15817"/>
                  <a:pt x="6325" y="15825"/>
                </a:cubicBezTo>
              </a:path>
              <a:path w="3697" h="50">
                <a:moveTo>
                  <a:pt x="6325" y="15825"/>
                </a:moveTo>
                <a:lnTo>
                  <a:pt x="6325" y="15825"/>
                </a:lnTo>
              </a:path>
              <a:path w="3697" h="50">
                <a:moveTo>
                  <a:pt x="9971" y="15850"/>
                </a:moveTo>
                <a:lnTo>
                  <a:pt x="9971" y="15850"/>
                </a:lnTo>
              </a:path>
              <a:path w="3697" h="50">
                <a:moveTo>
                  <a:pt x="10021" y="15850"/>
                </a:moveTo>
                <a:cubicBezTo>
                  <a:pt x="10021" y="15842"/>
                  <a:pt x="10021" y="15833"/>
                  <a:pt x="10021" y="15825"/>
                </a:cubicBezTo>
              </a:path>
              <a:path w="3697" h="50">
                <a:moveTo>
                  <a:pt x="10021" y="15825"/>
                </a:moveTo>
                <a:lnTo>
                  <a:pt x="10021" y="15825"/>
                </a:lnTo>
              </a:path>
            </a:pathLst>
          </a:custGeom>
          <a:noFill/>
          <a:ln cap="rnd" w="3492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96" name=""/>
          <p:cNvSpPr/>
          <p:nvPr/>
        </p:nvSpPr>
        <p:spPr>
          <a:xfrm>
            <a:off x="1133640" y="5634000"/>
            <a:ext cx="1519200" cy="322200"/>
          </a:xfrm>
          <a:custGeom>
            <a:avLst/>
            <a:gdLst/>
            <a:ahLst/>
            <a:rect l="l" t="t" r="r" b="b"/>
            <a:pathLst>
              <a:path w="4218" h="894">
                <a:moveTo>
                  <a:pt x="3150" y="15677"/>
                </a:moveTo>
                <a:cubicBezTo>
                  <a:pt x="3249" y="15701"/>
                  <a:pt x="3166" y="15945"/>
                  <a:pt x="3225" y="16073"/>
                </a:cubicBezTo>
                <a:cubicBezTo>
                  <a:pt x="3241" y="16081"/>
                  <a:pt x="3258" y="16090"/>
                  <a:pt x="3274" y="16098"/>
                </a:cubicBezTo>
                <a:cubicBezTo>
                  <a:pt x="3412" y="16009"/>
                  <a:pt x="3477" y="15936"/>
                  <a:pt x="3572" y="15801"/>
                </a:cubicBezTo>
                <a:cubicBezTo>
                  <a:pt x="3554" y="15952"/>
                  <a:pt x="3562" y="16179"/>
                  <a:pt x="3795" y="16073"/>
                </a:cubicBezTo>
                <a:cubicBezTo>
                  <a:pt x="4005" y="15978"/>
                  <a:pt x="3962" y="15874"/>
                  <a:pt x="3795" y="15850"/>
                </a:cubicBezTo>
              </a:path>
              <a:path w="4218" h="894">
                <a:moveTo>
                  <a:pt x="4266" y="15726"/>
                </a:moveTo>
                <a:cubicBezTo>
                  <a:pt x="4322" y="15818"/>
                  <a:pt x="4376" y="15913"/>
                  <a:pt x="4440" y="15999"/>
                </a:cubicBezTo>
                <a:cubicBezTo>
                  <a:pt x="4374" y="15888"/>
                  <a:pt x="4285" y="15910"/>
                  <a:pt x="4167" y="15925"/>
                </a:cubicBezTo>
                <a:cubicBezTo>
                  <a:pt x="4134" y="16054"/>
                  <a:pt x="4451" y="15935"/>
                  <a:pt x="4514" y="15925"/>
                </a:cubicBezTo>
                <a:cubicBezTo>
                  <a:pt x="4580" y="15917"/>
                  <a:pt x="4647" y="15908"/>
                  <a:pt x="4713" y="15900"/>
                </a:cubicBezTo>
              </a:path>
              <a:path w="4218" h="894">
                <a:moveTo>
                  <a:pt x="5011" y="15751"/>
                </a:moveTo>
                <a:cubicBezTo>
                  <a:pt x="4887" y="15915"/>
                  <a:pt x="5156" y="15939"/>
                  <a:pt x="5283" y="16024"/>
                </a:cubicBezTo>
                <a:cubicBezTo>
                  <a:pt x="5300" y="16040"/>
                  <a:pt x="5316" y="16057"/>
                  <a:pt x="5333" y="16073"/>
                </a:cubicBezTo>
                <a:cubicBezTo>
                  <a:pt x="5308" y="16087"/>
                  <a:pt x="4850" y="16215"/>
                  <a:pt x="4961" y="16049"/>
                </a:cubicBezTo>
                <a:cubicBezTo>
                  <a:pt x="5011" y="16016"/>
                  <a:pt x="5060" y="15982"/>
                  <a:pt x="5110" y="15949"/>
                </a:cubicBezTo>
              </a:path>
              <a:path w="4218" h="894">
                <a:moveTo>
                  <a:pt x="5482" y="16123"/>
                </a:moveTo>
                <a:cubicBezTo>
                  <a:pt x="5503" y="16268"/>
                  <a:pt x="5495" y="16302"/>
                  <a:pt x="5556" y="16371"/>
                </a:cubicBezTo>
                <a:cubicBezTo>
                  <a:pt x="5556" y="16452"/>
                  <a:pt x="5481" y="16010"/>
                  <a:pt x="5482" y="15999"/>
                </a:cubicBezTo>
                <a:cubicBezTo>
                  <a:pt x="5498" y="15974"/>
                  <a:pt x="5515" y="15950"/>
                  <a:pt x="5531" y="15925"/>
                </a:cubicBezTo>
                <a:cubicBezTo>
                  <a:pt x="5578" y="15947"/>
                  <a:pt x="5844" y="16104"/>
                  <a:pt x="5655" y="16148"/>
                </a:cubicBezTo>
                <a:cubicBezTo>
                  <a:pt x="5512" y="16181"/>
                  <a:pt x="5489" y="16096"/>
                  <a:pt x="5457" y="15999"/>
                </a:cubicBezTo>
              </a:path>
              <a:path w="4218" h="894">
                <a:moveTo>
                  <a:pt x="5928" y="15925"/>
                </a:moveTo>
                <a:cubicBezTo>
                  <a:pt x="5933" y="15987"/>
                  <a:pt x="5943" y="16038"/>
                  <a:pt x="5953" y="16098"/>
                </a:cubicBezTo>
                <a:cubicBezTo>
                  <a:pt x="5964" y="16023"/>
                  <a:pt x="5984" y="15862"/>
                  <a:pt x="6102" y="15875"/>
                </a:cubicBezTo>
                <a:cubicBezTo>
                  <a:pt x="6217" y="15888"/>
                  <a:pt x="6345" y="15955"/>
                  <a:pt x="6375" y="16073"/>
                </a:cubicBezTo>
                <a:cubicBezTo>
                  <a:pt x="6391" y="16138"/>
                  <a:pt x="6332" y="16237"/>
                  <a:pt x="6400" y="16148"/>
                </a:cubicBezTo>
              </a:path>
              <a:path w="4218" h="894">
                <a:moveTo>
                  <a:pt x="6573" y="16098"/>
                </a:moveTo>
                <a:cubicBezTo>
                  <a:pt x="6598" y="16147"/>
                  <a:pt x="6638" y="16022"/>
                  <a:pt x="6672" y="15974"/>
                </a:cubicBezTo>
                <a:cubicBezTo>
                  <a:pt x="6763" y="16110"/>
                  <a:pt x="6800" y="16158"/>
                  <a:pt x="6970" y="16073"/>
                </a:cubicBezTo>
                <a:cubicBezTo>
                  <a:pt x="7094" y="15991"/>
                  <a:pt x="7127" y="15982"/>
                  <a:pt x="7169" y="15900"/>
                </a:cubicBezTo>
                <a:cubicBezTo>
                  <a:pt x="7052" y="15963"/>
                  <a:pt x="7016" y="16010"/>
                  <a:pt x="6945" y="16123"/>
                </a:cubicBezTo>
                <a:cubicBezTo>
                  <a:pt x="7046" y="16140"/>
                  <a:pt x="7118" y="15968"/>
                  <a:pt x="7218" y="15974"/>
                </a:cubicBezTo>
                <a:cubicBezTo>
                  <a:pt x="7316" y="15980"/>
                  <a:pt x="7383" y="16373"/>
                  <a:pt x="7342" y="16446"/>
                </a:cubicBezTo>
                <a:cubicBezTo>
                  <a:pt x="7251" y="16610"/>
                  <a:pt x="7045" y="16520"/>
                  <a:pt x="6921" y="16495"/>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537000" y="5697360"/>
            <a:ext cx="204840" cy="177840"/>
          </a:xfrm>
          <a:custGeom>
            <a:avLst/>
            <a:gdLst/>
            <a:ahLst/>
            <a:rect l="l" t="t" r="r" b="b"/>
            <a:pathLst>
              <a:path w="571" h="497">
                <a:moveTo>
                  <a:pt x="10021" y="15825"/>
                </a:moveTo>
                <a:cubicBezTo>
                  <a:pt x="10135" y="15825"/>
                  <a:pt x="10229" y="15837"/>
                  <a:pt x="10294" y="15949"/>
                </a:cubicBezTo>
                <a:cubicBezTo>
                  <a:pt x="10433" y="16189"/>
                  <a:pt x="10067" y="16316"/>
                  <a:pt x="9897" y="16321"/>
                </a:cubicBezTo>
                <a:cubicBezTo>
                  <a:pt x="9840" y="16302"/>
                  <a:pt x="9815" y="16312"/>
                  <a:pt x="9823" y="16272"/>
                </a:cubicBezTo>
                <a:cubicBezTo>
                  <a:pt x="9885" y="16189"/>
                  <a:pt x="10112" y="16176"/>
                  <a:pt x="10220" y="16197"/>
                </a:cubicBezTo>
                <a:cubicBezTo>
                  <a:pt x="10281" y="16209"/>
                  <a:pt x="10332" y="16260"/>
                  <a:pt x="10393" y="16272"/>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3776760" y="5705640"/>
            <a:ext cx="171360" cy="144360"/>
          </a:xfrm>
          <a:custGeom>
            <a:avLst/>
            <a:gdLst/>
            <a:ahLst/>
            <a:rect l="l" t="t" r="r" b="b"/>
            <a:pathLst>
              <a:path w="473" h="398">
                <a:moveTo>
                  <a:pt x="10542" y="15850"/>
                </a:moveTo>
                <a:cubicBezTo>
                  <a:pt x="10669" y="15929"/>
                  <a:pt x="10760" y="15983"/>
                  <a:pt x="10840" y="16098"/>
                </a:cubicBezTo>
                <a:cubicBezTo>
                  <a:pt x="10722" y="16280"/>
                  <a:pt x="10670" y="16266"/>
                  <a:pt x="10492" y="16148"/>
                </a:cubicBezTo>
                <a:cubicBezTo>
                  <a:pt x="10573" y="16014"/>
                  <a:pt x="10661" y="16046"/>
                  <a:pt x="10815" y="16098"/>
                </a:cubicBezTo>
                <a:cubicBezTo>
                  <a:pt x="10877" y="16130"/>
                  <a:pt x="10909" y="16138"/>
                  <a:pt x="10964" y="16123"/>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3983040" y="5688000"/>
            <a:ext cx="115920" cy="187200"/>
          </a:xfrm>
          <a:custGeom>
            <a:avLst/>
            <a:gdLst/>
            <a:ahLst/>
            <a:rect l="l" t="t" r="r" b="b"/>
            <a:pathLst>
              <a:path w="323" h="521">
                <a:moveTo>
                  <a:pt x="11311" y="15801"/>
                </a:moveTo>
                <a:cubicBezTo>
                  <a:pt x="11164" y="15847"/>
                  <a:pt x="11139" y="15844"/>
                  <a:pt x="11063" y="15974"/>
                </a:cubicBezTo>
                <a:cubicBezTo>
                  <a:pt x="11180" y="16033"/>
                  <a:pt x="11243" y="16005"/>
                  <a:pt x="11336" y="15900"/>
                </a:cubicBezTo>
                <a:cubicBezTo>
                  <a:pt x="11347" y="16041"/>
                  <a:pt x="11374" y="16180"/>
                  <a:pt x="11385" y="16321"/>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3795840" y="5919840"/>
            <a:ext cx="115920" cy="152280"/>
          </a:xfrm>
          <a:custGeom>
            <a:avLst/>
            <a:gdLst/>
            <a:ahLst/>
            <a:rect l="l" t="t" r="r" b="b"/>
            <a:pathLst>
              <a:path w="323" h="422">
                <a:moveTo>
                  <a:pt x="10542" y="16446"/>
                </a:moveTo>
                <a:cubicBezTo>
                  <a:pt x="10565" y="16446"/>
                  <a:pt x="10897" y="16420"/>
                  <a:pt x="10790" y="16545"/>
                </a:cubicBezTo>
                <a:cubicBezTo>
                  <a:pt x="10712" y="16571"/>
                  <a:pt x="10685" y="16582"/>
                  <a:pt x="10641" y="16619"/>
                </a:cubicBezTo>
                <a:cubicBezTo>
                  <a:pt x="10702" y="16626"/>
                  <a:pt x="10990" y="16669"/>
                  <a:pt x="10840" y="16818"/>
                </a:cubicBezTo>
                <a:cubicBezTo>
                  <a:pt x="10694" y="16963"/>
                  <a:pt x="10607" y="16852"/>
                  <a:pt x="10616" y="16718"/>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4010040" y="5919840"/>
            <a:ext cx="133200" cy="189000"/>
          </a:xfrm>
          <a:custGeom>
            <a:avLst/>
            <a:gdLst/>
            <a:ahLst/>
            <a:rect l="l" t="t" r="r" b="b"/>
            <a:pathLst>
              <a:path w="373" h="521">
                <a:moveTo>
                  <a:pt x="11237" y="16446"/>
                </a:moveTo>
                <a:cubicBezTo>
                  <a:pt x="11156" y="16544"/>
                  <a:pt x="11128" y="16665"/>
                  <a:pt x="11137" y="16793"/>
                </a:cubicBezTo>
                <a:cubicBezTo>
                  <a:pt x="11153" y="17005"/>
                  <a:pt x="11362" y="16963"/>
                  <a:pt x="11460" y="16842"/>
                </a:cubicBezTo>
                <a:cubicBezTo>
                  <a:pt x="11496" y="16769"/>
                  <a:pt x="11513" y="16764"/>
                  <a:pt x="11509" y="16718"/>
                </a:cubicBezTo>
                <a:cubicBezTo>
                  <a:pt x="11496" y="16723"/>
                  <a:pt x="11135" y="16910"/>
                  <a:pt x="11286" y="16966"/>
                </a:cubicBezTo>
                <a:cubicBezTo>
                  <a:pt x="11303" y="16958"/>
                  <a:pt x="11319" y="16950"/>
                  <a:pt x="11336" y="16942"/>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3251160" y="6161040"/>
            <a:ext cx="1000080" cy="27000"/>
          </a:xfrm>
          <a:custGeom>
            <a:avLst/>
            <a:gdLst/>
            <a:ahLst/>
            <a:rect l="l" t="t" r="r" b="b"/>
            <a:pathLst>
              <a:path w="2779" h="76">
                <a:moveTo>
                  <a:pt x="9029" y="17165"/>
                </a:moveTo>
                <a:cubicBezTo>
                  <a:pt x="9311" y="17165"/>
                  <a:pt x="9671" y="17155"/>
                  <a:pt x="9971" y="17140"/>
                </a:cubicBezTo>
                <a:cubicBezTo>
                  <a:pt x="10544" y="17111"/>
                  <a:pt x="11111" y="17141"/>
                  <a:pt x="11683" y="17165"/>
                </a:cubicBezTo>
                <a:cubicBezTo>
                  <a:pt x="11761" y="17165"/>
                  <a:pt x="11779" y="17150"/>
                  <a:pt x="11807" y="17190"/>
                </a:cubicBezTo>
              </a:path>
            </a:pathLst>
          </a:custGeom>
          <a:noFill/>
          <a:ln cap="rnd" w="3492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03" name=""/>
          <p:cNvSpPr/>
          <p:nvPr/>
        </p:nvSpPr>
        <p:spPr>
          <a:xfrm>
            <a:off x="3276720" y="5965920"/>
            <a:ext cx="9360" cy="79200"/>
          </a:xfrm>
          <a:custGeom>
            <a:avLst/>
            <a:gdLst/>
            <a:ahLst/>
            <a:rect l="l" t="t" r="r" b="b"/>
            <a:pathLst>
              <a:path w="26" h="224">
                <a:moveTo>
                  <a:pt x="9128" y="16570"/>
                </a:moveTo>
                <a:cubicBezTo>
                  <a:pt x="9116" y="16639"/>
                  <a:pt x="9103" y="16696"/>
                  <a:pt x="9103" y="16768"/>
                </a:cubicBezTo>
                <a:cubicBezTo>
                  <a:pt x="9103" y="16776"/>
                  <a:pt x="9103" y="16785"/>
                  <a:pt x="9103" y="16793"/>
                </a:cubicBezTo>
              </a:path>
            </a:pathLst>
          </a:custGeom>
          <a:noFill/>
          <a:ln cap="rnd" w="3492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4" name=""/>
          <p:cNvSpPr/>
          <p:nvPr/>
        </p:nvSpPr>
        <p:spPr>
          <a:xfrm>
            <a:off x="3205080" y="6027840"/>
            <a:ext cx="162000" cy="9360"/>
          </a:xfrm>
          <a:custGeom>
            <a:avLst/>
            <a:gdLst/>
            <a:ahLst/>
            <a:rect l="l" t="t" r="r" b="b"/>
            <a:pathLst>
              <a:path w="447" h="26">
                <a:moveTo>
                  <a:pt x="8905" y="16743"/>
                </a:moveTo>
                <a:cubicBezTo>
                  <a:pt x="9008" y="16760"/>
                  <a:pt x="9119" y="16788"/>
                  <a:pt x="9227" y="16768"/>
                </a:cubicBezTo>
                <a:cubicBezTo>
                  <a:pt x="9291" y="16756"/>
                  <a:pt x="9284" y="16743"/>
                  <a:pt x="9351" y="16743"/>
                </a:cubicBezTo>
              </a:path>
            </a:pathLst>
          </a:custGeom>
          <a:noFill/>
          <a:ln cap="rnd" w="34920">
            <a:solidFill>
              <a:srgbClr val="ffffff"/>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05" name=""/>
          <p:cNvSpPr/>
          <p:nvPr/>
        </p:nvSpPr>
        <p:spPr>
          <a:xfrm>
            <a:off x="3268800" y="6072120"/>
            <a:ext cx="9360" cy="81000"/>
          </a:xfrm>
          <a:custGeom>
            <a:avLst/>
            <a:gdLst/>
            <a:ahLst/>
            <a:rect l="l" t="t" r="r" b="b"/>
            <a:pathLst>
              <a:path w="25" h="224">
                <a:moveTo>
                  <a:pt x="9103" y="16867"/>
                </a:moveTo>
                <a:cubicBezTo>
                  <a:pt x="9103" y="16937"/>
                  <a:pt x="9084" y="16997"/>
                  <a:pt x="9079" y="17066"/>
                </a:cubicBezTo>
                <a:cubicBezTo>
                  <a:pt x="9079" y="17074"/>
                  <a:pt x="9079" y="17082"/>
                  <a:pt x="9079" y="17090"/>
                </a:cubicBezTo>
              </a:path>
            </a:pathLst>
          </a:custGeom>
          <a:noFill/>
          <a:ln cap="rnd" w="34920">
            <a:solidFill>
              <a:srgbClr val="ffffff"/>
            </a:solidFill>
            <a:round/>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06" name=""/>
          <p:cNvSpPr/>
          <p:nvPr/>
        </p:nvSpPr>
        <p:spPr>
          <a:xfrm>
            <a:off x="4000680" y="6296040"/>
            <a:ext cx="142560" cy="160200"/>
          </a:xfrm>
          <a:custGeom>
            <a:avLst/>
            <a:gdLst/>
            <a:ahLst/>
            <a:rect l="l" t="t" r="r" b="b"/>
            <a:pathLst>
              <a:path w="398" h="448">
                <a:moveTo>
                  <a:pt x="11485" y="17512"/>
                </a:moveTo>
                <a:cubicBezTo>
                  <a:pt x="11455" y="17466"/>
                  <a:pt x="11331" y="17509"/>
                  <a:pt x="11261" y="17512"/>
                </a:cubicBezTo>
                <a:cubicBezTo>
                  <a:pt x="11195" y="17515"/>
                  <a:pt x="11183" y="17542"/>
                  <a:pt x="11137" y="17587"/>
                </a:cubicBezTo>
                <a:cubicBezTo>
                  <a:pt x="11104" y="17619"/>
                  <a:pt x="11112" y="17642"/>
                  <a:pt x="11112" y="17686"/>
                </a:cubicBezTo>
                <a:cubicBezTo>
                  <a:pt x="11158" y="17701"/>
                  <a:pt x="11162" y="17690"/>
                  <a:pt x="11237" y="17686"/>
                </a:cubicBezTo>
                <a:cubicBezTo>
                  <a:pt x="11305" y="17682"/>
                  <a:pt x="11350" y="17683"/>
                  <a:pt x="11410" y="17711"/>
                </a:cubicBezTo>
                <a:cubicBezTo>
                  <a:pt x="11440" y="17725"/>
                  <a:pt x="11513" y="17789"/>
                  <a:pt x="11509" y="17835"/>
                </a:cubicBezTo>
                <a:cubicBezTo>
                  <a:pt x="11505" y="17884"/>
                  <a:pt x="11429" y="17928"/>
                  <a:pt x="11385" y="17934"/>
                </a:cubicBezTo>
                <a:cubicBezTo>
                  <a:pt x="11329" y="17941"/>
                  <a:pt x="11227" y="17954"/>
                  <a:pt x="11212" y="17909"/>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3830760" y="5554800"/>
            <a:ext cx="9360" cy="88920"/>
          </a:xfrm>
          <a:custGeom>
            <a:avLst/>
            <a:gdLst/>
            <a:ahLst/>
            <a:rect l="l" t="t" r="r" b="b"/>
            <a:pathLst>
              <a:path w="26" h="249">
                <a:moveTo>
                  <a:pt x="10666" y="15453"/>
                </a:moveTo>
                <a:cubicBezTo>
                  <a:pt x="10658" y="15445"/>
                  <a:pt x="10649" y="15437"/>
                  <a:pt x="10641" y="15429"/>
                </a:cubicBezTo>
                <a:cubicBezTo>
                  <a:pt x="10641" y="15512"/>
                  <a:pt x="10641" y="15594"/>
                  <a:pt x="10641" y="15677"/>
                </a:cubicBezTo>
              </a:path>
            </a:pathLst>
          </a:custGeom>
          <a:noFill/>
          <a:ln cap="rnd" w="34920">
            <a:solidFill>
              <a:srgbClr val="ffffff"/>
            </a:solidFill>
            <a:roun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08" name=""/>
          <p:cNvSpPr/>
          <p:nvPr/>
        </p:nvSpPr>
        <p:spPr>
          <a:xfrm>
            <a:off x="3732120" y="6269040"/>
            <a:ext cx="152640" cy="169920"/>
          </a:xfrm>
          <a:custGeom>
            <a:avLst/>
            <a:gdLst/>
            <a:ahLst/>
            <a:rect l="l" t="t" r="r" b="b"/>
            <a:pathLst>
              <a:path w="423" h="472">
                <a:moveTo>
                  <a:pt x="10492" y="17438"/>
                </a:moveTo>
                <a:cubicBezTo>
                  <a:pt x="10474" y="17401"/>
                  <a:pt x="10437" y="17517"/>
                  <a:pt x="10418" y="17562"/>
                </a:cubicBezTo>
                <a:cubicBezTo>
                  <a:pt x="10392" y="17623"/>
                  <a:pt x="10331" y="17768"/>
                  <a:pt x="10368" y="17835"/>
                </a:cubicBezTo>
                <a:cubicBezTo>
                  <a:pt x="10400" y="17893"/>
                  <a:pt x="10538" y="17872"/>
                  <a:pt x="10592" y="17859"/>
                </a:cubicBezTo>
                <a:cubicBezTo>
                  <a:pt x="10670" y="17840"/>
                  <a:pt x="10736" y="17828"/>
                  <a:pt x="10765" y="17760"/>
                </a:cubicBezTo>
                <a:cubicBezTo>
                  <a:pt x="10786" y="17711"/>
                  <a:pt x="10790" y="17709"/>
                  <a:pt x="10790" y="17661"/>
                </a:cubicBezTo>
                <a:cubicBezTo>
                  <a:pt x="10701" y="17627"/>
                  <a:pt x="10687" y="17625"/>
                  <a:pt x="10641" y="17711"/>
                </a:cubicBezTo>
                <a:cubicBezTo>
                  <a:pt x="10616" y="17760"/>
                  <a:pt x="10608" y="17777"/>
                  <a:pt x="10641" y="17810"/>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3490920" y="6259680"/>
            <a:ext cx="135000" cy="241200"/>
          </a:xfrm>
          <a:custGeom>
            <a:avLst/>
            <a:gdLst/>
            <a:ahLst/>
            <a:rect l="l" t="t" r="r" b="b"/>
            <a:pathLst>
              <a:path w="373" h="671">
                <a:moveTo>
                  <a:pt x="9798" y="17562"/>
                </a:moveTo>
                <a:cubicBezTo>
                  <a:pt x="9773" y="17562"/>
                  <a:pt x="9765" y="17562"/>
                  <a:pt x="9773" y="17537"/>
                </a:cubicBezTo>
                <a:cubicBezTo>
                  <a:pt x="9774" y="17534"/>
                  <a:pt x="9794" y="17465"/>
                  <a:pt x="9798" y="17462"/>
                </a:cubicBezTo>
                <a:cubicBezTo>
                  <a:pt x="9835" y="17432"/>
                  <a:pt x="9817" y="17433"/>
                  <a:pt x="9872" y="17413"/>
                </a:cubicBezTo>
                <a:cubicBezTo>
                  <a:pt x="9889" y="17405"/>
                  <a:pt x="9905" y="17396"/>
                  <a:pt x="9922" y="17388"/>
                </a:cubicBezTo>
                <a:cubicBezTo>
                  <a:pt x="9952" y="17425"/>
                  <a:pt x="10014" y="17484"/>
                  <a:pt x="9996" y="17537"/>
                </a:cubicBezTo>
                <a:cubicBezTo>
                  <a:pt x="9988" y="17562"/>
                  <a:pt x="9945" y="17645"/>
                  <a:pt x="9922" y="17661"/>
                </a:cubicBezTo>
                <a:cubicBezTo>
                  <a:pt x="9875" y="17693"/>
                  <a:pt x="9846" y="17705"/>
                  <a:pt x="9823" y="17735"/>
                </a:cubicBezTo>
                <a:cubicBezTo>
                  <a:pt x="9785" y="17785"/>
                  <a:pt x="9716" y="17872"/>
                  <a:pt x="9699" y="17934"/>
                </a:cubicBezTo>
                <a:cubicBezTo>
                  <a:pt x="9694" y="17951"/>
                  <a:pt x="9678" y="18085"/>
                  <a:pt x="9699" y="18033"/>
                </a:cubicBezTo>
                <a:cubicBezTo>
                  <a:pt x="9714" y="17995"/>
                  <a:pt x="9778" y="17852"/>
                  <a:pt x="9847" y="17909"/>
                </a:cubicBezTo>
                <a:cubicBezTo>
                  <a:pt x="9890" y="17945"/>
                  <a:pt x="9856" y="18026"/>
                  <a:pt x="9947" y="18008"/>
                </a:cubicBezTo>
                <a:cubicBezTo>
                  <a:pt x="10009" y="17995"/>
                  <a:pt x="10048" y="17979"/>
                  <a:pt x="10071" y="1793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34">
                                  <p:stCondLst>
                                    <p:cond delay="0"/>
                                  </p:stCondLst>
                                  <p:childTnLst>
                                    <p:set>
                                      <p:cBhvr>
                                        <p:cTn id="112" dur="1" fill="hold">
                                          <p:stCondLst>
                                            <p:cond delay="0"/>
                                          </p:stCondLst>
                                        </p:cTn>
                                        <p:tgtEl>
                                          <p:spTgt spid="183"/>
                                        </p:tgtEl>
                                        <p:attrNameLst>
                                          <p:attrName>style.visibility</p:attrName>
                                        </p:attrNameLst>
                                      </p:cBhvr>
                                      <p:to>
                                        <p:strVal val="visible"/>
                                      </p:to>
                                    </p:set>
                                    <p:anim calcmode="lin" valueType="num" from="(-#ppt_w/2)" to="(#ppt_x)">
                                      <p:cBhvr additive="repl">
                                        <p:cTn id="113" dur="600" fill="hold">
                                          <p:stCondLst>
                                            <p:cond delay="0"/>
                                          </p:stCondLst>
                                        </p:cTn>
                                        <p:tgtEl>
                                          <p:spTgt spid="183"/>
                                        </p:tgtEl>
                                        <p:attrNameLst>
                                          <p:attrName>ppt_x</p:attrName>
                                        </p:attrNameLst>
                                      </p:cBhvr>
                                    </p:anim>
                                    <p:anim calcmode="lin" valueType="num" from="0" to="-1">
                                      <p:cBhvr additive="repl">
                                        <p:cTn id="114" dur="200" autoRev="1" fill="hold">
                                          <p:stCondLst>
                                            <p:cond delay="600"/>
                                          </p:stCondLst>
                                        </p:cTn>
                                        <p:tgtEl>
                                          <p:spTgt spid="183"/>
                                        </p:tgtEl>
                                        <p:attrNameLst>
                                          <p:attrName>xshear</p:attrName>
                                        </p:attrNameLst>
                                      </p:cBhvr>
                                    </p:anim>
                                    <p:animScale>
                                      <p:cBhvr>
                                        <p:cTn id="115" dur="200" autoRev="1" fill="hold">
                                          <p:stCondLst>
                                            <p:cond delay="600"/>
                                          </p:stCondLst>
                                        </p:cTn>
                                        <p:tgtEl>
                                          <p:spTgt spid="183"/>
                                        </p:tgtEl>
                                      </p:cBhvr>
                                      <p:from x="100000" y="100000"/>
                                      <p:to x="80000" y="100000"/>
                                    </p:animScale>
                                    <p:anim calcmode="lin" valueType="num" by="(#ppt_h/3+#ppt_w*0.1)">
                                      <p:cBhvr additive="sum">
                                        <p:cTn id="116" dur="200" autoRev="1" fill="hold">
                                          <p:stCondLst>
                                            <p:cond delay="600"/>
                                          </p:stCondLst>
                                        </p:cTn>
                                        <p:tgtEl>
                                          <p:spTgt spid="183"/>
                                        </p:tgtEl>
                                        <p:attrNameLst>
                                          <p:attrName>ppt_x</p:attrName>
                                        </p:attrNameLst>
                                      </p:cBhvr>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4">
                                  <p:stCondLst>
                                    <p:cond delay="0"/>
                                  </p:stCondLst>
                                  <p:childTnLst>
                                    <p:set>
                                      <p:cBhvr>
                                        <p:cTn id="120" dur="1" fill="hold">
                                          <p:stCondLst>
                                            <p:cond delay="0"/>
                                          </p:stCondLst>
                                        </p:cTn>
                                        <p:tgtEl>
                                          <p:spTgt spid="184">
                                            <p:txEl>
                                              <p:pRg st="0" end="0"/>
                                            </p:txEl>
                                          </p:spTgt>
                                        </p:tgtEl>
                                        <p:attrNameLst>
                                          <p:attrName>style.visibility</p:attrName>
                                        </p:attrNameLst>
                                      </p:cBhvr>
                                      <p:to>
                                        <p:strVal val="visible"/>
                                      </p:to>
                                    </p:set>
                                    <p:anim calcmode="lin" valueType="num" from="(-#ppt_w/2)" to="(#ppt_x)">
                                      <p:cBhvr additive="repl">
                                        <p:cTn id="121" dur="600" fill="hold">
                                          <p:stCondLst>
                                            <p:cond delay="0"/>
                                          </p:stCondLst>
                                        </p:cTn>
                                        <p:tgtEl>
                                          <p:spTgt spid="184">
                                            <p:txEl>
                                              <p:pRg st="0" end="0"/>
                                            </p:txEl>
                                          </p:spTgt>
                                        </p:tgtEl>
                                        <p:attrNameLst>
                                          <p:attrName>ppt_x</p:attrName>
                                        </p:attrNameLst>
                                      </p:cBhvr>
                                    </p:anim>
                                    <p:anim calcmode="lin" valueType="num" from="0" to="-1">
                                      <p:cBhvr additive="repl">
                                        <p:cTn id="122" dur="200" autoRev="1" fill="hold">
                                          <p:stCondLst>
                                            <p:cond delay="600"/>
                                          </p:stCondLst>
                                        </p:cTn>
                                        <p:tgtEl>
                                          <p:spTgt spid="184">
                                            <p:txEl>
                                              <p:pRg st="0" end="0"/>
                                            </p:txEl>
                                          </p:spTgt>
                                        </p:tgtEl>
                                        <p:attrNameLst>
                                          <p:attrName>xshear</p:attrName>
                                        </p:attrNameLst>
                                      </p:cBhvr>
                                    </p:anim>
                                    <p:animScale>
                                      <p:cBhvr>
                                        <p:cTn id="123" dur="200" autoRev="1" fill="hold">
                                          <p:stCondLst>
                                            <p:cond delay="600"/>
                                          </p:stCondLst>
                                        </p:cTn>
                                        <p:tgtEl>
                                          <p:spTgt spid="184">
                                            <p:txEl>
                                              <p:pRg st="0" end="0"/>
                                            </p:txEl>
                                          </p:spTgt>
                                        </p:tgtEl>
                                      </p:cBhvr>
                                      <p:from x="100000" y="100000"/>
                                      <p:to x="80000" y="100000"/>
                                    </p:animScale>
                                    <p:anim calcmode="lin" valueType="num" by="(#ppt_h/3+#ppt_w*0.1)">
                                      <p:cBhvr additive="sum">
                                        <p:cTn id="124" dur="200" autoRev="1" fill="hold">
                                          <p:stCondLst>
                                            <p:cond delay="600"/>
                                          </p:stCondLst>
                                        </p:cTn>
                                        <p:tgtEl>
                                          <p:spTgt spid="184">
                                            <p:txEl>
                                              <p:pRg st="0" end="0"/>
                                            </p:txEl>
                                          </p:spTgt>
                                        </p:tgtEl>
                                        <p:attrNameLst>
                                          <p:attrName>ppt_x</p:attrName>
                                        </p:attrNameLst>
                                      </p:cBhvr>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4">
                                  <p:stCondLst>
                                    <p:cond delay="0"/>
                                  </p:stCondLst>
                                  <p:childTnLst>
                                    <p:set>
                                      <p:cBhvr>
                                        <p:cTn id="128" dur="1" fill="hold">
                                          <p:stCondLst>
                                            <p:cond delay="0"/>
                                          </p:stCondLst>
                                        </p:cTn>
                                        <p:tgtEl>
                                          <p:spTgt spid="184">
                                            <p:txEl>
                                              <p:pRg st="2" end="2"/>
                                            </p:txEl>
                                          </p:spTgt>
                                        </p:tgtEl>
                                        <p:attrNameLst>
                                          <p:attrName>style.visibility</p:attrName>
                                        </p:attrNameLst>
                                      </p:cBhvr>
                                      <p:to>
                                        <p:strVal val="visible"/>
                                      </p:to>
                                    </p:set>
                                    <p:anim calcmode="lin" valueType="num" from="(-#ppt_w/2)" to="(#ppt_x)">
                                      <p:cBhvr additive="repl">
                                        <p:cTn id="129" dur="600" fill="hold">
                                          <p:stCondLst>
                                            <p:cond delay="0"/>
                                          </p:stCondLst>
                                        </p:cTn>
                                        <p:tgtEl>
                                          <p:spTgt spid="184">
                                            <p:txEl>
                                              <p:pRg st="2" end="2"/>
                                            </p:txEl>
                                          </p:spTgt>
                                        </p:tgtEl>
                                        <p:attrNameLst>
                                          <p:attrName>ppt_x</p:attrName>
                                        </p:attrNameLst>
                                      </p:cBhvr>
                                    </p:anim>
                                    <p:anim calcmode="lin" valueType="num" from="0" to="-1">
                                      <p:cBhvr additive="repl">
                                        <p:cTn id="130" dur="200" autoRev="1" fill="hold">
                                          <p:stCondLst>
                                            <p:cond delay="600"/>
                                          </p:stCondLst>
                                        </p:cTn>
                                        <p:tgtEl>
                                          <p:spTgt spid="184">
                                            <p:txEl>
                                              <p:pRg st="2" end="2"/>
                                            </p:txEl>
                                          </p:spTgt>
                                        </p:tgtEl>
                                        <p:attrNameLst>
                                          <p:attrName>xshear</p:attrName>
                                        </p:attrNameLst>
                                      </p:cBhvr>
                                    </p:anim>
                                    <p:animScale>
                                      <p:cBhvr>
                                        <p:cTn id="131" dur="200" autoRev="1" fill="hold">
                                          <p:stCondLst>
                                            <p:cond delay="600"/>
                                          </p:stCondLst>
                                        </p:cTn>
                                        <p:tgtEl>
                                          <p:spTgt spid="184">
                                            <p:txEl>
                                              <p:pRg st="2" end="2"/>
                                            </p:txEl>
                                          </p:spTgt>
                                        </p:tgtEl>
                                      </p:cBhvr>
                                      <p:from x="100000" y="100000"/>
                                      <p:to x="80000" y="100000"/>
                                    </p:animScale>
                                    <p:anim calcmode="lin" valueType="num" by="(#ppt_h/3+#ppt_w*0.1)">
                                      <p:cBhvr additive="sum">
                                        <p:cTn id="132" dur="200" autoRev="1" fill="hold">
                                          <p:stCondLst>
                                            <p:cond delay="600"/>
                                          </p:stCondLst>
                                        </p:cTn>
                                        <p:tgtEl>
                                          <p:spTgt spid="184">
                                            <p:txEl>
                                              <p:pRg st="2" end="2"/>
                                            </p:txEl>
                                          </p:spTgt>
                                        </p:tgtEl>
                                        <p:attrNameLst>
                                          <p:attrName>ppt_x</p:attrName>
                                        </p:attrNameLst>
                                      </p:cBhvr>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4">
                                  <p:stCondLst>
                                    <p:cond delay="0"/>
                                  </p:stCondLst>
                                  <p:childTnLst>
                                    <p:set>
                                      <p:cBhvr>
                                        <p:cTn id="136" dur="1" fill="hold">
                                          <p:stCondLst>
                                            <p:cond delay="0"/>
                                          </p:stCondLst>
                                        </p:cTn>
                                        <p:tgtEl>
                                          <p:spTgt spid="184">
                                            <p:txEl>
                                              <p:pRg st="4" end="4"/>
                                            </p:txEl>
                                          </p:spTgt>
                                        </p:tgtEl>
                                        <p:attrNameLst>
                                          <p:attrName>style.visibility</p:attrName>
                                        </p:attrNameLst>
                                      </p:cBhvr>
                                      <p:to>
                                        <p:strVal val="visible"/>
                                      </p:to>
                                    </p:set>
                                    <p:anim calcmode="lin" valueType="num" from="(-#ppt_w/2)" to="(#ppt_x)">
                                      <p:cBhvr additive="repl">
                                        <p:cTn id="137" dur="600" fill="hold">
                                          <p:stCondLst>
                                            <p:cond delay="0"/>
                                          </p:stCondLst>
                                        </p:cTn>
                                        <p:tgtEl>
                                          <p:spTgt spid="184">
                                            <p:txEl>
                                              <p:pRg st="4" end="4"/>
                                            </p:txEl>
                                          </p:spTgt>
                                        </p:tgtEl>
                                        <p:attrNameLst>
                                          <p:attrName>ppt_x</p:attrName>
                                        </p:attrNameLst>
                                      </p:cBhvr>
                                    </p:anim>
                                    <p:anim calcmode="lin" valueType="num" from="0" to="-1">
                                      <p:cBhvr additive="repl">
                                        <p:cTn id="138" dur="200" autoRev="1" fill="hold">
                                          <p:stCondLst>
                                            <p:cond delay="600"/>
                                          </p:stCondLst>
                                        </p:cTn>
                                        <p:tgtEl>
                                          <p:spTgt spid="184">
                                            <p:txEl>
                                              <p:pRg st="4" end="4"/>
                                            </p:txEl>
                                          </p:spTgt>
                                        </p:tgtEl>
                                        <p:attrNameLst>
                                          <p:attrName>xshear</p:attrName>
                                        </p:attrNameLst>
                                      </p:cBhvr>
                                    </p:anim>
                                    <p:animScale>
                                      <p:cBhvr>
                                        <p:cTn id="139" dur="200" autoRev="1" fill="hold">
                                          <p:stCondLst>
                                            <p:cond delay="600"/>
                                          </p:stCondLst>
                                        </p:cTn>
                                        <p:tgtEl>
                                          <p:spTgt spid="184">
                                            <p:txEl>
                                              <p:pRg st="4" end="4"/>
                                            </p:txEl>
                                          </p:spTgt>
                                        </p:tgtEl>
                                      </p:cBhvr>
                                      <p:from x="100000" y="100000"/>
                                      <p:to x="80000" y="100000"/>
                                    </p:animScale>
                                    <p:anim calcmode="lin" valueType="num" by="(#ppt_h/3+#ppt_w*0.1)">
                                      <p:cBhvr additive="sum">
                                        <p:cTn id="140" dur="200" autoRev="1" fill="hold">
                                          <p:stCondLst>
                                            <p:cond delay="600"/>
                                          </p:stCondLst>
                                        </p:cTn>
                                        <p:tgtEl>
                                          <p:spTgt spid="184">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Practice</a:t>
            </a:r>
            <a:endParaRPr b="0" lang="en-US" sz="4400" spc="-1" strike="noStrike">
              <a:solidFill>
                <a:srgbClr val="b3ed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she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6T00:56:50Z</dcterms:created>
  <dc:creator>TAMMY  COON</dc:creator>
  <dc:description/>
  <dc:language>en-US</dc:language>
  <cp:lastModifiedBy>demcgra</cp:lastModifiedBy>
  <dcterms:modified xsi:type="dcterms:W3CDTF">2012-03-12T13:37:32Z</dcterms:modified>
  <cp:revision>9</cp:revision>
  <dc:subject/>
  <dc:title>Unit 8: Statistics and Probability</dc:title>
</cp:coreProperties>
</file>